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0FE-FF98-43A3-AE71-2CCE0822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E6F5-481A-4E4B-AC4F-872278556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607080" cy="8080200"/>
            <a:chOff x="54000" y="54000"/>
            <a:chExt cx="6607080" cy="808020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6607080" cy="6715080"/>
              <a:chOff x="54000" y="54000"/>
              <a:chExt cx="6607080" cy="671508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5049720" cy="5113440"/>
                <a:chOff x="61920" y="1547640"/>
                <a:chExt cx="5049720" cy="5113440"/>
              </a:xfrm>
            </p:grpSpPr>
            <p:sp>
              <p:nvSpPr>
                <p:cNvPr id="69" name="Rectangle 50"/>
                <p:cNvSpPr/>
                <p:nvPr/>
              </p:nvSpPr>
              <p:spPr>
                <a:xfrm>
                  <a:off x="1547640" y="1547640"/>
                  <a:ext cx="356400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5157720" cy="5454720"/>
                <a:chOff x="61920" y="1314360"/>
                <a:chExt cx="5157720" cy="5454720"/>
              </a:xfrm>
            </p:grpSpPr>
            <p:sp>
              <p:nvSpPr>
                <p:cNvPr id="77" name="Rectangle 58"/>
                <p:cNvSpPr/>
                <p:nvPr/>
              </p:nvSpPr>
              <p:spPr>
                <a:xfrm>
                  <a:off x="1440000" y="1440000"/>
                  <a:ext cx="377964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65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439640" y="727236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18Z</dcterms:modified>
  <cp:revision>19</cp:revision>
  <dc:subject/>
  <dc:title>スライド 1</dc:title>
</cp:coreProperties>
</file>