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8207375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316160" y="685440"/>
            <a:ext cx="4225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9B65-7B71-4CF3-8964-BCBE1158E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896D-AA5D-48B0-938E-BFFB3CA2F7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16160" y="685800"/>
            <a:ext cx="422568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90772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05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10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90772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05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10400" y="265680"/>
            <a:ext cx="73868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90772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405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0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90772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405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10400" y="265680"/>
            <a:ext cx="73868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6049800" cy="4502160"/>
            <a:chOff x="1079640" y="1079640"/>
            <a:chExt cx="6049800" cy="450216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33307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521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5326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4102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67644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68724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5542200" cy="399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92"/>
          <p:cNvSpPr/>
          <p:nvPr/>
        </p:nvSpPr>
        <p:spPr>
          <a:xfrm>
            <a:off x="6942240" y="101916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93"/>
          <p:cNvSpPr/>
          <p:nvPr/>
        </p:nvSpPr>
        <p:spPr>
          <a:xfrm>
            <a:off x="6940440" y="5367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8"/>
          <p:cNvGrpSpPr/>
          <p:nvPr/>
        </p:nvGrpSpPr>
        <p:grpSpPr>
          <a:xfrm>
            <a:off x="1079640" y="1079640"/>
            <a:ext cx="6049800" cy="4502160"/>
            <a:chOff x="1079640" y="1079640"/>
            <a:chExt cx="6049800" cy="4502160"/>
          </a:xfrm>
        </p:grpSpPr>
        <p:sp>
          <p:nvSpPr>
            <p:cNvPr id="52" name="Line 24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5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6"/>
            <p:cNvSpPr/>
            <p:nvPr/>
          </p:nvSpPr>
          <p:spPr>
            <a:xfrm>
              <a:off x="1079640" y="33307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7"/>
            <p:cNvSpPr/>
            <p:nvPr/>
          </p:nvSpPr>
          <p:spPr>
            <a:xfrm>
              <a:off x="1079640" y="521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1079640" y="5326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"/>
            <p:cNvSpPr/>
            <p:nvPr/>
          </p:nvSpPr>
          <p:spPr>
            <a:xfrm>
              <a:off x="133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0"/>
            <p:cNvSpPr/>
            <p:nvPr/>
          </p:nvSpPr>
          <p:spPr>
            <a:xfrm>
              <a:off x="1438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4102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67644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68724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>
              <a:off x="1330200" y="1330200"/>
              <a:ext cx="5542200" cy="399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92"/>
          <p:cNvSpPr/>
          <p:nvPr/>
        </p:nvSpPr>
        <p:spPr>
          <a:xfrm>
            <a:off x="6942240" y="101916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93"/>
          <p:cNvSpPr/>
          <p:nvPr/>
        </p:nvSpPr>
        <p:spPr>
          <a:xfrm>
            <a:off x="6940440" y="5367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8155080" cy="5165640"/>
            <a:chOff x="54000" y="54000"/>
            <a:chExt cx="8155080" cy="5165640"/>
          </a:xfrm>
        </p:grpSpPr>
        <p:grpSp>
          <p:nvGrpSpPr>
            <p:cNvPr id="67" name="Group 47"/>
            <p:cNvGrpSpPr/>
            <p:nvPr/>
          </p:nvGrpSpPr>
          <p:grpSpPr>
            <a:xfrm>
              <a:off x="54000" y="54000"/>
              <a:ext cx="8155080" cy="5165640"/>
              <a:chOff x="54000" y="54000"/>
              <a:chExt cx="8155080" cy="5165640"/>
            </a:xfrm>
          </p:grpSpPr>
          <p:grpSp>
            <p:nvGrpSpPr>
              <p:cNvPr id="68" name="Group 89"/>
              <p:cNvGrpSpPr/>
              <p:nvPr/>
            </p:nvGrpSpPr>
            <p:grpSpPr>
              <a:xfrm>
                <a:off x="61920" y="1547640"/>
                <a:ext cx="6599160" cy="3564000"/>
                <a:chOff x="61920" y="1547640"/>
                <a:chExt cx="6599160" cy="3564000"/>
              </a:xfrm>
            </p:grpSpPr>
            <p:sp>
              <p:nvSpPr>
                <p:cNvPr id="69" name="Rectangle 48"/>
                <p:cNvSpPr/>
                <p:nvPr/>
              </p:nvSpPr>
              <p:spPr>
                <a:xfrm>
                  <a:off x="1547640" y="1547640"/>
                  <a:ext cx="5113440" cy="356400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" name="Group 77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1" name="Line 78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Text Box 79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" name="Group 80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4" name="Line 81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 Box 82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Group 90"/>
              <p:cNvGrpSpPr/>
              <p:nvPr/>
            </p:nvGrpSpPr>
            <p:grpSpPr>
              <a:xfrm>
                <a:off x="61920" y="1314360"/>
                <a:ext cx="6707160" cy="3905280"/>
                <a:chOff x="61920" y="1314360"/>
                <a:chExt cx="6707160" cy="3905280"/>
              </a:xfrm>
            </p:grpSpPr>
            <p:sp>
              <p:nvSpPr>
                <p:cNvPr id="77" name="Rectangle 56"/>
                <p:cNvSpPr/>
                <p:nvPr/>
              </p:nvSpPr>
              <p:spPr>
                <a:xfrm>
                  <a:off x="1440000" y="1440000"/>
                  <a:ext cx="5329080" cy="377964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85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9" name="Line 86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Text Box 87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1" name="Picture 88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7201080" y="1459080"/>
                <a:ext cx="1008000" cy="2779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" name="Group 43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6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横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48×105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46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4" descr="">
              <a:hlinkClick r:id="rId4"/>
            </p:cNvPr>
            <p:cNvPicPr/>
            <p:nvPr/>
          </p:nvPicPr>
          <p:blipFill>
            <a:blip r:embed="rId5"/>
            <a:srcRect l="0" t="0" r="40409" b="0"/>
            <a:stretch/>
          </p:blipFill>
          <p:spPr>
            <a:xfrm>
              <a:off x="5256720" y="54000"/>
              <a:ext cx="2368440" cy="89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667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12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127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911240" indent="-2109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911240" indent="-2109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911240" indent="-2109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2:42:56Z</dcterms:modified>
  <cp:revision>18</cp:revision>
  <dc:subject/>
  <dc:title>スライド 1</dc:title>
</cp:coreProperties>
</file>