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10547350" cy="92154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7400" y="49482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539172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73716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94656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40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73716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94656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527400" y="2156400"/>
            <a:ext cx="94928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94928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527400" y="367560"/>
            <a:ext cx="9492840" cy="71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27400" y="2156400"/>
            <a:ext cx="94928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39172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527400" y="49482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539172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73716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946560" y="21564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52740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73716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946560" y="4948200"/>
            <a:ext cx="305640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94928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527400" y="367560"/>
            <a:ext cx="9492840" cy="713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91720" y="49482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2740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391720" y="2156400"/>
            <a:ext cx="463248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27400" y="4948200"/>
            <a:ext cx="9492840" cy="254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12"/>
          <p:cNvSpPr/>
          <p:nvPr/>
        </p:nvSpPr>
        <p:spPr>
          <a:xfrm>
            <a:off x="1295280" y="1368360"/>
            <a:ext cx="19080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AutoShape 5"/>
          <p:cNvSpPr/>
          <p:nvPr/>
        </p:nvSpPr>
        <p:spPr>
          <a:xfrm>
            <a:off x="1440000" y="1440000"/>
            <a:ext cx="76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" name="グループ化 2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3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コンパクト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95×280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92×151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293×256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" name="グループ化 24"/>
            <p:cNvGrpSpPr/>
            <p:nvPr/>
          </p:nvGrpSpPr>
          <p:grpSpPr>
            <a:xfrm>
              <a:off x="61200" y="753840"/>
              <a:ext cx="460080" cy="262800"/>
              <a:chOff x="61200" y="753840"/>
              <a:chExt cx="460080" cy="262800"/>
            </a:xfrm>
          </p:grpSpPr>
          <p:sp>
            <p:nvSpPr>
              <p:cNvPr id="6" name="Freeform 8"/>
              <p:cNvSpPr/>
              <p:nvPr/>
            </p:nvSpPr>
            <p:spPr>
              <a:xfrm>
                <a:off x="61200" y="903960"/>
                <a:ext cx="168480" cy="83880"/>
              </a:xfrm>
              <a:custGeom>
                <a:avLst/>
                <a:gdLst/>
                <a:ahLst/>
                <a:rect l="l" t="t" r="r" b="b"/>
                <a:pathLst>
                  <a:path w="112" h="56">
                    <a:moveTo>
                      <a:pt x="29" y="0"/>
                    </a:moveTo>
                    <a:cubicBezTo>
                      <a:pt x="23" y="1"/>
                      <a:pt x="20" y="3"/>
                      <a:pt x="18" y="7"/>
                    </a:cubicBezTo>
                    <a:cubicBezTo>
                      <a:pt x="16" y="10"/>
                      <a:pt x="15" y="13"/>
                      <a:pt x="14" y="15"/>
                    </a:cubicBezTo>
                    <a:cubicBezTo>
                      <a:pt x="14" y="20"/>
                      <a:pt x="15" y="22"/>
                      <a:pt x="18" y="25"/>
                    </a:cubicBezTo>
                    <a:cubicBezTo>
                      <a:pt x="21" y="27"/>
                      <a:pt x="25" y="31"/>
                      <a:pt x="29" y="34"/>
                    </a:cubicBezTo>
                    <a:cubicBezTo>
                      <a:pt x="30" y="35"/>
                      <a:pt x="31" y="37"/>
                      <a:pt x="30" y="39"/>
                    </a:cubicBezTo>
                    <a:cubicBezTo>
                      <a:pt x="29" y="41"/>
                      <a:pt x="29" y="43"/>
                      <a:pt x="28" y="44"/>
                    </a:cubicBezTo>
                    <a:cubicBezTo>
                      <a:pt x="27" y="46"/>
                      <a:pt x="24" y="47"/>
                      <a:pt x="18" y="47"/>
                    </a:cubicBezTo>
                    <a:cubicBezTo>
                      <a:pt x="17" y="47"/>
                      <a:pt x="13" y="47"/>
                      <a:pt x="9" y="47"/>
                    </a:cubicBezTo>
                    <a:cubicBezTo>
                      <a:pt x="7" y="47"/>
                      <a:pt x="5" y="46"/>
                      <a:pt x="4" y="44"/>
                    </a:cubicBezTo>
                    <a:cubicBezTo>
                      <a:pt x="3" y="46"/>
                      <a:pt x="1" y="50"/>
                      <a:pt x="1" y="52"/>
                    </a:cubicBezTo>
                    <a:cubicBezTo>
                      <a:pt x="0" y="53"/>
                      <a:pt x="1" y="54"/>
                      <a:pt x="2" y="55"/>
                    </a:cubicBezTo>
                    <a:cubicBezTo>
                      <a:pt x="3" y="56"/>
                      <a:pt x="5" y="56"/>
                      <a:pt x="7" y="56"/>
                    </a:cubicBezTo>
                    <a:cubicBezTo>
                      <a:pt x="8" y="56"/>
                      <a:pt x="11" y="56"/>
                      <a:pt x="11" y="56"/>
                    </a:cubicBezTo>
                    <a:cubicBezTo>
                      <a:pt x="18" y="56"/>
                      <a:pt x="27" y="56"/>
                      <a:pt x="30" y="56"/>
                    </a:cubicBezTo>
                    <a:cubicBezTo>
                      <a:pt x="32" y="56"/>
                      <a:pt x="34" y="56"/>
                      <a:pt x="36" y="56"/>
                    </a:cubicBezTo>
                    <a:cubicBezTo>
                      <a:pt x="40" y="56"/>
                      <a:pt x="43" y="54"/>
                      <a:pt x="45" y="51"/>
                    </a:cubicBezTo>
                    <a:cubicBezTo>
                      <a:pt x="47" y="47"/>
                      <a:pt x="49" y="39"/>
                      <a:pt x="50" y="38"/>
                    </a:cubicBezTo>
                    <a:cubicBezTo>
                      <a:pt x="51" y="33"/>
                      <a:pt x="50" y="29"/>
                      <a:pt x="46" y="25"/>
                    </a:cubicBezTo>
                    <a:cubicBezTo>
                      <a:pt x="43" y="22"/>
                      <a:pt x="39" y="19"/>
                      <a:pt x="37" y="17"/>
                    </a:cubicBezTo>
                    <a:cubicBezTo>
                      <a:pt x="36" y="16"/>
                      <a:pt x="35" y="15"/>
                      <a:pt x="36" y="14"/>
                    </a:cubicBezTo>
                    <a:cubicBezTo>
                      <a:pt x="36" y="13"/>
                      <a:pt x="36" y="12"/>
                      <a:pt x="37" y="11"/>
                    </a:cubicBezTo>
                    <a:cubicBezTo>
                      <a:pt x="38" y="10"/>
                      <a:pt x="39" y="10"/>
                      <a:pt x="41" y="10"/>
                    </a:cubicBezTo>
                    <a:cubicBezTo>
                      <a:pt x="44" y="10"/>
                      <a:pt x="99" y="10"/>
                      <a:pt x="103" y="10"/>
                    </a:cubicBezTo>
                    <a:cubicBezTo>
                      <a:pt x="105" y="10"/>
                      <a:pt x="107" y="9"/>
                      <a:pt x="108" y="8"/>
                    </a:cubicBezTo>
                    <a:cubicBezTo>
                      <a:pt x="110" y="7"/>
                      <a:pt x="112" y="2"/>
                      <a:pt x="112" y="0"/>
                    </a:cubicBezTo>
                    <a:cubicBezTo>
                      <a:pt x="107" y="0"/>
                      <a:pt x="44" y="0"/>
                      <a:pt x="34" y="0"/>
                    </a:cubicBezTo>
                    <a:cubicBezTo>
                      <a:pt x="32" y="0"/>
                      <a:pt x="30" y="0"/>
                      <a:pt x="2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367920" y="903960"/>
                <a:ext cx="31680" cy="1512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6" y="0"/>
                      <a:pt x="3" y="1"/>
                      <a:pt x="2" y="4"/>
                    </a:cubicBezTo>
                    <a:cubicBezTo>
                      <a:pt x="1" y="6"/>
                      <a:pt x="0" y="9"/>
                      <a:pt x="0" y="10"/>
                    </a:cubicBezTo>
                    <a:cubicBezTo>
                      <a:pt x="0" y="10"/>
                      <a:pt x="2" y="10"/>
                      <a:pt x="5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5" y="10"/>
                      <a:pt x="18" y="9"/>
                      <a:pt x="19" y="6"/>
                    </a:cubicBezTo>
                    <a:cubicBezTo>
                      <a:pt x="20" y="3"/>
                      <a:pt x="21" y="1"/>
                      <a:pt x="21" y="0"/>
                    </a:cubicBezTo>
                    <a:cubicBezTo>
                      <a:pt x="21" y="0"/>
                      <a:pt x="12" y="0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139320" y="926280"/>
                <a:ext cx="84600" cy="6156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5" y="6"/>
                    </a:moveTo>
                    <a:cubicBezTo>
                      <a:pt x="56" y="2"/>
                      <a:pt x="55" y="0"/>
                      <a:pt x="52" y="0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40" y="1"/>
                      <a:pt x="40" y="3"/>
                      <a:pt x="39" y="6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26" y="33"/>
                      <a:pt x="22" y="33"/>
                      <a:pt x="21" y="33"/>
                    </a:cubicBezTo>
                    <a:cubicBezTo>
                      <a:pt x="19" y="33"/>
                      <a:pt x="18" y="32"/>
                      <a:pt x="18" y="30"/>
                    </a:cubicBezTo>
                    <a:cubicBezTo>
                      <a:pt x="19" y="28"/>
                      <a:pt x="26" y="7"/>
                      <a:pt x="26" y="6"/>
                    </a:cubicBezTo>
                    <a:cubicBezTo>
                      <a:pt x="27" y="2"/>
                      <a:pt x="26" y="0"/>
                      <a:pt x="24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1"/>
                      <a:pt x="11" y="3"/>
                      <a:pt x="10" y="6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0" y="37"/>
                      <a:pt x="2" y="41"/>
                      <a:pt x="12" y="41"/>
                    </a:cubicBezTo>
                    <a:cubicBezTo>
                      <a:pt x="21" y="41"/>
                      <a:pt x="45" y="41"/>
                      <a:pt x="45" y="41"/>
                    </a:cubicBezTo>
                    <a:cubicBezTo>
                      <a:pt x="44" y="40"/>
                      <a:pt x="44" y="38"/>
                      <a:pt x="45" y="35"/>
                    </a:cubicBezTo>
                    <a:cubicBezTo>
                      <a:pt x="45" y="35"/>
                      <a:pt x="54" y="7"/>
                      <a:pt x="5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208800" y="926280"/>
                <a:ext cx="91440" cy="90360"/>
              </a:xfrm>
              <a:custGeom>
                <a:avLst/>
                <a:gdLst/>
                <a:ahLst/>
                <a:rect l="l" t="t" r="r" b="b"/>
                <a:pathLst>
                  <a:path w="61" h="60">
                    <a:moveTo>
                      <a:pt x="49" y="0"/>
                    </a:moveTo>
                    <a:cubicBezTo>
                      <a:pt x="46" y="0"/>
                      <a:pt x="40" y="0"/>
                      <a:pt x="35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8" y="1"/>
                      <a:pt x="18" y="3"/>
                      <a:pt x="17" y="6"/>
                    </a:cubicBezTo>
                    <a:cubicBezTo>
                      <a:pt x="17" y="6"/>
                      <a:pt x="2" y="52"/>
                      <a:pt x="1" y="54"/>
                    </a:cubicBezTo>
                    <a:cubicBezTo>
                      <a:pt x="0" y="58"/>
                      <a:pt x="1" y="60"/>
                      <a:pt x="4" y="60"/>
                    </a:cubicBezTo>
                    <a:cubicBezTo>
                      <a:pt x="5" y="60"/>
                      <a:pt x="5" y="60"/>
                      <a:pt x="5" y="60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7" y="60"/>
                      <a:pt x="17" y="60"/>
                      <a:pt x="17" y="60"/>
                    </a:cubicBezTo>
                    <a:cubicBezTo>
                      <a:pt x="16" y="59"/>
                      <a:pt x="16" y="57"/>
                      <a:pt x="17" y="54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5" y="7"/>
                      <a:pt x="38" y="7"/>
                      <a:pt x="39" y="7"/>
                    </a:cubicBezTo>
                    <a:cubicBezTo>
                      <a:pt x="42" y="7"/>
                      <a:pt x="43" y="9"/>
                      <a:pt x="42" y="11"/>
                    </a:cubicBezTo>
                    <a:cubicBezTo>
                      <a:pt x="42" y="13"/>
                      <a:pt x="37" y="27"/>
                      <a:pt x="37" y="28"/>
                    </a:cubicBezTo>
                    <a:cubicBezTo>
                      <a:pt x="36" y="32"/>
                      <a:pt x="34" y="33"/>
                      <a:pt x="31" y="33"/>
                    </a:cubicBezTo>
                    <a:cubicBezTo>
                      <a:pt x="31" y="33"/>
                      <a:pt x="31" y="33"/>
                      <a:pt x="31" y="33"/>
                    </a:cubicBezTo>
                    <a:cubicBezTo>
                      <a:pt x="29" y="33"/>
                      <a:pt x="28" y="34"/>
                      <a:pt x="27" y="35"/>
                    </a:cubicBezTo>
                    <a:cubicBezTo>
                      <a:pt x="26" y="36"/>
                      <a:pt x="25" y="38"/>
                      <a:pt x="24" y="41"/>
                    </a:cubicBezTo>
                    <a:cubicBezTo>
                      <a:pt x="26" y="41"/>
                      <a:pt x="33" y="41"/>
                      <a:pt x="35" y="41"/>
                    </a:cubicBezTo>
                    <a:cubicBezTo>
                      <a:pt x="45" y="41"/>
                      <a:pt x="49" y="40"/>
                      <a:pt x="52" y="32"/>
                    </a:cubicBezTo>
                    <a:cubicBezTo>
                      <a:pt x="52" y="30"/>
                      <a:pt x="58" y="13"/>
                      <a:pt x="58" y="13"/>
                    </a:cubicBezTo>
                    <a:cubicBezTo>
                      <a:pt x="61" y="4"/>
                      <a:pt x="59" y="0"/>
                      <a:pt x="4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292680" y="926280"/>
                <a:ext cx="68040" cy="615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27" y="0"/>
                    </a:moveTo>
                    <a:cubicBezTo>
                      <a:pt x="27" y="0"/>
                      <a:pt x="26" y="0"/>
                      <a:pt x="23" y="0"/>
                    </a:cubicBezTo>
                    <a:cubicBezTo>
                      <a:pt x="22" y="0"/>
                      <a:pt x="21" y="0"/>
                      <a:pt x="21" y="0"/>
                    </a:cubicBezTo>
                    <a:cubicBezTo>
                      <a:pt x="16" y="0"/>
                      <a:pt x="12" y="1"/>
                      <a:pt x="10" y="7"/>
                    </a:cubicBezTo>
                    <a:cubicBezTo>
                      <a:pt x="10" y="7"/>
                      <a:pt x="1" y="34"/>
                      <a:pt x="1" y="35"/>
                    </a:cubicBezTo>
                    <a:cubicBezTo>
                      <a:pt x="0" y="38"/>
                      <a:pt x="1" y="41"/>
                      <a:pt x="3" y="41"/>
                    </a:cubicBezTo>
                    <a:cubicBezTo>
                      <a:pt x="4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7" y="41"/>
                      <a:pt x="17" y="41"/>
                      <a:pt x="17" y="41"/>
                    </a:cubicBezTo>
                    <a:cubicBezTo>
                      <a:pt x="16" y="40"/>
                      <a:pt x="16" y="38"/>
                      <a:pt x="17" y="35"/>
                    </a:cubicBezTo>
                    <a:cubicBezTo>
                      <a:pt x="17" y="35"/>
                      <a:pt x="24" y="14"/>
                      <a:pt x="25" y="10"/>
                    </a:cubicBezTo>
                    <a:cubicBezTo>
                      <a:pt x="26" y="8"/>
                      <a:pt x="27" y="7"/>
                      <a:pt x="29" y="7"/>
                    </a:cubicBezTo>
                    <a:cubicBezTo>
                      <a:pt x="31" y="7"/>
                      <a:pt x="33" y="7"/>
                      <a:pt x="37" y="7"/>
                    </a:cubicBezTo>
                    <a:cubicBezTo>
                      <a:pt x="40" y="7"/>
                      <a:pt x="41" y="7"/>
                      <a:pt x="42" y="6"/>
                    </a:cubicBezTo>
                    <a:cubicBezTo>
                      <a:pt x="43" y="4"/>
                      <a:pt x="45" y="1"/>
                      <a:pt x="45" y="0"/>
                    </a:cubicBezTo>
                    <a:cubicBezTo>
                      <a:pt x="44" y="0"/>
                      <a:pt x="27" y="0"/>
                      <a:pt x="27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50280" y="926280"/>
                <a:ext cx="41760" cy="6156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1" y="35"/>
                    </a:moveTo>
                    <a:cubicBezTo>
                      <a:pt x="0" y="38"/>
                      <a:pt x="1" y="41"/>
                      <a:pt x="3" y="41"/>
                    </a:cubicBezTo>
                    <a:cubicBezTo>
                      <a:pt x="4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7" y="41"/>
                      <a:pt x="17" y="41"/>
                      <a:pt x="17" y="41"/>
                    </a:cubicBezTo>
                    <a:cubicBezTo>
                      <a:pt x="16" y="40"/>
                      <a:pt x="16" y="38"/>
                      <a:pt x="17" y="35"/>
                    </a:cubicBezTo>
                    <a:cubicBezTo>
                      <a:pt x="17" y="35"/>
                      <a:pt x="26" y="7"/>
                      <a:pt x="27" y="6"/>
                    </a:cubicBezTo>
                    <a:cubicBezTo>
                      <a:pt x="28" y="2"/>
                      <a:pt x="27" y="0"/>
                      <a:pt x="24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1"/>
                      <a:pt x="11" y="3"/>
                      <a:pt x="10" y="6"/>
                    </a:cubicBezTo>
                    <a:cubicBezTo>
                      <a:pt x="10" y="6"/>
                      <a:pt x="1" y="34"/>
                      <a:pt x="1" y="3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384480" y="926280"/>
                <a:ext cx="84600" cy="6156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3" y="13"/>
                    </a:moveTo>
                    <a:cubicBezTo>
                      <a:pt x="56" y="4"/>
                      <a:pt x="54" y="0"/>
                      <a:pt x="44" y="0"/>
                    </a:cubicBezTo>
                    <a:cubicBezTo>
                      <a:pt x="35" y="0"/>
                      <a:pt x="11" y="0"/>
                      <a:pt x="11" y="0"/>
                    </a:cubicBezTo>
                    <a:cubicBezTo>
                      <a:pt x="12" y="1"/>
                      <a:pt x="12" y="3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7" y="16"/>
                      <a:pt x="2" y="34"/>
                      <a:pt x="1" y="35"/>
                    </a:cubicBezTo>
                    <a:cubicBezTo>
                      <a:pt x="0" y="38"/>
                      <a:pt x="1" y="41"/>
                      <a:pt x="4" y="41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8" y="41"/>
                      <a:pt x="18" y="41"/>
                      <a:pt x="18" y="41"/>
                    </a:cubicBezTo>
                    <a:cubicBezTo>
                      <a:pt x="17" y="40"/>
                      <a:pt x="17" y="38"/>
                      <a:pt x="17" y="35"/>
                    </a:cubicBezTo>
                    <a:cubicBezTo>
                      <a:pt x="27" y="7"/>
                      <a:pt x="27" y="7"/>
                      <a:pt x="27" y="7"/>
                    </a:cubicBezTo>
                    <a:cubicBezTo>
                      <a:pt x="28" y="7"/>
                      <a:pt x="34" y="7"/>
                      <a:pt x="35" y="7"/>
                    </a:cubicBezTo>
                    <a:cubicBezTo>
                      <a:pt x="38" y="7"/>
                      <a:pt x="39" y="9"/>
                      <a:pt x="38" y="11"/>
                    </a:cubicBezTo>
                    <a:cubicBezTo>
                      <a:pt x="37" y="13"/>
                      <a:pt x="31" y="33"/>
                      <a:pt x="30" y="35"/>
                    </a:cubicBezTo>
                    <a:cubicBezTo>
                      <a:pt x="29" y="38"/>
                      <a:pt x="30" y="41"/>
                      <a:pt x="33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42" y="41"/>
                      <a:pt x="42" y="41"/>
                      <a:pt x="42" y="41"/>
                    </a:cubicBezTo>
                    <a:cubicBezTo>
                      <a:pt x="42" y="41"/>
                      <a:pt x="42" y="41"/>
                      <a:pt x="42" y="41"/>
                    </a:cubicBezTo>
                    <a:cubicBezTo>
                      <a:pt x="46" y="41"/>
                      <a:pt x="46" y="41"/>
                      <a:pt x="46" y="41"/>
                    </a:cubicBezTo>
                    <a:cubicBezTo>
                      <a:pt x="45" y="40"/>
                      <a:pt x="45" y="38"/>
                      <a:pt x="46" y="35"/>
                    </a:cubicBezTo>
                    <a:lnTo>
                      <a:pt x="5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467280" y="903960"/>
                <a:ext cx="54000" cy="83880"/>
              </a:xfrm>
              <a:custGeom>
                <a:avLst/>
                <a:gdLst/>
                <a:ahLst/>
                <a:rect l="l" t="t" r="r" b="b"/>
                <a:pathLst>
                  <a:path w="36" h="56">
                    <a:moveTo>
                      <a:pt x="28" y="15"/>
                    </a:moveTo>
                    <a:cubicBezTo>
                      <a:pt x="29" y="10"/>
                      <a:pt x="31" y="6"/>
                      <a:pt x="31" y="6"/>
                    </a:cubicBezTo>
                    <a:cubicBezTo>
                      <a:pt x="32" y="3"/>
                      <a:pt x="31" y="0"/>
                      <a:pt x="28" y="0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1"/>
                      <a:pt x="15" y="3"/>
                      <a:pt x="14" y="6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9" y="15"/>
                      <a:pt x="8" y="15"/>
                      <a:pt x="7" y="15"/>
                    </a:cubicBezTo>
                    <a:cubicBezTo>
                      <a:pt x="6" y="15"/>
                      <a:pt x="5" y="15"/>
                      <a:pt x="4" y="16"/>
                    </a:cubicBezTo>
                    <a:cubicBezTo>
                      <a:pt x="3" y="18"/>
                      <a:pt x="2" y="21"/>
                      <a:pt x="2" y="22"/>
                    </a:cubicBezTo>
                    <a:cubicBezTo>
                      <a:pt x="2" y="22"/>
                      <a:pt x="5" y="22"/>
                      <a:pt x="9" y="22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0" y="52"/>
                      <a:pt x="2" y="56"/>
                      <a:pt x="11" y="56"/>
                    </a:cubicBezTo>
                    <a:cubicBezTo>
                      <a:pt x="14" y="56"/>
                      <a:pt x="17" y="56"/>
                      <a:pt x="20" y="56"/>
                    </a:cubicBezTo>
                    <a:cubicBezTo>
                      <a:pt x="21" y="56"/>
                      <a:pt x="21" y="56"/>
                      <a:pt x="22" y="56"/>
                    </a:cubicBezTo>
                    <a:cubicBezTo>
                      <a:pt x="23" y="56"/>
                      <a:pt x="25" y="55"/>
                      <a:pt x="25" y="54"/>
                    </a:cubicBezTo>
                    <a:cubicBezTo>
                      <a:pt x="26" y="53"/>
                      <a:pt x="28" y="48"/>
                      <a:pt x="28" y="48"/>
                    </a:cubicBezTo>
                    <a:cubicBezTo>
                      <a:pt x="27" y="48"/>
                      <a:pt x="26" y="48"/>
                      <a:pt x="25" y="48"/>
                    </a:cubicBezTo>
                    <a:cubicBezTo>
                      <a:pt x="25" y="48"/>
                      <a:pt x="21" y="48"/>
                      <a:pt x="21" y="48"/>
                    </a:cubicBezTo>
                    <a:cubicBezTo>
                      <a:pt x="18" y="48"/>
                      <a:pt x="17" y="47"/>
                      <a:pt x="18" y="45"/>
                    </a:cubicBezTo>
                    <a:cubicBezTo>
                      <a:pt x="18" y="44"/>
                      <a:pt x="22" y="32"/>
                      <a:pt x="25" y="22"/>
                    </a:cubicBezTo>
                    <a:cubicBezTo>
                      <a:pt x="28" y="22"/>
                      <a:pt x="29" y="22"/>
                      <a:pt x="30" y="22"/>
                    </a:cubicBezTo>
                    <a:cubicBezTo>
                      <a:pt x="31" y="22"/>
                      <a:pt x="32" y="22"/>
                      <a:pt x="33" y="21"/>
                    </a:cubicBezTo>
                    <a:cubicBezTo>
                      <a:pt x="34" y="19"/>
                      <a:pt x="35" y="16"/>
                      <a:pt x="36" y="15"/>
                    </a:cubicBezTo>
                    <a:cubicBezTo>
                      <a:pt x="36" y="15"/>
                      <a:pt x="32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122760" y="753840"/>
                <a:ext cx="272520" cy="153360"/>
              </a:xfrm>
              <a:custGeom>
                <a:avLst/>
                <a:gdLst/>
                <a:ahLst/>
                <a:rect l="l" t="t" r="r" b="b"/>
                <a:pathLst>
                  <a:path w="181" h="102">
                    <a:moveTo>
                      <a:pt x="180" y="23"/>
                    </a:moveTo>
                    <a:cubicBezTo>
                      <a:pt x="178" y="22"/>
                      <a:pt x="171" y="13"/>
                      <a:pt x="166" y="9"/>
                    </a:cubicBezTo>
                    <a:cubicBezTo>
                      <a:pt x="165" y="8"/>
                      <a:pt x="163" y="7"/>
                      <a:pt x="162" y="7"/>
                    </a:cubicBezTo>
                    <a:cubicBezTo>
                      <a:pt x="162" y="5"/>
                      <a:pt x="163" y="4"/>
                      <a:pt x="163" y="3"/>
                    </a:cubicBezTo>
                    <a:cubicBezTo>
                      <a:pt x="163" y="2"/>
                      <a:pt x="163" y="0"/>
                      <a:pt x="161" y="2"/>
                    </a:cubicBezTo>
                    <a:cubicBezTo>
                      <a:pt x="160" y="3"/>
                      <a:pt x="158" y="4"/>
                      <a:pt x="156" y="6"/>
                    </a:cubicBezTo>
                    <a:cubicBezTo>
                      <a:pt x="155" y="4"/>
                      <a:pt x="153" y="5"/>
                      <a:pt x="152" y="5"/>
                    </a:cubicBezTo>
                    <a:cubicBezTo>
                      <a:pt x="151" y="4"/>
                      <a:pt x="151" y="6"/>
                      <a:pt x="150" y="5"/>
                    </a:cubicBezTo>
                    <a:cubicBezTo>
                      <a:pt x="148" y="5"/>
                      <a:pt x="149" y="3"/>
                      <a:pt x="150" y="3"/>
                    </a:cubicBezTo>
                    <a:cubicBezTo>
                      <a:pt x="148" y="2"/>
                      <a:pt x="147" y="5"/>
                      <a:pt x="147" y="6"/>
                    </a:cubicBezTo>
                    <a:cubicBezTo>
                      <a:pt x="146" y="6"/>
                      <a:pt x="146" y="5"/>
                      <a:pt x="144" y="4"/>
                    </a:cubicBezTo>
                    <a:cubicBezTo>
                      <a:pt x="143" y="4"/>
                      <a:pt x="141" y="5"/>
                      <a:pt x="140" y="6"/>
                    </a:cubicBezTo>
                    <a:cubicBezTo>
                      <a:pt x="141" y="5"/>
                      <a:pt x="143" y="5"/>
                      <a:pt x="143" y="6"/>
                    </a:cubicBezTo>
                    <a:cubicBezTo>
                      <a:pt x="143" y="8"/>
                      <a:pt x="139" y="7"/>
                      <a:pt x="140" y="9"/>
                    </a:cubicBezTo>
                    <a:cubicBezTo>
                      <a:pt x="138" y="10"/>
                      <a:pt x="137" y="11"/>
                      <a:pt x="136" y="12"/>
                    </a:cubicBezTo>
                    <a:cubicBezTo>
                      <a:pt x="137" y="12"/>
                      <a:pt x="140" y="11"/>
                      <a:pt x="142" y="12"/>
                    </a:cubicBezTo>
                    <a:cubicBezTo>
                      <a:pt x="140" y="12"/>
                      <a:pt x="135" y="13"/>
                      <a:pt x="134" y="15"/>
                    </a:cubicBezTo>
                    <a:cubicBezTo>
                      <a:pt x="132" y="13"/>
                      <a:pt x="129" y="11"/>
                      <a:pt x="127" y="13"/>
                    </a:cubicBezTo>
                    <a:cubicBezTo>
                      <a:pt x="129" y="11"/>
                      <a:pt x="132" y="13"/>
                      <a:pt x="133" y="16"/>
                    </a:cubicBezTo>
                    <a:cubicBezTo>
                      <a:pt x="129" y="15"/>
                      <a:pt x="124" y="10"/>
                      <a:pt x="122" y="13"/>
                    </a:cubicBezTo>
                    <a:cubicBezTo>
                      <a:pt x="124" y="12"/>
                      <a:pt x="126" y="14"/>
                      <a:pt x="128" y="15"/>
                    </a:cubicBezTo>
                    <a:cubicBezTo>
                      <a:pt x="129" y="16"/>
                      <a:pt x="129" y="17"/>
                      <a:pt x="130" y="18"/>
                    </a:cubicBezTo>
                    <a:cubicBezTo>
                      <a:pt x="126" y="19"/>
                      <a:pt x="120" y="19"/>
                      <a:pt x="118" y="18"/>
                    </a:cubicBezTo>
                    <a:cubicBezTo>
                      <a:pt x="119" y="20"/>
                      <a:pt x="126" y="21"/>
                      <a:pt x="127" y="21"/>
                    </a:cubicBezTo>
                    <a:cubicBezTo>
                      <a:pt x="126" y="22"/>
                      <a:pt x="116" y="21"/>
                      <a:pt x="114" y="20"/>
                    </a:cubicBezTo>
                    <a:cubicBezTo>
                      <a:pt x="117" y="22"/>
                      <a:pt x="122" y="23"/>
                      <a:pt x="125" y="23"/>
                    </a:cubicBezTo>
                    <a:cubicBezTo>
                      <a:pt x="120" y="27"/>
                      <a:pt x="115" y="22"/>
                      <a:pt x="111" y="26"/>
                    </a:cubicBezTo>
                    <a:cubicBezTo>
                      <a:pt x="115" y="25"/>
                      <a:pt x="119" y="26"/>
                      <a:pt x="120" y="26"/>
                    </a:cubicBezTo>
                    <a:cubicBezTo>
                      <a:pt x="115" y="26"/>
                      <a:pt x="112" y="27"/>
                      <a:pt x="110" y="28"/>
                    </a:cubicBezTo>
                    <a:cubicBezTo>
                      <a:pt x="115" y="26"/>
                      <a:pt x="116" y="28"/>
                      <a:pt x="119" y="28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1" y="30"/>
                      <a:pt x="99" y="32"/>
                      <a:pt x="85" y="26"/>
                    </a:cubicBezTo>
                    <a:cubicBezTo>
                      <a:pt x="83" y="25"/>
                      <a:pt x="82" y="25"/>
                      <a:pt x="79" y="25"/>
                    </a:cubicBezTo>
                    <a:cubicBezTo>
                      <a:pt x="75" y="25"/>
                      <a:pt x="70" y="27"/>
                      <a:pt x="67" y="29"/>
                    </a:cubicBezTo>
                    <a:cubicBezTo>
                      <a:pt x="66" y="28"/>
                      <a:pt x="64" y="27"/>
                      <a:pt x="63" y="27"/>
                    </a:cubicBezTo>
                    <a:cubicBezTo>
                      <a:pt x="62" y="26"/>
                      <a:pt x="62" y="26"/>
                      <a:pt x="61" y="26"/>
                    </a:cubicBezTo>
                    <a:cubicBezTo>
                      <a:pt x="53" y="21"/>
                      <a:pt x="25" y="19"/>
                      <a:pt x="29" y="8"/>
                    </a:cubicBezTo>
                    <a:cubicBezTo>
                      <a:pt x="27" y="13"/>
                      <a:pt x="29" y="16"/>
                      <a:pt x="32" y="19"/>
                    </a:cubicBezTo>
                    <a:cubicBezTo>
                      <a:pt x="18" y="17"/>
                      <a:pt x="5" y="13"/>
                      <a:pt x="0" y="3"/>
                    </a:cubicBezTo>
                    <a:cubicBezTo>
                      <a:pt x="1" y="10"/>
                      <a:pt x="2" y="15"/>
                      <a:pt x="4" y="18"/>
                    </a:cubicBezTo>
                    <a:cubicBezTo>
                      <a:pt x="2" y="18"/>
                      <a:pt x="1" y="16"/>
                      <a:pt x="0" y="15"/>
                    </a:cubicBezTo>
                    <a:cubicBezTo>
                      <a:pt x="1" y="19"/>
                      <a:pt x="3" y="23"/>
                      <a:pt x="8" y="24"/>
                    </a:cubicBezTo>
                    <a:cubicBezTo>
                      <a:pt x="6" y="25"/>
                      <a:pt x="4" y="24"/>
                      <a:pt x="3" y="24"/>
                    </a:cubicBezTo>
                    <a:cubicBezTo>
                      <a:pt x="5" y="27"/>
                      <a:pt x="13" y="29"/>
                      <a:pt x="22" y="30"/>
                    </a:cubicBezTo>
                    <a:cubicBezTo>
                      <a:pt x="28" y="31"/>
                      <a:pt x="36" y="30"/>
                      <a:pt x="46" y="29"/>
                    </a:cubicBezTo>
                    <a:cubicBezTo>
                      <a:pt x="53" y="28"/>
                      <a:pt x="59" y="29"/>
                      <a:pt x="64" y="31"/>
                    </a:cubicBezTo>
                    <a:cubicBezTo>
                      <a:pt x="63" y="32"/>
                      <a:pt x="63" y="33"/>
                      <a:pt x="62" y="33"/>
                    </a:cubicBezTo>
                    <a:cubicBezTo>
                      <a:pt x="58" y="40"/>
                      <a:pt x="61" y="53"/>
                      <a:pt x="65" y="58"/>
                    </a:cubicBezTo>
                    <a:cubicBezTo>
                      <a:pt x="65" y="59"/>
                      <a:pt x="66" y="60"/>
                      <a:pt x="67" y="60"/>
                    </a:cubicBezTo>
                    <a:cubicBezTo>
                      <a:pt x="69" y="62"/>
                      <a:pt x="71" y="65"/>
                      <a:pt x="71" y="67"/>
                    </a:cubicBezTo>
                    <a:cubicBezTo>
                      <a:pt x="71" y="67"/>
                      <a:pt x="71" y="67"/>
                      <a:pt x="71" y="67"/>
                    </a:cubicBezTo>
                    <a:cubicBezTo>
                      <a:pt x="71" y="68"/>
                      <a:pt x="71" y="69"/>
                      <a:pt x="71" y="69"/>
                    </a:cubicBezTo>
                    <a:cubicBezTo>
                      <a:pt x="72" y="70"/>
                      <a:pt x="72" y="71"/>
                      <a:pt x="73" y="71"/>
                    </a:cubicBezTo>
                    <a:cubicBezTo>
                      <a:pt x="73" y="72"/>
                      <a:pt x="72" y="73"/>
                      <a:pt x="72" y="73"/>
                    </a:cubicBezTo>
                    <a:cubicBezTo>
                      <a:pt x="71" y="76"/>
                      <a:pt x="71" y="77"/>
                      <a:pt x="74" y="79"/>
                    </a:cubicBezTo>
                    <a:cubicBezTo>
                      <a:pt x="79" y="84"/>
                      <a:pt x="83" y="87"/>
                      <a:pt x="86" y="90"/>
                    </a:cubicBezTo>
                    <a:cubicBezTo>
                      <a:pt x="88" y="92"/>
                      <a:pt x="87" y="94"/>
                      <a:pt x="90" y="95"/>
                    </a:cubicBezTo>
                    <a:cubicBezTo>
                      <a:pt x="91" y="96"/>
                      <a:pt x="91" y="97"/>
                      <a:pt x="91" y="97"/>
                    </a:cubicBezTo>
                    <a:cubicBezTo>
                      <a:pt x="90" y="99"/>
                      <a:pt x="91" y="100"/>
                      <a:pt x="92" y="101"/>
                    </a:cubicBezTo>
                    <a:cubicBezTo>
                      <a:pt x="94" y="102"/>
                      <a:pt x="97" y="102"/>
                      <a:pt x="99" y="101"/>
                    </a:cubicBezTo>
                    <a:cubicBezTo>
                      <a:pt x="99" y="100"/>
                      <a:pt x="98" y="99"/>
                      <a:pt x="98" y="98"/>
                    </a:cubicBezTo>
                    <a:cubicBezTo>
                      <a:pt x="96" y="97"/>
                      <a:pt x="96" y="96"/>
                      <a:pt x="95" y="94"/>
                    </a:cubicBezTo>
                    <a:cubicBezTo>
                      <a:pt x="94" y="91"/>
                      <a:pt x="92" y="91"/>
                      <a:pt x="87" y="86"/>
                    </a:cubicBezTo>
                    <a:cubicBezTo>
                      <a:pt x="87" y="86"/>
                      <a:pt x="87" y="86"/>
                      <a:pt x="87" y="86"/>
                    </a:cubicBezTo>
                    <a:cubicBezTo>
                      <a:pt x="86" y="84"/>
                      <a:pt x="84" y="82"/>
                      <a:pt x="83" y="80"/>
                    </a:cubicBezTo>
                    <a:cubicBezTo>
                      <a:pt x="82" y="79"/>
                      <a:pt x="82" y="79"/>
                      <a:pt x="82" y="77"/>
                    </a:cubicBezTo>
                    <a:cubicBezTo>
                      <a:pt x="83" y="75"/>
                      <a:pt x="84" y="74"/>
                      <a:pt x="84" y="72"/>
                    </a:cubicBezTo>
                    <a:cubicBezTo>
                      <a:pt x="88" y="72"/>
                      <a:pt x="93" y="72"/>
                      <a:pt x="93" y="72"/>
                    </a:cubicBezTo>
                    <a:cubicBezTo>
                      <a:pt x="94" y="74"/>
                      <a:pt x="96" y="74"/>
                      <a:pt x="98" y="73"/>
                    </a:cubicBezTo>
                    <a:cubicBezTo>
                      <a:pt x="98" y="73"/>
                      <a:pt x="98" y="74"/>
                      <a:pt x="98" y="74"/>
                    </a:cubicBezTo>
                    <a:cubicBezTo>
                      <a:pt x="97" y="74"/>
                      <a:pt x="97" y="76"/>
                      <a:pt x="97" y="77"/>
                    </a:cubicBezTo>
                    <a:cubicBezTo>
                      <a:pt x="97" y="79"/>
                      <a:pt x="100" y="81"/>
                      <a:pt x="102" y="80"/>
                    </a:cubicBezTo>
                    <a:cubicBezTo>
                      <a:pt x="103" y="80"/>
                      <a:pt x="103" y="79"/>
                      <a:pt x="103" y="78"/>
                    </a:cubicBezTo>
                    <a:cubicBezTo>
                      <a:pt x="103" y="75"/>
                      <a:pt x="102" y="72"/>
                      <a:pt x="102" y="71"/>
                    </a:cubicBezTo>
                    <a:cubicBezTo>
                      <a:pt x="102" y="69"/>
                      <a:pt x="100" y="67"/>
                      <a:pt x="97" y="68"/>
                    </a:cubicBezTo>
                    <a:cubicBezTo>
                      <a:pt x="92" y="67"/>
                      <a:pt x="92" y="67"/>
                      <a:pt x="92" y="67"/>
                    </a:cubicBezTo>
                    <a:cubicBezTo>
                      <a:pt x="92" y="67"/>
                      <a:pt x="90" y="67"/>
                      <a:pt x="88" y="67"/>
                    </a:cubicBezTo>
                    <a:cubicBezTo>
                      <a:pt x="88" y="67"/>
                      <a:pt x="88" y="67"/>
                      <a:pt x="88" y="67"/>
                    </a:cubicBezTo>
                    <a:cubicBezTo>
                      <a:pt x="95" y="62"/>
                      <a:pt x="97" y="55"/>
                      <a:pt x="96" y="46"/>
                    </a:cubicBezTo>
                    <a:cubicBezTo>
                      <a:pt x="96" y="46"/>
                      <a:pt x="98" y="52"/>
                      <a:pt x="97" y="58"/>
                    </a:cubicBezTo>
                    <a:cubicBezTo>
                      <a:pt x="104" y="62"/>
                      <a:pt x="116" y="65"/>
                      <a:pt x="128" y="64"/>
                    </a:cubicBezTo>
                    <a:cubicBezTo>
                      <a:pt x="128" y="65"/>
                      <a:pt x="128" y="65"/>
                      <a:pt x="128" y="65"/>
                    </a:cubicBezTo>
                    <a:cubicBezTo>
                      <a:pt x="132" y="68"/>
                      <a:pt x="139" y="71"/>
                      <a:pt x="143" y="72"/>
                    </a:cubicBezTo>
                    <a:cubicBezTo>
                      <a:pt x="143" y="72"/>
                      <a:pt x="143" y="72"/>
                      <a:pt x="143" y="72"/>
                    </a:cubicBezTo>
                    <a:cubicBezTo>
                      <a:pt x="143" y="73"/>
                      <a:pt x="143" y="73"/>
                      <a:pt x="143" y="74"/>
                    </a:cubicBezTo>
                    <a:cubicBezTo>
                      <a:pt x="141" y="74"/>
                      <a:pt x="136" y="76"/>
                      <a:pt x="135" y="76"/>
                    </a:cubicBezTo>
                    <a:cubicBezTo>
                      <a:pt x="134" y="76"/>
                      <a:pt x="133" y="76"/>
                      <a:pt x="133" y="76"/>
                    </a:cubicBezTo>
                    <a:cubicBezTo>
                      <a:pt x="131" y="77"/>
                      <a:pt x="131" y="77"/>
                      <a:pt x="130" y="78"/>
                    </a:cubicBezTo>
                    <a:cubicBezTo>
                      <a:pt x="130" y="79"/>
                      <a:pt x="128" y="78"/>
                      <a:pt x="128" y="77"/>
                    </a:cubicBezTo>
                    <a:cubicBezTo>
                      <a:pt x="127" y="77"/>
                      <a:pt x="127" y="77"/>
                      <a:pt x="126" y="76"/>
                    </a:cubicBezTo>
                    <a:cubicBezTo>
                      <a:pt x="124" y="77"/>
                      <a:pt x="121" y="79"/>
                      <a:pt x="120" y="80"/>
                    </a:cubicBezTo>
                    <a:cubicBezTo>
                      <a:pt x="121" y="80"/>
                      <a:pt x="121" y="81"/>
                      <a:pt x="123" y="81"/>
                    </a:cubicBezTo>
                    <a:cubicBezTo>
                      <a:pt x="126" y="82"/>
                      <a:pt x="127" y="82"/>
                      <a:pt x="129" y="82"/>
                    </a:cubicBezTo>
                    <a:cubicBezTo>
                      <a:pt x="130" y="83"/>
                      <a:pt x="132" y="83"/>
                      <a:pt x="133" y="82"/>
                    </a:cubicBezTo>
                    <a:cubicBezTo>
                      <a:pt x="134" y="81"/>
                      <a:pt x="135" y="81"/>
                      <a:pt x="136" y="81"/>
                    </a:cubicBezTo>
                    <a:cubicBezTo>
                      <a:pt x="141" y="79"/>
                      <a:pt x="146" y="77"/>
                      <a:pt x="149" y="76"/>
                    </a:cubicBezTo>
                    <a:cubicBezTo>
                      <a:pt x="149" y="76"/>
                      <a:pt x="149" y="76"/>
                      <a:pt x="150" y="75"/>
                    </a:cubicBezTo>
                    <a:cubicBezTo>
                      <a:pt x="150" y="74"/>
                      <a:pt x="151" y="73"/>
                      <a:pt x="151" y="72"/>
                    </a:cubicBezTo>
                    <a:cubicBezTo>
                      <a:pt x="151" y="71"/>
                      <a:pt x="150" y="70"/>
                      <a:pt x="150" y="70"/>
                    </a:cubicBezTo>
                    <a:cubicBezTo>
                      <a:pt x="148" y="68"/>
                      <a:pt x="146" y="67"/>
                      <a:pt x="145" y="66"/>
                    </a:cubicBezTo>
                    <a:cubicBezTo>
                      <a:pt x="135" y="67"/>
                      <a:pt x="128" y="63"/>
                      <a:pt x="127" y="60"/>
                    </a:cubicBezTo>
                    <a:cubicBezTo>
                      <a:pt x="131" y="63"/>
                      <a:pt x="138" y="66"/>
                      <a:pt x="146" y="64"/>
                    </a:cubicBezTo>
                    <a:cubicBezTo>
                      <a:pt x="150" y="64"/>
                      <a:pt x="153" y="64"/>
                      <a:pt x="159" y="65"/>
                    </a:cubicBezTo>
                    <a:cubicBezTo>
                      <a:pt x="159" y="65"/>
                      <a:pt x="160" y="65"/>
                      <a:pt x="161" y="65"/>
                    </a:cubicBezTo>
                    <a:cubicBezTo>
                      <a:pt x="161" y="65"/>
                      <a:pt x="161" y="66"/>
                      <a:pt x="162" y="66"/>
                    </a:cubicBezTo>
                    <a:cubicBezTo>
                      <a:pt x="162" y="67"/>
                      <a:pt x="162" y="67"/>
                      <a:pt x="162" y="68"/>
                    </a:cubicBezTo>
                    <a:cubicBezTo>
                      <a:pt x="161" y="72"/>
                      <a:pt x="160" y="75"/>
                      <a:pt x="160" y="78"/>
                    </a:cubicBezTo>
                    <a:cubicBezTo>
                      <a:pt x="159" y="78"/>
                      <a:pt x="159" y="78"/>
                      <a:pt x="159" y="79"/>
                    </a:cubicBezTo>
                    <a:cubicBezTo>
                      <a:pt x="158" y="80"/>
                      <a:pt x="158" y="81"/>
                      <a:pt x="158" y="82"/>
                    </a:cubicBezTo>
                    <a:cubicBezTo>
                      <a:pt x="158" y="82"/>
                      <a:pt x="158" y="82"/>
                      <a:pt x="158" y="82"/>
                    </a:cubicBezTo>
                    <a:cubicBezTo>
                      <a:pt x="157" y="83"/>
                      <a:pt x="156" y="83"/>
                      <a:pt x="155" y="83"/>
                    </a:cubicBezTo>
                    <a:cubicBezTo>
                      <a:pt x="154" y="83"/>
                      <a:pt x="153" y="83"/>
                      <a:pt x="153" y="84"/>
                    </a:cubicBezTo>
                    <a:cubicBezTo>
                      <a:pt x="152" y="86"/>
                      <a:pt x="152" y="88"/>
                      <a:pt x="153" y="90"/>
                    </a:cubicBezTo>
                    <a:cubicBezTo>
                      <a:pt x="154" y="90"/>
                      <a:pt x="155" y="89"/>
                      <a:pt x="156" y="89"/>
                    </a:cubicBezTo>
                    <a:cubicBezTo>
                      <a:pt x="159" y="87"/>
                      <a:pt x="160" y="85"/>
                      <a:pt x="162" y="84"/>
                    </a:cubicBezTo>
                    <a:cubicBezTo>
                      <a:pt x="163" y="83"/>
                      <a:pt x="164" y="83"/>
                      <a:pt x="164" y="82"/>
                    </a:cubicBezTo>
                    <a:cubicBezTo>
                      <a:pt x="165" y="81"/>
                      <a:pt x="165" y="80"/>
                      <a:pt x="165" y="78"/>
                    </a:cubicBezTo>
                    <a:cubicBezTo>
                      <a:pt x="165" y="78"/>
                      <a:pt x="165" y="78"/>
                      <a:pt x="165" y="78"/>
                    </a:cubicBezTo>
                    <a:cubicBezTo>
                      <a:pt x="165" y="76"/>
                      <a:pt x="166" y="73"/>
                      <a:pt x="166" y="70"/>
                    </a:cubicBezTo>
                    <a:cubicBezTo>
                      <a:pt x="166" y="68"/>
                      <a:pt x="167" y="68"/>
                      <a:pt x="167" y="66"/>
                    </a:cubicBezTo>
                    <a:cubicBezTo>
                      <a:pt x="167" y="66"/>
                      <a:pt x="168" y="65"/>
                      <a:pt x="167" y="64"/>
                    </a:cubicBezTo>
                    <a:cubicBezTo>
                      <a:pt x="167" y="62"/>
                      <a:pt x="167" y="62"/>
                      <a:pt x="165" y="60"/>
                    </a:cubicBezTo>
                    <a:cubicBezTo>
                      <a:pt x="164" y="60"/>
                      <a:pt x="163" y="59"/>
                      <a:pt x="162" y="59"/>
                    </a:cubicBezTo>
                    <a:cubicBezTo>
                      <a:pt x="158" y="58"/>
                      <a:pt x="153" y="55"/>
                      <a:pt x="147" y="53"/>
                    </a:cubicBezTo>
                    <a:cubicBezTo>
                      <a:pt x="148" y="50"/>
                      <a:pt x="148" y="47"/>
                      <a:pt x="149" y="42"/>
                    </a:cubicBezTo>
                    <a:cubicBezTo>
                      <a:pt x="149" y="35"/>
                      <a:pt x="152" y="31"/>
                      <a:pt x="155" y="28"/>
                    </a:cubicBezTo>
                    <a:cubicBezTo>
                      <a:pt x="157" y="25"/>
                      <a:pt x="159" y="24"/>
                      <a:pt x="160" y="24"/>
                    </a:cubicBezTo>
                    <a:cubicBezTo>
                      <a:pt x="160" y="22"/>
                      <a:pt x="161" y="20"/>
                      <a:pt x="161" y="20"/>
                    </a:cubicBezTo>
                    <a:cubicBezTo>
                      <a:pt x="161" y="20"/>
                      <a:pt x="162" y="23"/>
                      <a:pt x="163" y="24"/>
                    </a:cubicBezTo>
                    <a:cubicBezTo>
                      <a:pt x="164" y="25"/>
                      <a:pt x="165" y="27"/>
                      <a:pt x="168" y="26"/>
                    </a:cubicBezTo>
                    <a:cubicBezTo>
                      <a:pt x="170" y="27"/>
                      <a:pt x="173" y="27"/>
                      <a:pt x="174" y="29"/>
                    </a:cubicBezTo>
                    <a:cubicBezTo>
                      <a:pt x="174" y="30"/>
                      <a:pt x="176" y="31"/>
                      <a:pt x="177" y="30"/>
                    </a:cubicBezTo>
                    <a:cubicBezTo>
                      <a:pt x="177" y="30"/>
                      <a:pt x="177" y="29"/>
                      <a:pt x="177" y="29"/>
                    </a:cubicBezTo>
                    <a:cubicBezTo>
                      <a:pt x="176" y="29"/>
                      <a:pt x="175" y="28"/>
                      <a:pt x="174" y="27"/>
                    </a:cubicBezTo>
                    <a:cubicBezTo>
                      <a:pt x="175" y="27"/>
                      <a:pt x="175" y="27"/>
                      <a:pt x="175" y="27"/>
                    </a:cubicBezTo>
                    <a:cubicBezTo>
                      <a:pt x="176" y="27"/>
                      <a:pt x="177" y="29"/>
                      <a:pt x="178" y="29"/>
                    </a:cubicBezTo>
                    <a:cubicBezTo>
                      <a:pt x="178" y="29"/>
                      <a:pt x="178" y="29"/>
                      <a:pt x="178" y="29"/>
                    </a:cubicBezTo>
                    <a:cubicBezTo>
                      <a:pt x="179" y="29"/>
                      <a:pt x="179" y="29"/>
                      <a:pt x="180" y="28"/>
                    </a:cubicBezTo>
                    <a:cubicBezTo>
                      <a:pt x="179" y="27"/>
                      <a:pt x="179" y="27"/>
                      <a:pt x="179" y="26"/>
                    </a:cubicBezTo>
                    <a:cubicBezTo>
                      <a:pt x="180" y="26"/>
                      <a:pt x="180" y="26"/>
                      <a:pt x="180" y="26"/>
                    </a:cubicBezTo>
                    <a:cubicBezTo>
                      <a:pt x="180" y="27"/>
                      <a:pt x="180" y="27"/>
                      <a:pt x="180" y="27"/>
                    </a:cubicBezTo>
                    <a:cubicBezTo>
                      <a:pt x="181" y="26"/>
                      <a:pt x="181" y="24"/>
                      <a:pt x="180" y="23"/>
                    </a:cubicBezTo>
                    <a:close/>
                    <a:moveTo>
                      <a:pt x="144" y="48"/>
                    </a:moveTo>
                    <a:cubicBezTo>
                      <a:pt x="142" y="38"/>
                      <a:pt x="138" y="35"/>
                      <a:pt x="130" y="33"/>
                    </a:cubicBezTo>
                    <a:cubicBezTo>
                      <a:pt x="141" y="34"/>
                      <a:pt x="144" y="39"/>
                      <a:pt x="144" y="48"/>
                    </a:cubicBezTo>
                    <a:close/>
                    <a:moveTo>
                      <a:pt x="172" y="17"/>
                    </a:moveTo>
                    <a:cubicBezTo>
                      <a:pt x="171" y="18"/>
                      <a:pt x="171" y="17"/>
                      <a:pt x="171" y="17"/>
                    </a:cubicBezTo>
                    <a:cubicBezTo>
                      <a:pt x="170" y="17"/>
                      <a:pt x="169" y="15"/>
                      <a:pt x="169" y="15"/>
                    </a:cubicBezTo>
                    <a:cubicBezTo>
                      <a:pt x="169" y="15"/>
                      <a:pt x="171" y="16"/>
                      <a:pt x="172" y="16"/>
                    </a:cubicBezTo>
                    <a:cubicBezTo>
                      <a:pt x="172" y="17"/>
                      <a:pt x="172" y="17"/>
                      <a:pt x="172" y="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15" name="グループ化 68"/>
          <p:cNvGrpSpPr/>
          <p:nvPr/>
        </p:nvGrpSpPr>
        <p:grpSpPr>
          <a:xfrm>
            <a:off x="1254240" y="1325520"/>
            <a:ext cx="8042040" cy="6566040"/>
            <a:chOff x="1254240" y="1325520"/>
            <a:chExt cx="8042040" cy="6566040"/>
          </a:xfrm>
        </p:grpSpPr>
        <p:grpSp>
          <p:nvGrpSpPr>
            <p:cNvPr id="16" name="object 5"/>
            <p:cNvGrpSpPr/>
            <p:nvPr/>
          </p:nvGrpSpPr>
          <p:grpSpPr>
            <a:xfrm>
              <a:off x="1277280" y="7432560"/>
              <a:ext cx="435960" cy="435960"/>
              <a:chOff x="1277280" y="7432560"/>
              <a:chExt cx="435960" cy="435960"/>
            </a:xfrm>
          </p:grpSpPr>
          <p:sp>
            <p:nvSpPr>
              <p:cNvPr id="17" name="object 6"/>
              <p:cNvSpPr/>
              <p:nvPr/>
            </p:nvSpPr>
            <p:spPr>
              <a:xfrm>
                <a:off x="1277280" y="7432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" name="object 7"/>
              <p:cNvSpPr/>
              <p:nvPr/>
            </p:nvSpPr>
            <p:spPr>
              <a:xfrm>
                <a:off x="1277280" y="7541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" name="object 8"/>
            <p:cNvGrpSpPr/>
            <p:nvPr/>
          </p:nvGrpSpPr>
          <p:grpSpPr>
            <a:xfrm>
              <a:off x="1277280" y="1348560"/>
              <a:ext cx="435960" cy="435960"/>
              <a:chOff x="1277280" y="1348560"/>
              <a:chExt cx="435960" cy="435960"/>
            </a:xfrm>
          </p:grpSpPr>
          <p:sp>
            <p:nvSpPr>
              <p:cNvPr id="20" name="object 9"/>
              <p:cNvSpPr/>
              <p:nvPr/>
            </p:nvSpPr>
            <p:spPr>
              <a:xfrm>
                <a:off x="1277280" y="1348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" name="object 10"/>
              <p:cNvSpPr/>
              <p:nvPr/>
            </p:nvSpPr>
            <p:spPr>
              <a:xfrm>
                <a:off x="1277280" y="1348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" name="object 11"/>
            <p:cNvGrpSpPr/>
            <p:nvPr/>
          </p:nvGrpSpPr>
          <p:grpSpPr>
            <a:xfrm>
              <a:off x="8837280" y="1348560"/>
              <a:ext cx="435960" cy="435960"/>
              <a:chOff x="8837280" y="1348560"/>
              <a:chExt cx="435960" cy="435960"/>
            </a:xfrm>
          </p:grpSpPr>
          <p:sp>
            <p:nvSpPr>
              <p:cNvPr id="23" name="object 12"/>
              <p:cNvSpPr/>
              <p:nvPr/>
            </p:nvSpPr>
            <p:spPr>
              <a:xfrm>
                <a:off x="8946000" y="1348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" name="object 13"/>
              <p:cNvSpPr/>
              <p:nvPr/>
            </p:nvSpPr>
            <p:spPr>
              <a:xfrm>
                <a:off x="8837280" y="1348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5" name="object 14"/>
            <p:cNvGrpSpPr/>
            <p:nvPr/>
          </p:nvGrpSpPr>
          <p:grpSpPr>
            <a:xfrm>
              <a:off x="8837280" y="7432560"/>
              <a:ext cx="435960" cy="435960"/>
              <a:chOff x="8837280" y="7432560"/>
              <a:chExt cx="435960" cy="435960"/>
            </a:xfrm>
          </p:grpSpPr>
          <p:sp>
            <p:nvSpPr>
              <p:cNvPr id="26" name="object 15"/>
              <p:cNvSpPr/>
              <p:nvPr/>
            </p:nvSpPr>
            <p:spPr>
              <a:xfrm>
                <a:off x="8946000" y="7432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" name="object 16"/>
              <p:cNvSpPr/>
              <p:nvPr/>
            </p:nvSpPr>
            <p:spPr>
              <a:xfrm>
                <a:off x="8837280" y="7541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8" name="object 17"/>
            <p:cNvGrpSpPr/>
            <p:nvPr/>
          </p:nvGrpSpPr>
          <p:grpSpPr>
            <a:xfrm>
              <a:off x="1254240" y="4151160"/>
              <a:ext cx="304560" cy="914400"/>
              <a:chOff x="1254240" y="4151160"/>
              <a:chExt cx="304560" cy="914400"/>
            </a:xfrm>
          </p:grpSpPr>
          <p:sp>
            <p:nvSpPr>
              <p:cNvPr id="29" name="object 18"/>
              <p:cNvSpPr/>
              <p:nvPr/>
            </p:nvSpPr>
            <p:spPr>
              <a:xfrm>
                <a:off x="1254240" y="4608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" name="object 19"/>
              <p:cNvSpPr/>
              <p:nvPr/>
            </p:nvSpPr>
            <p:spPr>
              <a:xfrm>
                <a:off x="1482840" y="4151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1" name="object 20"/>
            <p:cNvGrpSpPr/>
            <p:nvPr/>
          </p:nvGrpSpPr>
          <p:grpSpPr>
            <a:xfrm>
              <a:off x="8991720" y="4151160"/>
              <a:ext cx="304560" cy="914400"/>
              <a:chOff x="8991720" y="4151160"/>
              <a:chExt cx="304560" cy="914400"/>
            </a:xfrm>
          </p:grpSpPr>
          <p:sp>
            <p:nvSpPr>
              <p:cNvPr id="32" name="object 21"/>
              <p:cNvSpPr/>
              <p:nvPr/>
            </p:nvSpPr>
            <p:spPr>
              <a:xfrm>
                <a:off x="8991720" y="4608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" name="object 22"/>
              <p:cNvSpPr/>
              <p:nvPr/>
            </p:nvSpPr>
            <p:spPr>
              <a:xfrm>
                <a:off x="9067680" y="4151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4" name="object 23"/>
            <p:cNvGrpSpPr/>
            <p:nvPr/>
          </p:nvGrpSpPr>
          <p:grpSpPr>
            <a:xfrm>
              <a:off x="4817880" y="1325520"/>
              <a:ext cx="914400" cy="304560"/>
              <a:chOff x="4817880" y="1325520"/>
              <a:chExt cx="914400" cy="304560"/>
            </a:xfrm>
          </p:grpSpPr>
          <p:sp>
            <p:nvSpPr>
              <p:cNvPr id="35" name="object 24"/>
              <p:cNvSpPr/>
              <p:nvPr/>
            </p:nvSpPr>
            <p:spPr>
              <a:xfrm>
                <a:off x="4817880" y="15541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" name="object 25"/>
              <p:cNvSpPr/>
              <p:nvPr/>
            </p:nvSpPr>
            <p:spPr>
              <a:xfrm>
                <a:off x="5275080" y="13255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37" name="object 26"/>
            <p:cNvGrpSpPr/>
            <p:nvPr/>
          </p:nvGrpSpPr>
          <p:grpSpPr>
            <a:xfrm>
              <a:off x="4817880" y="7587000"/>
              <a:ext cx="914400" cy="304560"/>
              <a:chOff x="4817880" y="7587000"/>
              <a:chExt cx="914400" cy="304560"/>
            </a:xfrm>
          </p:grpSpPr>
          <p:sp>
            <p:nvSpPr>
              <p:cNvPr id="38" name="object 27"/>
              <p:cNvSpPr/>
              <p:nvPr/>
            </p:nvSpPr>
            <p:spPr>
              <a:xfrm>
                <a:off x="4817880" y="76629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" name="object 28"/>
              <p:cNvSpPr/>
              <p:nvPr/>
            </p:nvSpPr>
            <p:spPr>
              <a:xfrm>
                <a:off x="5275080" y="7587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0" name="正方形/長方形 2"/>
          <p:cNvSpPr/>
          <p:nvPr/>
        </p:nvSpPr>
        <p:spPr>
          <a:xfrm>
            <a:off x="1603440" y="1674720"/>
            <a:ext cx="7343640" cy="5867640"/>
          </a:xfrm>
          <a:prstGeom prst="rect">
            <a:avLst/>
          </a:prstGeom>
          <a:noFill/>
          <a:ln w="3960">
            <a:solidFill>
              <a:srgbClr val="1c33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2"/>
          <p:cNvSpPr/>
          <p:nvPr/>
        </p:nvSpPr>
        <p:spPr>
          <a:xfrm>
            <a:off x="1295280" y="1368360"/>
            <a:ext cx="190800" cy="1904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表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AutoShape 5"/>
          <p:cNvSpPr/>
          <p:nvPr/>
        </p:nvSpPr>
        <p:spPr>
          <a:xfrm>
            <a:off x="1440000" y="1440000"/>
            <a:ext cx="7669080" cy="633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グループ化 2"/>
          <p:cNvGrpSpPr/>
          <p:nvPr/>
        </p:nvGrpSpPr>
        <p:grpSpPr>
          <a:xfrm>
            <a:off x="36360" y="36360"/>
            <a:ext cx="5065920" cy="1008360"/>
            <a:chOff x="36360" y="36360"/>
            <a:chExt cx="5065920" cy="1008360"/>
          </a:xfrm>
        </p:grpSpPr>
        <p:sp>
          <p:nvSpPr>
            <p:cNvPr id="80" name="Rectangle 65"/>
            <p:cNvSpPr/>
            <p:nvPr/>
          </p:nvSpPr>
          <p:spPr>
            <a:xfrm>
              <a:off x="36360" y="36360"/>
              <a:ext cx="133200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8000" rIns="18000" tIns="18000" bIns="18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1000" spc="-1" strike="noStrike">
                  <a:solidFill>
                    <a:srgbClr val="000000"/>
                  </a:solidFill>
                  <a:latin typeface="Arial"/>
                </a:rPr>
                <a:t>柄付きポリうちわ</a:t>
              </a:r>
              <a:endParaRPr b="0" lang="en-US" sz="1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Arial"/>
                </a:rPr>
                <a:t>コンパクトサイズ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◎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95×280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うちわ本体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803240"/>
                  <a:tab algn="l" pos="3606840"/>
                  <a:tab algn="l" pos="5410080"/>
                  <a:tab algn="l" pos="7213680"/>
                  <a:tab algn="l" pos="9016920"/>
                  <a:tab algn="l" pos="10820520"/>
                </a:tabLst>
              </a:pP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　 </a:t>
              </a: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92×151mm</a:t>
              </a:r>
              <a:r>
                <a:rPr b="1" lang="ja-JP" sz="700" spc="-1" strike="noStrike">
                  <a:solidFill>
                    <a:srgbClr val="000000"/>
                  </a:solidFill>
                  <a:latin typeface="Arial"/>
                </a:rPr>
                <a:t>（型抜きサイズ）</a:t>
              </a:r>
              <a:endParaRPr b="0" lang="en-US" sz="7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Text Box 67"/>
            <p:cNvSpPr/>
            <p:nvPr/>
          </p:nvSpPr>
          <p:spPr>
            <a:xfrm>
              <a:off x="1366560" y="36360"/>
              <a:ext cx="3735720" cy="10083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0" bIns="0" anchor="ctr">
              <a:noAutofit/>
            </a:bodyPr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じめに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名前を付けて保存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ら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ァイルの種類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PowerPoint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 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プレゼンテーション（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*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.pptx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）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保存し直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てください。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無い場合（</a:t>
              </a:r>
              <a:r>
                <a:rPr b="1" lang="en-US" sz="800" spc="-1" strike="noStrike">
                  <a:solidFill>
                    <a:srgbClr val="000000"/>
                  </a:solidFill>
                  <a:latin typeface="ＭＳ Ｐゴシック"/>
                </a:rPr>
                <a:t>2003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以下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変更せず保存し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フチ無し印刷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（背景に絵柄がある場合）は、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外側の黒い四角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で</a:t>
              </a:r>
              <a:r>
                <a:rPr b="1" lang="ja-JP" sz="800" spc="-1" strike="noStrike">
                  <a:solidFill>
                    <a:srgbClr val="000000"/>
                  </a:solidFill>
                  <a:latin typeface="ＭＳ Ｐゴシック"/>
                </a:rPr>
                <a:t>伸ばして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切れては困る絵柄や文字等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は、</a:t>
              </a:r>
              <a:r>
                <a:rPr b="1" lang="ja-JP" sz="800" spc="-1" strike="noStrike">
                  <a:solidFill>
                    <a:srgbClr val="00b0f0"/>
                  </a:solidFill>
                  <a:latin typeface="ＭＳ Ｐゴシック"/>
                </a:rPr>
                <a:t>内側の水色の線の中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に入れて作成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透過性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半透明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パターン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換が正常に出来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場合があります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用紙サイズの変更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や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トンボの移動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、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変形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など</a:t>
              </a:r>
              <a:r>
                <a:rPr b="0" lang="ja-JP" sz="800" spc="-1" strike="noStrike">
                  <a:solidFill>
                    <a:srgbClr val="ff0000"/>
                  </a:solidFill>
                  <a:latin typeface="ＭＳ Ｐゴシック"/>
                </a:rPr>
                <a:t>なさらない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ようお願いします。　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  <a:p>
              <a:pPr marL="114480" indent="-114480">
                <a:lnSpc>
                  <a:spcPts val="899"/>
                </a:lnSpc>
                <a:buClr>
                  <a:srgbClr val="000000"/>
                </a:buClr>
                <a:buFont typeface="ＭＳ Ｐゴシック"/>
                <a:buChar char="※"/>
                <a:tabLst>
                  <a:tab algn="l" pos="1128600"/>
                  <a:tab algn="l" pos="2257560"/>
                  <a:tab algn="l" pos="3386160"/>
                  <a:tab algn="l" pos="4514760"/>
                  <a:tab algn="l" pos="5643720"/>
                  <a:tab algn="l" pos="6772320"/>
                  <a:tab algn="l" pos="7900920"/>
                  <a:tab algn="l" pos="9029880"/>
                  <a:tab algn="l" pos="10158480"/>
                </a:tabLst>
              </a:pP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このテンプレートから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を作成する際は、説明部分の線などを削除してください。</a:t>
              </a:r>
              <a:br>
                <a:rPr sz="800"/>
              </a:b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また、作成した</a:t>
              </a:r>
              <a:r>
                <a:rPr b="0" lang="en-US" sz="800" spc="-1" strike="noStrike">
                  <a:solidFill>
                    <a:srgbClr val="000000"/>
                  </a:solidFill>
                  <a:latin typeface="ＭＳ Ｐゴシック"/>
                </a:rPr>
                <a:t>PDF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が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「</a:t>
              </a:r>
              <a:r>
                <a:rPr b="1" lang="en-US" sz="800" spc="-1" strike="noStrike">
                  <a:solidFill>
                    <a:srgbClr val="ff0000"/>
                  </a:solidFill>
                  <a:latin typeface="ＭＳ Ｐゴシック"/>
                </a:rPr>
                <a:t>293×256mm</a:t>
              </a:r>
              <a:r>
                <a:rPr b="1" lang="ja-JP" sz="800" spc="-1" strike="noStrike">
                  <a:solidFill>
                    <a:srgbClr val="ff0000"/>
                  </a:solidFill>
                  <a:latin typeface="ＭＳ Ｐゴシック"/>
                </a:rPr>
                <a:t>」</a:t>
              </a:r>
              <a:r>
                <a:rPr b="0" lang="ja-JP" sz="800" spc="-1" strike="noStrike">
                  <a:solidFill>
                    <a:srgbClr val="000000"/>
                  </a:solidFill>
                  <a:latin typeface="ＭＳ Ｐゴシック"/>
                </a:rPr>
                <a:t>かどうか確認してください。</a:t>
              </a:r>
              <a:endParaRPr b="0" lang="en-US" sz="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2" name="グループ化 24"/>
            <p:cNvGrpSpPr/>
            <p:nvPr/>
          </p:nvGrpSpPr>
          <p:grpSpPr>
            <a:xfrm>
              <a:off x="61200" y="753840"/>
              <a:ext cx="460080" cy="262800"/>
              <a:chOff x="61200" y="753840"/>
              <a:chExt cx="460080" cy="262800"/>
            </a:xfrm>
          </p:grpSpPr>
          <p:sp>
            <p:nvSpPr>
              <p:cNvPr id="83" name="Freeform 8"/>
              <p:cNvSpPr/>
              <p:nvPr/>
            </p:nvSpPr>
            <p:spPr>
              <a:xfrm>
                <a:off x="61200" y="903960"/>
                <a:ext cx="168480" cy="83880"/>
              </a:xfrm>
              <a:custGeom>
                <a:avLst/>
                <a:gdLst/>
                <a:ahLst/>
                <a:rect l="l" t="t" r="r" b="b"/>
                <a:pathLst>
                  <a:path w="112" h="56">
                    <a:moveTo>
                      <a:pt x="29" y="0"/>
                    </a:moveTo>
                    <a:cubicBezTo>
                      <a:pt x="23" y="1"/>
                      <a:pt x="20" y="3"/>
                      <a:pt x="18" y="7"/>
                    </a:cubicBezTo>
                    <a:cubicBezTo>
                      <a:pt x="16" y="10"/>
                      <a:pt x="15" y="13"/>
                      <a:pt x="14" y="15"/>
                    </a:cubicBezTo>
                    <a:cubicBezTo>
                      <a:pt x="14" y="20"/>
                      <a:pt x="15" y="22"/>
                      <a:pt x="18" y="25"/>
                    </a:cubicBezTo>
                    <a:cubicBezTo>
                      <a:pt x="21" y="27"/>
                      <a:pt x="25" y="31"/>
                      <a:pt x="29" y="34"/>
                    </a:cubicBezTo>
                    <a:cubicBezTo>
                      <a:pt x="30" y="35"/>
                      <a:pt x="31" y="37"/>
                      <a:pt x="30" y="39"/>
                    </a:cubicBezTo>
                    <a:cubicBezTo>
                      <a:pt x="29" y="41"/>
                      <a:pt x="29" y="43"/>
                      <a:pt x="28" y="44"/>
                    </a:cubicBezTo>
                    <a:cubicBezTo>
                      <a:pt x="27" y="46"/>
                      <a:pt x="24" y="47"/>
                      <a:pt x="18" y="47"/>
                    </a:cubicBezTo>
                    <a:cubicBezTo>
                      <a:pt x="17" y="47"/>
                      <a:pt x="13" y="47"/>
                      <a:pt x="9" y="47"/>
                    </a:cubicBezTo>
                    <a:cubicBezTo>
                      <a:pt x="7" y="47"/>
                      <a:pt x="5" y="46"/>
                      <a:pt x="4" y="44"/>
                    </a:cubicBezTo>
                    <a:cubicBezTo>
                      <a:pt x="3" y="46"/>
                      <a:pt x="1" y="50"/>
                      <a:pt x="1" y="52"/>
                    </a:cubicBezTo>
                    <a:cubicBezTo>
                      <a:pt x="0" y="53"/>
                      <a:pt x="1" y="54"/>
                      <a:pt x="2" y="55"/>
                    </a:cubicBezTo>
                    <a:cubicBezTo>
                      <a:pt x="3" y="56"/>
                      <a:pt x="5" y="56"/>
                      <a:pt x="7" y="56"/>
                    </a:cubicBezTo>
                    <a:cubicBezTo>
                      <a:pt x="8" y="56"/>
                      <a:pt x="11" y="56"/>
                      <a:pt x="11" y="56"/>
                    </a:cubicBezTo>
                    <a:cubicBezTo>
                      <a:pt x="18" y="56"/>
                      <a:pt x="27" y="56"/>
                      <a:pt x="30" y="56"/>
                    </a:cubicBezTo>
                    <a:cubicBezTo>
                      <a:pt x="32" y="56"/>
                      <a:pt x="34" y="56"/>
                      <a:pt x="36" y="56"/>
                    </a:cubicBezTo>
                    <a:cubicBezTo>
                      <a:pt x="40" y="56"/>
                      <a:pt x="43" y="54"/>
                      <a:pt x="45" y="51"/>
                    </a:cubicBezTo>
                    <a:cubicBezTo>
                      <a:pt x="47" y="47"/>
                      <a:pt x="49" y="39"/>
                      <a:pt x="50" y="38"/>
                    </a:cubicBezTo>
                    <a:cubicBezTo>
                      <a:pt x="51" y="33"/>
                      <a:pt x="50" y="29"/>
                      <a:pt x="46" y="25"/>
                    </a:cubicBezTo>
                    <a:cubicBezTo>
                      <a:pt x="43" y="22"/>
                      <a:pt x="39" y="19"/>
                      <a:pt x="37" y="17"/>
                    </a:cubicBezTo>
                    <a:cubicBezTo>
                      <a:pt x="36" y="16"/>
                      <a:pt x="35" y="15"/>
                      <a:pt x="36" y="14"/>
                    </a:cubicBezTo>
                    <a:cubicBezTo>
                      <a:pt x="36" y="13"/>
                      <a:pt x="36" y="12"/>
                      <a:pt x="37" y="11"/>
                    </a:cubicBezTo>
                    <a:cubicBezTo>
                      <a:pt x="38" y="10"/>
                      <a:pt x="39" y="10"/>
                      <a:pt x="41" y="10"/>
                    </a:cubicBezTo>
                    <a:cubicBezTo>
                      <a:pt x="44" y="10"/>
                      <a:pt x="99" y="10"/>
                      <a:pt x="103" y="10"/>
                    </a:cubicBezTo>
                    <a:cubicBezTo>
                      <a:pt x="105" y="10"/>
                      <a:pt x="107" y="9"/>
                      <a:pt x="108" y="8"/>
                    </a:cubicBezTo>
                    <a:cubicBezTo>
                      <a:pt x="110" y="7"/>
                      <a:pt x="112" y="2"/>
                      <a:pt x="112" y="0"/>
                    </a:cubicBezTo>
                    <a:cubicBezTo>
                      <a:pt x="107" y="0"/>
                      <a:pt x="44" y="0"/>
                      <a:pt x="34" y="0"/>
                    </a:cubicBezTo>
                    <a:cubicBezTo>
                      <a:pt x="32" y="0"/>
                      <a:pt x="30" y="0"/>
                      <a:pt x="2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4" name="Freeform 9"/>
              <p:cNvSpPr/>
              <p:nvPr/>
            </p:nvSpPr>
            <p:spPr>
              <a:xfrm>
                <a:off x="367920" y="903960"/>
                <a:ext cx="31680" cy="15120"/>
              </a:xfrm>
              <a:custGeom>
                <a:avLst/>
                <a:gdLst/>
                <a:ahLst/>
                <a:rect l="l" t="t" r="r" b="b"/>
                <a:pathLst>
                  <a:path w="21" h="10">
                    <a:moveTo>
                      <a:pt x="12" y="0"/>
                    </a:moveTo>
                    <a:cubicBezTo>
                      <a:pt x="11" y="0"/>
                      <a:pt x="10" y="0"/>
                      <a:pt x="9" y="0"/>
                    </a:cubicBezTo>
                    <a:cubicBezTo>
                      <a:pt x="6" y="0"/>
                      <a:pt x="3" y="1"/>
                      <a:pt x="2" y="4"/>
                    </a:cubicBezTo>
                    <a:cubicBezTo>
                      <a:pt x="1" y="6"/>
                      <a:pt x="0" y="9"/>
                      <a:pt x="0" y="10"/>
                    </a:cubicBezTo>
                    <a:cubicBezTo>
                      <a:pt x="0" y="10"/>
                      <a:pt x="2" y="10"/>
                      <a:pt x="5" y="10"/>
                    </a:cubicBezTo>
                    <a:cubicBezTo>
                      <a:pt x="10" y="10"/>
                      <a:pt x="10" y="10"/>
                      <a:pt x="10" y="10"/>
                    </a:cubicBezTo>
                    <a:cubicBezTo>
                      <a:pt x="11" y="10"/>
                      <a:pt x="12" y="10"/>
                      <a:pt x="12" y="10"/>
                    </a:cubicBezTo>
                    <a:cubicBezTo>
                      <a:pt x="15" y="10"/>
                      <a:pt x="18" y="9"/>
                      <a:pt x="19" y="6"/>
                    </a:cubicBezTo>
                    <a:cubicBezTo>
                      <a:pt x="20" y="3"/>
                      <a:pt x="21" y="1"/>
                      <a:pt x="21" y="0"/>
                    </a:cubicBezTo>
                    <a:cubicBezTo>
                      <a:pt x="21" y="0"/>
                      <a:pt x="12" y="0"/>
                      <a:pt x="12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10"/>
              <p:cNvSpPr/>
              <p:nvPr/>
            </p:nvSpPr>
            <p:spPr>
              <a:xfrm>
                <a:off x="139320" y="926280"/>
                <a:ext cx="84600" cy="6156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5" y="6"/>
                    </a:moveTo>
                    <a:cubicBezTo>
                      <a:pt x="56" y="2"/>
                      <a:pt x="55" y="0"/>
                      <a:pt x="52" y="0"/>
                    </a:cubicBezTo>
                    <a:cubicBezTo>
                      <a:pt x="51" y="0"/>
                      <a:pt x="51" y="0"/>
                      <a:pt x="51" y="0"/>
                    </a:cubicBezTo>
                    <a:cubicBezTo>
                      <a:pt x="38" y="0"/>
                      <a:pt x="38" y="0"/>
                      <a:pt x="38" y="0"/>
                    </a:cubicBezTo>
                    <a:cubicBezTo>
                      <a:pt x="40" y="1"/>
                      <a:pt x="40" y="3"/>
                      <a:pt x="39" y="6"/>
                    </a:cubicBezTo>
                    <a:cubicBezTo>
                      <a:pt x="30" y="33"/>
                      <a:pt x="30" y="33"/>
                      <a:pt x="30" y="33"/>
                    </a:cubicBezTo>
                    <a:cubicBezTo>
                      <a:pt x="26" y="33"/>
                      <a:pt x="22" y="33"/>
                      <a:pt x="21" y="33"/>
                    </a:cubicBezTo>
                    <a:cubicBezTo>
                      <a:pt x="19" y="33"/>
                      <a:pt x="18" y="32"/>
                      <a:pt x="18" y="30"/>
                    </a:cubicBezTo>
                    <a:cubicBezTo>
                      <a:pt x="19" y="28"/>
                      <a:pt x="26" y="7"/>
                      <a:pt x="26" y="6"/>
                    </a:cubicBezTo>
                    <a:cubicBezTo>
                      <a:pt x="27" y="2"/>
                      <a:pt x="26" y="0"/>
                      <a:pt x="24" y="0"/>
                    </a:cubicBezTo>
                    <a:cubicBezTo>
                      <a:pt x="23" y="0"/>
                      <a:pt x="22" y="0"/>
                      <a:pt x="22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1"/>
                      <a:pt x="11" y="3"/>
                      <a:pt x="10" y="6"/>
                    </a:cubicBezTo>
                    <a:cubicBezTo>
                      <a:pt x="3" y="28"/>
                      <a:pt x="3" y="28"/>
                      <a:pt x="3" y="28"/>
                    </a:cubicBezTo>
                    <a:cubicBezTo>
                      <a:pt x="0" y="37"/>
                      <a:pt x="2" y="41"/>
                      <a:pt x="12" y="41"/>
                    </a:cubicBezTo>
                    <a:cubicBezTo>
                      <a:pt x="21" y="41"/>
                      <a:pt x="45" y="41"/>
                      <a:pt x="45" y="41"/>
                    </a:cubicBezTo>
                    <a:cubicBezTo>
                      <a:pt x="44" y="40"/>
                      <a:pt x="44" y="38"/>
                      <a:pt x="45" y="35"/>
                    </a:cubicBezTo>
                    <a:cubicBezTo>
                      <a:pt x="45" y="35"/>
                      <a:pt x="54" y="7"/>
                      <a:pt x="55" y="6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11"/>
              <p:cNvSpPr/>
              <p:nvPr/>
            </p:nvSpPr>
            <p:spPr>
              <a:xfrm>
                <a:off x="208800" y="926280"/>
                <a:ext cx="91440" cy="90360"/>
              </a:xfrm>
              <a:custGeom>
                <a:avLst/>
                <a:gdLst/>
                <a:ahLst/>
                <a:rect l="l" t="t" r="r" b="b"/>
                <a:pathLst>
                  <a:path w="61" h="60">
                    <a:moveTo>
                      <a:pt x="49" y="0"/>
                    </a:moveTo>
                    <a:cubicBezTo>
                      <a:pt x="46" y="0"/>
                      <a:pt x="40" y="0"/>
                      <a:pt x="35" y="0"/>
                    </a:cubicBezTo>
                    <a:cubicBezTo>
                      <a:pt x="19" y="0"/>
                      <a:pt x="19" y="0"/>
                      <a:pt x="19" y="0"/>
                    </a:cubicBezTo>
                    <a:cubicBezTo>
                      <a:pt x="17" y="0"/>
                      <a:pt x="17" y="0"/>
                      <a:pt x="17" y="0"/>
                    </a:cubicBezTo>
                    <a:cubicBezTo>
                      <a:pt x="18" y="1"/>
                      <a:pt x="18" y="3"/>
                      <a:pt x="17" y="6"/>
                    </a:cubicBezTo>
                    <a:cubicBezTo>
                      <a:pt x="17" y="6"/>
                      <a:pt x="2" y="52"/>
                      <a:pt x="1" y="54"/>
                    </a:cubicBezTo>
                    <a:cubicBezTo>
                      <a:pt x="0" y="58"/>
                      <a:pt x="1" y="60"/>
                      <a:pt x="4" y="60"/>
                    </a:cubicBezTo>
                    <a:cubicBezTo>
                      <a:pt x="5" y="60"/>
                      <a:pt x="5" y="60"/>
                      <a:pt x="5" y="60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3" y="60"/>
                      <a:pt x="13" y="60"/>
                      <a:pt x="13" y="60"/>
                    </a:cubicBezTo>
                    <a:cubicBezTo>
                      <a:pt x="17" y="60"/>
                      <a:pt x="17" y="60"/>
                      <a:pt x="17" y="60"/>
                    </a:cubicBezTo>
                    <a:cubicBezTo>
                      <a:pt x="16" y="59"/>
                      <a:pt x="16" y="57"/>
                      <a:pt x="17" y="54"/>
                    </a:cubicBezTo>
                    <a:cubicBezTo>
                      <a:pt x="33" y="7"/>
                      <a:pt x="33" y="7"/>
                      <a:pt x="33" y="7"/>
                    </a:cubicBezTo>
                    <a:cubicBezTo>
                      <a:pt x="35" y="7"/>
                      <a:pt x="38" y="7"/>
                      <a:pt x="39" y="7"/>
                    </a:cubicBezTo>
                    <a:cubicBezTo>
                      <a:pt x="42" y="7"/>
                      <a:pt x="43" y="9"/>
                      <a:pt x="42" y="11"/>
                    </a:cubicBezTo>
                    <a:cubicBezTo>
                      <a:pt x="42" y="13"/>
                      <a:pt x="37" y="27"/>
                      <a:pt x="37" y="28"/>
                    </a:cubicBezTo>
                    <a:cubicBezTo>
                      <a:pt x="36" y="32"/>
                      <a:pt x="34" y="33"/>
                      <a:pt x="31" y="33"/>
                    </a:cubicBezTo>
                    <a:cubicBezTo>
                      <a:pt x="31" y="33"/>
                      <a:pt x="31" y="33"/>
                      <a:pt x="31" y="33"/>
                    </a:cubicBezTo>
                    <a:cubicBezTo>
                      <a:pt x="29" y="33"/>
                      <a:pt x="28" y="34"/>
                      <a:pt x="27" y="35"/>
                    </a:cubicBezTo>
                    <a:cubicBezTo>
                      <a:pt x="26" y="36"/>
                      <a:pt x="25" y="38"/>
                      <a:pt x="24" y="41"/>
                    </a:cubicBezTo>
                    <a:cubicBezTo>
                      <a:pt x="26" y="41"/>
                      <a:pt x="33" y="41"/>
                      <a:pt x="35" y="41"/>
                    </a:cubicBezTo>
                    <a:cubicBezTo>
                      <a:pt x="45" y="41"/>
                      <a:pt x="49" y="40"/>
                      <a:pt x="52" y="32"/>
                    </a:cubicBezTo>
                    <a:cubicBezTo>
                      <a:pt x="52" y="30"/>
                      <a:pt x="58" y="13"/>
                      <a:pt x="58" y="13"/>
                    </a:cubicBezTo>
                    <a:cubicBezTo>
                      <a:pt x="61" y="4"/>
                      <a:pt x="59" y="0"/>
                      <a:pt x="49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12"/>
              <p:cNvSpPr/>
              <p:nvPr/>
            </p:nvSpPr>
            <p:spPr>
              <a:xfrm>
                <a:off x="292680" y="926280"/>
                <a:ext cx="68040" cy="61560"/>
              </a:xfrm>
              <a:custGeom>
                <a:avLst/>
                <a:gdLst/>
                <a:ahLst/>
                <a:rect l="l" t="t" r="r" b="b"/>
                <a:pathLst>
                  <a:path w="45" h="41">
                    <a:moveTo>
                      <a:pt x="27" y="0"/>
                    </a:moveTo>
                    <a:cubicBezTo>
                      <a:pt x="27" y="0"/>
                      <a:pt x="26" y="0"/>
                      <a:pt x="23" y="0"/>
                    </a:cubicBezTo>
                    <a:cubicBezTo>
                      <a:pt x="22" y="0"/>
                      <a:pt x="21" y="0"/>
                      <a:pt x="21" y="0"/>
                    </a:cubicBezTo>
                    <a:cubicBezTo>
                      <a:pt x="16" y="0"/>
                      <a:pt x="12" y="1"/>
                      <a:pt x="10" y="7"/>
                    </a:cubicBezTo>
                    <a:cubicBezTo>
                      <a:pt x="10" y="7"/>
                      <a:pt x="1" y="34"/>
                      <a:pt x="1" y="35"/>
                    </a:cubicBezTo>
                    <a:cubicBezTo>
                      <a:pt x="0" y="38"/>
                      <a:pt x="1" y="41"/>
                      <a:pt x="3" y="41"/>
                    </a:cubicBezTo>
                    <a:cubicBezTo>
                      <a:pt x="4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7" y="41"/>
                      <a:pt x="17" y="41"/>
                      <a:pt x="17" y="41"/>
                    </a:cubicBezTo>
                    <a:cubicBezTo>
                      <a:pt x="16" y="40"/>
                      <a:pt x="16" y="38"/>
                      <a:pt x="17" y="35"/>
                    </a:cubicBezTo>
                    <a:cubicBezTo>
                      <a:pt x="17" y="35"/>
                      <a:pt x="24" y="14"/>
                      <a:pt x="25" y="10"/>
                    </a:cubicBezTo>
                    <a:cubicBezTo>
                      <a:pt x="26" y="8"/>
                      <a:pt x="27" y="7"/>
                      <a:pt x="29" y="7"/>
                    </a:cubicBezTo>
                    <a:cubicBezTo>
                      <a:pt x="31" y="7"/>
                      <a:pt x="33" y="7"/>
                      <a:pt x="37" y="7"/>
                    </a:cubicBezTo>
                    <a:cubicBezTo>
                      <a:pt x="40" y="7"/>
                      <a:pt x="41" y="7"/>
                      <a:pt x="42" y="6"/>
                    </a:cubicBezTo>
                    <a:cubicBezTo>
                      <a:pt x="43" y="4"/>
                      <a:pt x="45" y="1"/>
                      <a:pt x="45" y="0"/>
                    </a:cubicBezTo>
                    <a:cubicBezTo>
                      <a:pt x="44" y="0"/>
                      <a:pt x="27" y="0"/>
                      <a:pt x="27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8" name="Freeform 13"/>
              <p:cNvSpPr/>
              <p:nvPr/>
            </p:nvSpPr>
            <p:spPr>
              <a:xfrm>
                <a:off x="350280" y="926280"/>
                <a:ext cx="41760" cy="61560"/>
              </a:xfrm>
              <a:custGeom>
                <a:avLst/>
                <a:gdLst/>
                <a:ahLst/>
                <a:rect l="l" t="t" r="r" b="b"/>
                <a:pathLst>
                  <a:path w="28" h="41">
                    <a:moveTo>
                      <a:pt x="1" y="35"/>
                    </a:moveTo>
                    <a:cubicBezTo>
                      <a:pt x="0" y="38"/>
                      <a:pt x="1" y="41"/>
                      <a:pt x="3" y="41"/>
                    </a:cubicBezTo>
                    <a:cubicBezTo>
                      <a:pt x="4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7" y="41"/>
                      <a:pt x="17" y="41"/>
                      <a:pt x="17" y="41"/>
                    </a:cubicBezTo>
                    <a:cubicBezTo>
                      <a:pt x="16" y="40"/>
                      <a:pt x="16" y="38"/>
                      <a:pt x="17" y="35"/>
                    </a:cubicBezTo>
                    <a:cubicBezTo>
                      <a:pt x="17" y="35"/>
                      <a:pt x="26" y="7"/>
                      <a:pt x="27" y="6"/>
                    </a:cubicBezTo>
                    <a:cubicBezTo>
                      <a:pt x="28" y="2"/>
                      <a:pt x="27" y="0"/>
                      <a:pt x="24" y="0"/>
                    </a:cubicBezTo>
                    <a:cubicBezTo>
                      <a:pt x="23" y="0"/>
                      <a:pt x="23" y="0"/>
                      <a:pt x="23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0" y="0"/>
                      <a:pt x="10" y="0"/>
                      <a:pt x="10" y="0"/>
                    </a:cubicBezTo>
                    <a:cubicBezTo>
                      <a:pt x="11" y="1"/>
                      <a:pt x="11" y="3"/>
                      <a:pt x="10" y="6"/>
                    </a:cubicBezTo>
                    <a:cubicBezTo>
                      <a:pt x="10" y="6"/>
                      <a:pt x="1" y="34"/>
                      <a:pt x="1" y="3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9" name="Freeform 14"/>
              <p:cNvSpPr/>
              <p:nvPr/>
            </p:nvSpPr>
            <p:spPr>
              <a:xfrm>
                <a:off x="384480" y="926280"/>
                <a:ext cx="84600" cy="61560"/>
              </a:xfrm>
              <a:custGeom>
                <a:avLst/>
                <a:gdLst/>
                <a:ahLst/>
                <a:rect l="l" t="t" r="r" b="b"/>
                <a:pathLst>
                  <a:path w="56" h="41">
                    <a:moveTo>
                      <a:pt x="53" y="13"/>
                    </a:moveTo>
                    <a:cubicBezTo>
                      <a:pt x="56" y="4"/>
                      <a:pt x="54" y="0"/>
                      <a:pt x="44" y="0"/>
                    </a:cubicBezTo>
                    <a:cubicBezTo>
                      <a:pt x="35" y="0"/>
                      <a:pt x="11" y="0"/>
                      <a:pt x="11" y="0"/>
                    </a:cubicBezTo>
                    <a:cubicBezTo>
                      <a:pt x="12" y="1"/>
                      <a:pt x="12" y="3"/>
                      <a:pt x="11" y="6"/>
                    </a:cubicBezTo>
                    <a:cubicBezTo>
                      <a:pt x="11" y="6"/>
                      <a:pt x="11" y="6"/>
                      <a:pt x="11" y="6"/>
                    </a:cubicBezTo>
                    <a:cubicBezTo>
                      <a:pt x="7" y="16"/>
                      <a:pt x="2" y="34"/>
                      <a:pt x="1" y="35"/>
                    </a:cubicBezTo>
                    <a:cubicBezTo>
                      <a:pt x="0" y="38"/>
                      <a:pt x="1" y="41"/>
                      <a:pt x="4" y="41"/>
                    </a:cubicBezTo>
                    <a:cubicBezTo>
                      <a:pt x="5" y="41"/>
                      <a:pt x="5" y="41"/>
                      <a:pt x="5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3" y="41"/>
                      <a:pt x="13" y="41"/>
                      <a:pt x="13" y="41"/>
                    </a:cubicBezTo>
                    <a:cubicBezTo>
                      <a:pt x="18" y="41"/>
                      <a:pt x="18" y="41"/>
                      <a:pt x="18" y="41"/>
                    </a:cubicBezTo>
                    <a:cubicBezTo>
                      <a:pt x="17" y="40"/>
                      <a:pt x="17" y="38"/>
                      <a:pt x="17" y="35"/>
                    </a:cubicBezTo>
                    <a:cubicBezTo>
                      <a:pt x="27" y="7"/>
                      <a:pt x="27" y="7"/>
                      <a:pt x="27" y="7"/>
                    </a:cubicBezTo>
                    <a:cubicBezTo>
                      <a:pt x="28" y="7"/>
                      <a:pt x="34" y="7"/>
                      <a:pt x="35" y="7"/>
                    </a:cubicBezTo>
                    <a:cubicBezTo>
                      <a:pt x="38" y="7"/>
                      <a:pt x="39" y="9"/>
                      <a:pt x="38" y="11"/>
                    </a:cubicBezTo>
                    <a:cubicBezTo>
                      <a:pt x="37" y="13"/>
                      <a:pt x="31" y="33"/>
                      <a:pt x="30" y="35"/>
                    </a:cubicBezTo>
                    <a:cubicBezTo>
                      <a:pt x="29" y="38"/>
                      <a:pt x="30" y="41"/>
                      <a:pt x="33" y="41"/>
                    </a:cubicBezTo>
                    <a:cubicBezTo>
                      <a:pt x="34" y="41"/>
                      <a:pt x="34" y="41"/>
                      <a:pt x="34" y="41"/>
                    </a:cubicBezTo>
                    <a:cubicBezTo>
                      <a:pt x="42" y="41"/>
                      <a:pt x="42" y="41"/>
                      <a:pt x="42" y="41"/>
                    </a:cubicBezTo>
                    <a:cubicBezTo>
                      <a:pt x="42" y="41"/>
                      <a:pt x="42" y="41"/>
                      <a:pt x="42" y="41"/>
                    </a:cubicBezTo>
                    <a:cubicBezTo>
                      <a:pt x="46" y="41"/>
                      <a:pt x="46" y="41"/>
                      <a:pt x="46" y="41"/>
                    </a:cubicBezTo>
                    <a:cubicBezTo>
                      <a:pt x="45" y="40"/>
                      <a:pt x="45" y="38"/>
                      <a:pt x="46" y="35"/>
                    </a:cubicBezTo>
                    <a:lnTo>
                      <a:pt x="53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760" bIns="1476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Freeform 15"/>
              <p:cNvSpPr/>
              <p:nvPr/>
            </p:nvSpPr>
            <p:spPr>
              <a:xfrm>
                <a:off x="467280" y="903960"/>
                <a:ext cx="54000" cy="83880"/>
              </a:xfrm>
              <a:custGeom>
                <a:avLst/>
                <a:gdLst/>
                <a:ahLst/>
                <a:rect l="l" t="t" r="r" b="b"/>
                <a:pathLst>
                  <a:path w="36" h="56">
                    <a:moveTo>
                      <a:pt x="28" y="15"/>
                    </a:moveTo>
                    <a:cubicBezTo>
                      <a:pt x="29" y="10"/>
                      <a:pt x="31" y="6"/>
                      <a:pt x="31" y="6"/>
                    </a:cubicBezTo>
                    <a:cubicBezTo>
                      <a:pt x="32" y="3"/>
                      <a:pt x="31" y="0"/>
                      <a:pt x="28" y="0"/>
                    </a:cubicBezTo>
                    <a:cubicBezTo>
                      <a:pt x="27" y="0"/>
                      <a:pt x="27" y="0"/>
                      <a:pt x="27" y="0"/>
                    </a:cubicBezTo>
                    <a:cubicBezTo>
                      <a:pt x="14" y="0"/>
                      <a:pt x="14" y="0"/>
                      <a:pt x="14" y="0"/>
                    </a:cubicBezTo>
                    <a:cubicBezTo>
                      <a:pt x="15" y="1"/>
                      <a:pt x="15" y="3"/>
                      <a:pt x="14" y="6"/>
                    </a:cubicBezTo>
                    <a:cubicBezTo>
                      <a:pt x="12" y="15"/>
                      <a:pt x="12" y="15"/>
                      <a:pt x="12" y="15"/>
                    </a:cubicBezTo>
                    <a:cubicBezTo>
                      <a:pt x="9" y="15"/>
                      <a:pt x="8" y="15"/>
                      <a:pt x="7" y="15"/>
                    </a:cubicBezTo>
                    <a:cubicBezTo>
                      <a:pt x="6" y="15"/>
                      <a:pt x="5" y="15"/>
                      <a:pt x="4" y="16"/>
                    </a:cubicBezTo>
                    <a:cubicBezTo>
                      <a:pt x="3" y="18"/>
                      <a:pt x="2" y="21"/>
                      <a:pt x="2" y="22"/>
                    </a:cubicBezTo>
                    <a:cubicBezTo>
                      <a:pt x="2" y="22"/>
                      <a:pt x="5" y="22"/>
                      <a:pt x="9" y="22"/>
                    </a:cubicBezTo>
                    <a:cubicBezTo>
                      <a:pt x="2" y="43"/>
                      <a:pt x="2" y="43"/>
                      <a:pt x="2" y="43"/>
                    </a:cubicBezTo>
                    <a:cubicBezTo>
                      <a:pt x="0" y="52"/>
                      <a:pt x="2" y="56"/>
                      <a:pt x="11" y="56"/>
                    </a:cubicBezTo>
                    <a:cubicBezTo>
                      <a:pt x="14" y="56"/>
                      <a:pt x="17" y="56"/>
                      <a:pt x="20" y="56"/>
                    </a:cubicBezTo>
                    <a:cubicBezTo>
                      <a:pt x="21" y="56"/>
                      <a:pt x="21" y="56"/>
                      <a:pt x="22" y="56"/>
                    </a:cubicBezTo>
                    <a:cubicBezTo>
                      <a:pt x="23" y="56"/>
                      <a:pt x="25" y="55"/>
                      <a:pt x="25" y="54"/>
                    </a:cubicBezTo>
                    <a:cubicBezTo>
                      <a:pt x="26" y="53"/>
                      <a:pt x="28" y="48"/>
                      <a:pt x="28" y="48"/>
                    </a:cubicBezTo>
                    <a:cubicBezTo>
                      <a:pt x="27" y="48"/>
                      <a:pt x="26" y="48"/>
                      <a:pt x="25" y="48"/>
                    </a:cubicBezTo>
                    <a:cubicBezTo>
                      <a:pt x="25" y="48"/>
                      <a:pt x="21" y="48"/>
                      <a:pt x="21" y="48"/>
                    </a:cubicBezTo>
                    <a:cubicBezTo>
                      <a:pt x="18" y="48"/>
                      <a:pt x="17" y="47"/>
                      <a:pt x="18" y="45"/>
                    </a:cubicBezTo>
                    <a:cubicBezTo>
                      <a:pt x="18" y="44"/>
                      <a:pt x="22" y="32"/>
                      <a:pt x="25" y="22"/>
                    </a:cubicBezTo>
                    <a:cubicBezTo>
                      <a:pt x="28" y="22"/>
                      <a:pt x="29" y="22"/>
                      <a:pt x="30" y="22"/>
                    </a:cubicBezTo>
                    <a:cubicBezTo>
                      <a:pt x="31" y="22"/>
                      <a:pt x="32" y="22"/>
                      <a:pt x="33" y="21"/>
                    </a:cubicBezTo>
                    <a:cubicBezTo>
                      <a:pt x="34" y="19"/>
                      <a:pt x="35" y="16"/>
                      <a:pt x="36" y="15"/>
                    </a:cubicBezTo>
                    <a:cubicBezTo>
                      <a:pt x="36" y="15"/>
                      <a:pt x="32" y="15"/>
                      <a:pt x="28" y="15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>
                <a:off x="122760" y="753840"/>
                <a:ext cx="272520" cy="153360"/>
              </a:xfrm>
              <a:custGeom>
                <a:avLst/>
                <a:gdLst/>
                <a:ahLst/>
                <a:rect l="l" t="t" r="r" b="b"/>
                <a:pathLst>
                  <a:path w="181" h="102">
                    <a:moveTo>
                      <a:pt x="180" y="23"/>
                    </a:moveTo>
                    <a:cubicBezTo>
                      <a:pt x="178" y="22"/>
                      <a:pt x="171" y="13"/>
                      <a:pt x="166" y="9"/>
                    </a:cubicBezTo>
                    <a:cubicBezTo>
                      <a:pt x="165" y="8"/>
                      <a:pt x="163" y="7"/>
                      <a:pt x="162" y="7"/>
                    </a:cubicBezTo>
                    <a:cubicBezTo>
                      <a:pt x="162" y="5"/>
                      <a:pt x="163" y="4"/>
                      <a:pt x="163" y="3"/>
                    </a:cubicBezTo>
                    <a:cubicBezTo>
                      <a:pt x="163" y="2"/>
                      <a:pt x="163" y="0"/>
                      <a:pt x="161" y="2"/>
                    </a:cubicBezTo>
                    <a:cubicBezTo>
                      <a:pt x="160" y="3"/>
                      <a:pt x="158" y="4"/>
                      <a:pt x="156" y="6"/>
                    </a:cubicBezTo>
                    <a:cubicBezTo>
                      <a:pt x="155" y="4"/>
                      <a:pt x="153" y="5"/>
                      <a:pt x="152" y="5"/>
                    </a:cubicBezTo>
                    <a:cubicBezTo>
                      <a:pt x="151" y="4"/>
                      <a:pt x="151" y="6"/>
                      <a:pt x="150" y="5"/>
                    </a:cubicBezTo>
                    <a:cubicBezTo>
                      <a:pt x="148" y="5"/>
                      <a:pt x="149" y="3"/>
                      <a:pt x="150" y="3"/>
                    </a:cubicBezTo>
                    <a:cubicBezTo>
                      <a:pt x="148" y="2"/>
                      <a:pt x="147" y="5"/>
                      <a:pt x="147" y="6"/>
                    </a:cubicBezTo>
                    <a:cubicBezTo>
                      <a:pt x="146" y="6"/>
                      <a:pt x="146" y="5"/>
                      <a:pt x="144" y="4"/>
                    </a:cubicBezTo>
                    <a:cubicBezTo>
                      <a:pt x="143" y="4"/>
                      <a:pt x="141" y="5"/>
                      <a:pt x="140" y="6"/>
                    </a:cubicBezTo>
                    <a:cubicBezTo>
                      <a:pt x="141" y="5"/>
                      <a:pt x="143" y="5"/>
                      <a:pt x="143" y="6"/>
                    </a:cubicBezTo>
                    <a:cubicBezTo>
                      <a:pt x="143" y="8"/>
                      <a:pt x="139" y="7"/>
                      <a:pt x="140" y="9"/>
                    </a:cubicBezTo>
                    <a:cubicBezTo>
                      <a:pt x="138" y="10"/>
                      <a:pt x="137" y="11"/>
                      <a:pt x="136" y="12"/>
                    </a:cubicBezTo>
                    <a:cubicBezTo>
                      <a:pt x="137" y="12"/>
                      <a:pt x="140" y="11"/>
                      <a:pt x="142" y="12"/>
                    </a:cubicBezTo>
                    <a:cubicBezTo>
                      <a:pt x="140" y="12"/>
                      <a:pt x="135" y="13"/>
                      <a:pt x="134" y="15"/>
                    </a:cubicBezTo>
                    <a:cubicBezTo>
                      <a:pt x="132" y="13"/>
                      <a:pt x="129" y="11"/>
                      <a:pt x="127" y="13"/>
                    </a:cubicBezTo>
                    <a:cubicBezTo>
                      <a:pt x="129" y="11"/>
                      <a:pt x="132" y="13"/>
                      <a:pt x="133" y="16"/>
                    </a:cubicBezTo>
                    <a:cubicBezTo>
                      <a:pt x="129" y="15"/>
                      <a:pt x="124" y="10"/>
                      <a:pt x="122" y="13"/>
                    </a:cubicBezTo>
                    <a:cubicBezTo>
                      <a:pt x="124" y="12"/>
                      <a:pt x="126" y="14"/>
                      <a:pt x="128" y="15"/>
                    </a:cubicBezTo>
                    <a:cubicBezTo>
                      <a:pt x="129" y="16"/>
                      <a:pt x="129" y="17"/>
                      <a:pt x="130" y="18"/>
                    </a:cubicBezTo>
                    <a:cubicBezTo>
                      <a:pt x="126" y="19"/>
                      <a:pt x="120" y="19"/>
                      <a:pt x="118" y="18"/>
                    </a:cubicBezTo>
                    <a:cubicBezTo>
                      <a:pt x="119" y="20"/>
                      <a:pt x="126" y="21"/>
                      <a:pt x="127" y="21"/>
                    </a:cubicBezTo>
                    <a:cubicBezTo>
                      <a:pt x="126" y="22"/>
                      <a:pt x="116" y="21"/>
                      <a:pt x="114" y="20"/>
                    </a:cubicBezTo>
                    <a:cubicBezTo>
                      <a:pt x="117" y="22"/>
                      <a:pt x="122" y="23"/>
                      <a:pt x="125" y="23"/>
                    </a:cubicBezTo>
                    <a:cubicBezTo>
                      <a:pt x="120" y="27"/>
                      <a:pt x="115" y="22"/>
                      <a:pt x="111" y="26"/>
                    </a:cubicBezTo>
                    <a:cubicBezTo>
                      <a:pt x="115" y="25"/>
                      <a:pt x="119" y="26"/>
                      <a:pt x="120" y="26"/>
                    </a:cubicBezTo>
                    <a:cubicBezTo>
                      <a:pt x="115" y="26"/>
                      <a:pt x="112" y="27"/>
                      <a:pt x="110" y="28"/>
                    </a:cubicBezTo>
                    <a:cubicBezTo>
                      <a:pt x="115" y="26"/>
                      <a:pt x="116" y="28"/>
                      <a:pt x="119" y="28"/>
                    </a:cubicBezTo>
                    <a:cubicBezTo>
                      <a:pt x="118" y="29"/>
                      <a:pt x="118" y="29"/>
                      <a:pt x="118" y="29"/>
                    </a:cubicBezTo>
                    <a:cubicBezTo>
                      <a:pt x="111" y="30"/>
                      <a:pt x="99" y="32"/>
                      <a:pt x="85" y="26"/>
                    </a:cubicBezTo>
                    <a:cubicBezTo>
                      <a:pt x="83" y="25"/>
                      <a:pt x="82" y="25"/>
                      <a:pt x="79" y="25"/>
                    </a:cubicBezTo>
                    <a:cubicBezTo>
                      <a:pt x="75" y="25"/>
                      <a:pt x="70" y="27"/>
                      <a:pt x="67" y="29"/>
                    </a:cubicBezTo>
                    <a:cubicBezTo>
                      <a:pt x="66" y="28"/>
                      <a:pt x="64" y="27"/>
                      <a:pt x="63" y="27"/>
                    </a:cubicBezTo>
                    <a:cubicBezTo>
                      <a:pt x="62" y="26"/>
                      <a:pt x="62" y="26"/>
                      <a:pt x="61" y="26"/>
                    </a:cubicBezTo>
                    <a:cubicBezTo>
                      <a:pt x="53" y="21"/>
                      <a:pt x="25" y="19"/>
                      <a:pt x="29" y="8"/>
                    </a:cubicBezTo>
                    <a:cubicBezTo>
                      <a:pt x="27" y="13"/>
                      <a:pt x="29" y="16"/>
                      <a:pt x="32" y="19"/>
                    </a:cubicBezTo>
                    <a:cubicBezTo>
                      <a:pt x="18" y="17"/>
                      <a:pt x="5" y="13"/>
                      <a:pt x="0" y="3"/>
                    </a:cubicBezTo>
                    <a:cubicBezTo>
                      <a:pt x="1" y="10"/>
                      <a:pt x="2" y="15"/>
                      <a:pt x="4" y="18"/>
                    </a:cubicBezTo>
                    <a:cubicBezTo>
                      <a:pt x="2" y="18"/>
                      <a:pt x="1" y="16"/>
                      <a:pt x="0" y="15"/>
                    </a:cubicBezTo>
                    <a:cubicBezTo>
                      <a:pt x="1" y="19"/>
                      <a:pt x="3" y="23"/>
                      <a:pt x="8" y="24"/>
                    </a:cubicBezTo>
                    <a:cubicBezTo>
                      <a:pt x="6" y="25"/>
                      <a:pt x="4" y="24"/>
                      <a:pt x="3" y="24"/>
                    </a:cubicBezTo>
                    <a:cubicBezTo>
                      <a:pt x="5" y="27"/>
                      <a:pt x="13" y="29"/>
                      <a:pt x="22" y="30"/>
                    </a:cubicBezTo>
                    <a:cubicBezTo>
                      <a:pt x="28" y="31"/>
                      <a:pt x="36" y="30"/>
                      <a:pt x="46" y="29"/>
                    </a:cubicBezTo>
                    <a:cubicBezTo>
                      <a:pt x="53" y="28"/>
                      <a:pt x="59" y="29"/>
                      <a:pt x="64" y="31"/>
                    </a:cubicBezTo>
                    <a:cubicBezTo>
                      <a:pt x="63" y="32"/>
                      <a:pt x="63" y="33"/>
                      <a:pt x="62" y="33"/>
                    </a:cubicBezTo>
                    <a:cubicBezTo>
                      <a:pt x="58" y="40"/>
                      <a:pt x="61" y="53"/>
                      <a:pt x="65" y="58"/>
                    </a:cubicBezTo>
                    <a:cubicBezTo>
                      <a:pt x="65" y="59"/>
                      <a:pt x="66" y="60"/>
                      <a:pt x="67" y="60"/>
                    </a:cubicBezTo>
                    <a:cubicBezTo>
                      <a:pt x="69" y="62"/>
                      <a:pt x="71" y="65"/>
                      <a:pt x="71" y="67"/>
                    </a:cubicBezTo>
                    <a:cubicBezTo>
                      <a:pt x="71" y="67"/>
                      <a:pt x="71" y="67"/>
                      <a:pt x="71" y="67"/>
                    </a:cubicBezTo>
                    <a:cubicBezTo>
                      <a:pt x="71" y="68"/>
                      <a:pt x="71" y="69"/>
                      <a:pt x="71" y="69"/>
                    </a:cubicBezTo>
                    <a:cubicBezTo>
                      <a:pt x="72" y="70"/>
                      <a:pt x="72" y="71"/>
                      <a:pt x="73" y="71"/>
                    </a:cubicBezTo>
                    <a:cubicBezTo>
                      <a:pt x="73" y="72"/>
                      <a:pt x="72" y="73"/>
                      <a:pt x="72" y="73"/>
                    </a:cubicBezTo>
                    <a:cubicBezTo>
                      <a:pt x="71" y="76"/>
                      <a:pt x="71" y="77"/>
                      <a:pt x="74" y="79"/>
                    </a:cubicBezTo>
                    <a:cubicBezTo>
                      <a:pt x="79" y="84"/>
                      <a:pt x="83" y="87"/>
                      <a:pt x="86" y="90"/>
                    </a:cubicBezTo>
                    <a:cubicBezTo>
                      <a:pt x="88" y="92"/>
                      <a:pt x="87" y="94"/>
                      <a:pt x="90" y="95"/>
                    </a:cubicBezTo>
                    <a:cubicBezTo>
                      <a:pt x="91" y="96"/>
                      <a:pt x="91" y="97"/>
                      <a:pt x="91" y="97"/>
                    </a:cubicBezTo>
                    <a:cubicBezTo>
                      <a:pt x="90" y="99"/>
                      <a:pt x="91" y="100"/>
                      <a:pt x="92" y="101"/>
                    </a:cubicBezTo>
                    <a:cubicBezTo>
                      <a:pt x="94" y="102"/>
                      <a:pt x="97" y="102"/>
                      <a:pt x="99" y="101"/>
                    </a:cubicBezTo>
                    <a:cubicBezTo>
                      <a:pt x="99" y="100"/>
                      <a:pt x="98" y="99"/>
                      <a:pt x="98" y="98"/>
                    </a:cubicBezTo>
                    <a:cubicBezTo>
                      <a:pt x="96" y="97"/>
                      <a:pt x="96" y="96"/>
                      <a:pt x="95" y="94"/>
                    </a:cubicBezTo>
                    <a:cubicBezTo>
                      <a:pt x="94" y="91"/>
                      <a:pt x="92" y="91"/>
                      <a:pt x="87" y="86"/>
                    </a:cubicBezTo>
                    <a:cubicBezTo>
                      <a:pt x="87" y="86"/>
                      <a:pt x="87" y="86"/>
                      <a:pt x="87" y="86"/>
                    </a:cubicBezTo>
                    <a:cubicBezTo>
                      <a:pt x="86" y="84"/>
                      <a:pt x="84" y="82"/>
                      <a:pt x="83" y="80"/>
                    </a:cubicBezTo>
                    <a:cubicBezTo>
                      <a:pt x="82" y="79"/>
                      <a:pt x="82" y="79"/>
                      <a:pt x="82" y="77"/>
                    </a:cubicBezTo>
                    <a:cubicBezTo>
                      <a:pt x="83" y="75"/>
                      <a:pt x="84" y="74"/>
                      <a:pt x="84" y="72"/>
                    </a:cubicBezTo>
                    <a:cubicBezTo>
                      <a:pt x="88" y="72"/>
                      <a:pt x="93" y="72"/>
                      <a:pt x="93" y="72"/>
                    </a:cubicBezTo>
                    <a:cubicBezTo>
                      <a:pt x="94" y="74"/>
                      <a:pt x="96" y="74"/>
                      <a:pt x="98" y="73"/>
                    </a:cubicBezTo>
                    <a:cubicBezTo>
                      <a:pt x="98" y="73"/>
                      <a:pt x="98" y="74"/>
                      <a:pt x="98" y="74"/>
                    </a:cubicBezTo>
                    <a:cubicBezTo>
                      <a:pt x="97" y="74"/>
                      <a:pt x="97" y="76"/>
                      <a:pt x="97" y="77"/>
                    </a:cubicBezTo>
                    <a:cubicBezTo>
                      <a:pt x="97" y="79"/>
                      <a:pt x="100" y="81"/>
                      <a:pt x="102" y="80"/>
                    </a:cubicBezTo>
                    <a:cubicBezTo>
                      <a:pt x="103" y="80"/>
                      <a:pt x="103" y="79"/>
                      <a:pt x="103" y="78"/>
                    </a:cubicBezTo>
                    <a:cubicBezTo>
                      <a:pt x="103" y="75"/>
                      <a:pt x="102" y="72"/>
                      <a:pt x="102" y="71"/>
                    </a:cubicBezTo>
                    <a:cubicBezTo>
                      <a:pt x="102" y="69"/>
                      <a:pt x="100" y="67"/>
                      <a:pt x="97" y="68"/>
                    </a:cubicBezTo>
                    <a:cubicBezTo>
                      <a:pt x="92" y="67"/>
                      <a:pt x="92" y="67"/>
                      <a:pt x="92" y="67"/>
                    </a:cubicBezTo>
                    <a:cubicBezTo>
                      <a:pt x="92" y="67"/>
                      <a:pt x="90" y="67"/>
                      <a:pt x="88" y="67"/>
                    </a:cubicBezTo>
                    <a:cubicBezTo>
                      <a:pt x="88" y="67"/>
                      <a:pt x="88" y="67"/>
                      <a:pt x="88" y="67"/>
                    </a:cubicBezTo>
                    <a:cubicBezTo>
                      <a:pt x="95" y="62"/>
                      <a:pt x="97" y="55"/>
                      <a:pt x="96" y="46"/>
                    </a:cubicBezTo>
                    <a:cubicBezTo>
                      <a:pt x="96" y="46"/>
                      <a:pt x="98" y="52"/>
                      <a:pt x="97" y="58"/>
                    </a:cubicBezTo>
                    <a:cubicBezTo>
                      <a:pt x="104" y="62"/>
                      <a:pt x="116" y="65"/>
                      <a:pt x="128" y="64"/>
                    </a:cubicBezTo>
                    <a:cubicBezTo>
                      <a:pt x="128" y="65"/>
                      <a:pt x="128" y="65"/>
                      <a:pt x="128" y="65"/>
                    </a:cubicBezTo>
                    <a:cubicBezTo>
                      <a:pt x="132" y="68"/>
                      <a:pt x="139" y="71"/>
                      <a:pt x="143" y="72"/>
                    </a:cubicBezTo>
                    <a:cubicBezTo>
                      <a:pt x="143" y="72"/>
                      <a:pt x="143" y="72"/>
                      <a:pt x="143" y="72"/>
                    </a:cubicBezTo>
                    <a:cubicBezTo>
                      <a:pt x="143" y="73"/>
                      <a:pt x="143" y="73"/>
                      <a:pt x="143" y="74"/>
                    </a:cubicBezTo>
                    <a:cubicBezTo>
                      <a:pt x="141" y="74"/>
                      <a:pt x="136" y="76"/>
                      <a:pt x="135" y="76"/>
                    </a:cubicBezTo>
                    <a:cubicBezTo>
                      <a:pt x="134" y="76"/>
                      <a:pt x="133" y="76"/>
                      <a:pt x="133" y="76"/>
                    </a:cubicBezTo>
                    <a:cubicBezTo>
                      <a:pt x="131" y="77"/>
                      <a:pt x="131" y="77"/>
                      <a:pt x="130" y="78"/>
                    </a:cubicBezTo>
                    <a:cubicBezTo>
                      <a:pt x="130" y="79"/>
                      <a:pt x="128" y="78"/>
                      <a:pt x="128" y="77"/>
                    </a:cubicBezTo>
                    <a:cubicBezTo>
                      <a:pt x="127" y="77"/>
                      <a:pt x="127" y="77"/>
                      <a:pt x="126" y="76"/>
                    </a:cubicBezTo>
                    <a:cubicBezTo>
                      <a:pt x="124" y="77"/>
                      <a:pt x="121" y="79"/>
                      <a:pt x="120" y="80"/>
                    </a:cubicBezTo>
                    <a:cubicBezTo>
                      <a:pt x="121" y="80"/>
                      <a:pt x="121" y="81"/>
                      <a:pt x="123" y="81"/>
                    </a:cubicBezTo>
                    <a:cubicBezTo>
                      <a:pt x="126" y="82"/>
                      <a:pt x="127" y="82"/>
                      <a:pt x="129" y="82"/>
                    </a:cubicBezTo>
                    <a:cubicBezTo>
                      <a:pt x="130" y="83"/>
                      <a:pt x="132" y="83"/>
                      <a:pt x="133" y="82"/>
                    </a:cubicBezTo>
                    <a:cubicBezTo>
                      <a:pt x="134" y="81"/>
                      <a:pt x="135" y="81"/>
                      <a:pt x="136" y="81"/>
                    </a:cubicBezTo>
                    <a:cubicBezTo>
                      <a:pt x="141" y="79"/>
                      <a:pt x="146" y="77"/>
                      <a:pt x="149" y="76"/>
                    </a:cubicBezTo>
                    <a:cubicBezTo>
                      <a:pt x="149" y="76"/>
                      <a:pt x="149" y="76"/>
                      <a:pt x="150" y="75"/>
                    </a:cubicBezTo>
                    <a:cubicBezTo>
                      <a:pt x="150" y="74"/>
                      <a:pt x="151" y="73"/>
                      <a:pt x="151" y="72"/>
                    </a:cubicBezTo>
                    <a:cubicBezTo>
                      <a:pt x="151" y="71"/>
                      <a:pt x="150" y="70"/>
                      <a:pt x="150" y="70"/>
                    </a:cubicBezTo>
                    <a:cubicBezTo>
                      <a:pt x="148" y="68"/>
                      <a:pt x="146" y="67"/>
                      <a:pt x="145" y="66"/>
                    </a:cubicBezTo>
                    <a:cubicBezTo>
                      <a:pt x="135" y="67"/>
                      <a:pt x="128" y="63"/>
                      <a:pt x="127" y="60"/>
                    </a:cubicBezTo>
                    <a:cubicBezTo>
                      <a:pt x="131" y="63"/>
                      <a:pt x="138" y="66"/>
                      <a:pt x="146" y="64"/>
                    </a:cubicBezTo>
                    <a:cubicBezTo>
                      <a:pt x="150" y="64"/>
                      <a:pt x="153" y="64"/>
                      <a:pt x="159" y="65"/>
                    </a:cubicBezTo>
                    <a:cubicBezTo>
                      <a:pt x="159" y="65"/>
                      <a:pt x="160" y="65"/>
                      <a:pt x="161" y="65"/>
                    </a:cubicBezTo>
                    <a:cubicBezTo>
                      <a:pt x="161" y="65"/>
                      <a:pt x="161" y="66"/>
                      <a:pt x="162" y="66"/>
                    </a:cubicBezTo>
                    <a:cubicBezTo>
                      <a:pt x="162" y="67"/>
                      <a:pt x="162" y="67"/>
                      <a:pt x="162" y="68"/>
                    </a:cubicBezTo>
                    <a:cubicBezTo>
                      <a:pt x="161" y="72"/>
                      <a:pt x="160" y="75"/>
                      <a:pt x="160" y="78"/>
                    </a:cubicBezTo>
                    <a:cubicBezTo>
                      <a:pt x="159" y="78"/>
                      <a:pt x="159" y="78"/>
                      <a:pt x="159" y="79"/>
                    </a:cubicBezTo>
                    <a:cubicBezTo>
                      <a:pt x="158" y="80"/>
                      <a:pt x="158" y="81"/>
                      <a:pt x="158" y="82"/>
                    </a:cubicBezTo>
                    <a:cubicBezTo>
                      <a:pt x="158" y="82"/>
                      <a:pt x="158" y="82"/>
                      <a:pt x="158" y="82"/>
                    </a:cubicBezTo>
                    <a:cubicBezTo>
                      <a:pt x="157" y="83"/>
                      <a:pt x="156" y="83"/>
                      <a:pt x="155" y="83"/>
                    </a:cubicBezTo>
                    <a:cubicBezTo>
                      <a:pt x="154" y="83"/>
                      <a:pt x="153" y="83"/>
                      <a:pt x="153" y="84"/>
                    </a:cubicBezTo>
                    <a:cubicBezTo>
                      <a:pt x="152" y="86"/>
                      <a:pt x="152" y="88"/>
                      <a:pt x="153" y="90"/>
                    </a:cubicBezTo>
                    <a:cubicBezTo>
                      <a:pt x="154" y="90"/>
                      <a:pt x="155" y="89"/>
                      <a:pt x="156" y="89"/>
                    </a:cubicBezTo>
                    <a:cubicBezTo>
                      <a:pt x="159" y="87"/>
                      <a:pt x="160" y="85"/>
                      <a:pt x="162" y="84"/>
                    </a:cubicBezTo>
                    <a:cubicBezTo>
                      <a:pt x="163" y="83"/>
                      <a:pt x="164" y="83"/>
                      <a:pt x="164" y="82"/>
                    </a:cubicBezTo>
                    <a:cubicBezTo>
                      <a:pt x="165" y="81"/>
                      <a:pt x="165" y="80"/>
                      <a:pt x="165" y="78"/>
                    </a:cubicBezTo>
                    <a:cubicBezTo>
                      <a:pt x="165" y="78"/>
                      <a:pt x="165" y="78"/>
                      <a:pt x="165" y="78"/>
                    </a:cubicBezTo>
                    <a:cubicBezTo>
                      <a:pt x="165" y="76"/>
                      <a:pt x="166" y="73"/>
                      <a:pt x="166" y="70"/>
                    </a:cubicBezTo>
                    <a:cubicBezTo>
                      <a:pt x="166" y="68"/>
                      <a:pt x="167" y="68"/>
                      <a:pt x="167" y="66"/>
                    </a:cubicBezTo>
                    <a:cubicBezTo>
                      <a:pt x="167" y="66"/>
                      <a:pt x="168" y="65"/>
                      <a:pt x="167" y="64"/>
                    </a:cubicBezTo>
                    <a:cubicBezTo>
                      <a:pt x="167" y="62"/>
                      <a:pt x="167" y="62"/>
                      <a:pt x="165" y="60"/>
                    </a:cubicBezTo>
                    <a:cubicBezTo>
                      <a:pt x="164" y="60"/>
                      <a:pt x="163" y="59"/>
                      <a:pt x="162" y="59"/>
                    </a:cubicBezTo>
                    <a:cubicBezTo>
                      <a:pt x="158" y="58"/>
                      <a:pt x="153" y="55"/>
                      <a:pt x="147" y="53"/>
                    </a:cubicBezTo>
                    <a:cubicBezTo>
                      <a:pt x="148" y="50"/>
                      <a:pt x="148" y="47"/>
                      <a:pt x="149" y="42"/>
                    </a:cubicBezTo>
                    <a:cubicBezTo>
                      <a:pt x="149" y="35"/>
                      <a:pt x="152" y="31"/>
                      <a:pt x="155" y="28"/>
                    </a:cubicBezTo>
                    <a:cubicBezTo>
                      <a:pt x="157" y="25"/>
                      <a:pt x="159" y="24"/>
                      <a:pt x="160" y="24"/>
                    </a:cubicBezTo>
                    <a:cubicBezTo>
                      <a:pt x="160" y="22"/>
                      <a:pt x="161" y="20"/>
                      <a:pt x="161" y="20"/>
                    </a:cubicBezTo>
                    <a:cubicBezTo>
                      <a:pt x="161" y="20"/>
                      <a:pt x="162" y="23"/>
                      <a:pt x="163" y="24"/>
                    </a:cubicBezTo>
                    <a:cubicBezTo>
                      <a:pt x="164" y="25"/>
                      <a:pt x="165" y="27"/>
                      <a:pt x="168" y="26"/>
                    </a:cubicBezTo>
                    <a:cubicBezTo>
                      <a:pt x="170" y="27"/>
                      <a:pt x="173" y="27"/>
                      <a:pt x="174" y="29"/>
                    </a:cubicBezTo>
                    <a:cubicBezTo>
                      <a:pt x="174" y="30"/>
                      <a:pt x="176" y="31"/>
                      <a:pt x="177" y="30"/>
                    </a:cubicBezTo>
                    <a:cubicBezTo>
                      <a:pt x="177" y="30"/>
                      <a:pt x="177" y="29"/>
                      <a:pt x="177" y="29"/>
                    </a:cubicBezTo>
                    <a:cubicBezTo>
                      <a:pt x="176" y="29"/>
                      <a:pt x="175" y="28"/>
                      <a:pt x="174" y="27"/>
                    </a:cubicBezTo>
                    <a:cubicBezTo>
                      <a:pt x="175" y="27"/>
                      <a:pt x="175" y="27"/>
                      <a:pt x="175" y="27"/>
                    </a:cubicBezTo>
                    <a:cubicBezTo>
                      <a:pt x="176" y="27"/>
                      <a:pt x="177" y="29"/>
                      <a:pt x="178" y="29"/>
                    </a:cubicBezTo>
                    <a:cubicBezTo>
                      <a:pt x="178" y="29"/>
                      <a:pt x="178" y="29"/>
                      <a:pt x="178" y="29"/>
                    </a:cubicBezTo>
                    <a:cubicBezTo>
                      <a:pt x="179" y="29"/>
                      <a:pt x="179" y="29"/>
                      <a:pt x="180" y="28"/>
                    </a:cubicBezTo>
                    <a:cubicBezTo>
                      <a:pt x="179" y="27"/>
                      <a:pt x="179" y="27"/>
                      <a:pt x="179" y="26"/>
                    </a:cubicBezTo>
                    <a:cubicBezTo>
                      <a:pt x="180" y="26"/>
                      <a:pt x="180" y="26"/>
                      <a:pt x="180" y="26"/>
                    </a:cubicBezTo>
                    <a:cubicBezTo>
                      <a:pt x="180" y="27"/>
                      <a:pt x="180" y="27"/>
                      <a:pt x="180" y="27"/>
                    </a:cubicBezTo>
                    <a:cubicBezTo>
                      <a:pt x="181" y="26"/>
                      <a:pt x="181" y="24"/>
                      <a:pt x="180" y="23"/>
                    </a:cubicBezTo>
                    <a:close/>
                    <a:moveTo>
                      <a:pt x="144" y="48"/>
                    </a:moveTo>
                    <a:cubicBezTo>
                      <a:pt x="142" y="38"/>
                      <a:pt x="138" y="35"/>
                      <a:pt x="130" y="33"/>
                    </a:cubicBezTo>
                    <a:cubicBezTo>
                      <a:pt x="141" y="34"/>
                      <a:pt x="144" y="39"/>
                      <a:pt x="144" y="48"/>
                    </a:cubicBezTo>
                    <a:close/>
                    <a:moveTo>
                      <a:pt x="172" y="17"/>
                    </a:moveTo>
                    <a:cubicBezTo>
                      <a:pt x="171" y="18"/>
                      <a:pt x="171" y="17"/>
                      <a:pt x="171" y="17"/>
                    </a:cubicBezTo>
                    <a:cubicBezTo>
                      <a:pt x="170" y="17"/>
                      <a:pt x="169" y="15"/>
                      <a:pt x="169" y="15"/>
                    </a:cubicBezTo>
                    <a:cubicBezTo>
                      <a:pt x="169" y="15"/>
                      <a:pt x="171" y="16"/>
                      <a:pt x="172" y="16"/>
                    </a:cubicBezTo>
                    <a:cubicBezTo>
                      <a:pt x="172" y="17"/>
                      <a:pt x="172" y="17"/>
                      <a:pt x="172" y="17"/>
                    </a:cubicBez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92" name="グループ化 68"/>
          <p:cNvGrpSpPr/>
          <p:nvPr/>
        </p:nvGrpSpPr>
        <p:grpSpPr>
          <a:xfrm>
            <a:off x="1254240" y="1325520"/>
            <a:ext cx="8042040" cy="6566040"/>
            <a:chOff x="1254240" y="1325520"/>
            <a:chExt cx="8042040" cy="6566040"/>
          </a:xfrm>
        </p:grpSpPr>
        <p:grpSp>
          <p:nvGrpSpPr>
            <p:cNvPr id="93" name="object 5"/>
            <p:cNvGrpSpPr/>
            <p:nvPr/>
          </p:nvGrpSpPr>
          <p:grpSpPr>
            <a:xfrm>
              <a:off x="1277280" y="7432560"/>
              <a:ext cx="435960" cy="435960"/>
              <a:chOff x="1277280" y="7432560"/>
              <a:chExt cx="435960" cy="435960"/>
            </a:xfrm>
          </p:grpSpPr>
          <p:sp>
            <p:nvSpPr>
              <p:cNvPr id="94" name="object 6"/>
              <p:cNvSpPr/>
              <p:nvPr/>
            </p:nvSpPr>
            <p:spPr>
              <a:xfrm>
                <a:off x="1277280" y="7432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0"/>
                    </a:moveTo>
                    <a:lnTo>
                      <a:pt x="324002" y="0"/>
                    </a:lnTo>
                    <a:lnTo>
                      <a:pt x="324002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5" name="object 7"/>
              <p:cNvSpPr/>
              <p:nvPr/>
            </p:nvSpPr>
            <p:spPr>
              <a:xfrm>
                <a:off x="1277280" y="7541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432003" y="324002"/>
                    </a:moveTo>
                    <a:lnTo>
                      <a:pt x="432003" y="0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6" name="object 8"/>
            <p:cNvGrpSpPr/>
            <p:nvPr/>
          </p:nvGrpSpPr>
          <p:grpSpPr>
            <a:xfrm>
              <a:off x="1277280" y="1348560"/>
              <a:ext cx="435960" cy="435960"/>
              <a:chOff x="1277280" y="1348560"/>
              <a:chExt cx="435960" cy="435960"/>
            </a:xfrm>
          </p:grpSpPr>
          <p:sp>
            <p:nvSpPr>
              <p:cNvPr id="97" name="object 9"/>
              <p:cNvSpPr/>
              <p:nvPr/>
            </p:nvSpPr>
            <p:spPr>
              <a:xfrm>
                <a:off x="1277280" y="1348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5" h="432434">
                    <a:moveTo>
                      <a:pt x="0" y="432003"/>
                    </a:moveTo>
                    <a:lnTo>
                      <a:pt x="324002" y="432003"/>
                    </a:lnTo>
                    <a:lnTo>
                      <a:pt x="324002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8" name="object 10"/>
              <p:cNvSpPr/>
              <p:nvPr/>
            </p:nvSpPr>
            <p:spPr>
              <a:xfrm>
                <a:off x="1277280" y="1348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432003" y="0"/>
                    </a:moveTo>
                    <a:lnTo>
                      <a:pt x="432003" y="324002"/>
                    </a:lnTo>
                    <a:lnTo>
                      <a:pt x="0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99" name="object 11"/>
            <p:cNvGrpSpPr/>
            <p:nvPr/>
          </p:nvGrpSpPr>
          <p:grpSpPr>
            <a:xfrm>
              <a:off x="8837280" y="1348560"/>
              <a:ext cx="435960" cy="435960"/>
              <a:chOff x="8837280" y="1348560"/>
              <a:chExt cx="435960" cy="435960"/>
            </a:xfrm>
          </p:grpSpPr>
          <p:sp>
            <p:nvSpPr>
              <p:cNvPr id="100" name="object 12"/>
              <p:cNvSpPr/>
              <p:nvPr/>
            </p:nvSpPr>
            <p:spPr>
              <a:xfrm>
                <a:off x="8946000" y="1348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432003"/>
                    </a:moveTo>
                    <a:lnTo>
                      <a:pt x="0" y="432003"/>
                    </a:ln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object 13"/>
              <p:cNvSpPr/>
              <p:nvPr/>
            </p:nvSpPr>
            <p:spPr>
              <a:xfrm>
                <a:off x="8837280" y="134856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5">
                    <a:moveTo>
                      <a:pt x="0" y="0"/>
                    </a:moveTo>
                    <a:lnTo>
                      <a:pt x="0" y="324002"/>
                    </a:lnTo>
                    <a:lnTo>
                      <a:pt x="432003" y="324002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2" name="object 14"/>
            <p:cNvGrpSpPr/>
            <p:nvPr/>
          </p:nvGrpSpPr>
          <p:grpSpPr>
            <a:xfrm>
              <a:off x="8837280" y="7432560"/>
              <a:ext cx="435960" cy="435960"/>
              <a:chOff x="8837280" y="7432560"/>
              <a:chExt cx="435960" cy="435960"/>
            </a:xfrm>
          </p:grpSpPr>
          <p:sp>
            <p:nvSpPr>
              <p:cNvPr id="103" name="object 15"/>
              <p:cNvSpPr/>
              <p:nvPr/>
            </p:nvSpPr>
            <p:spPr>
              <a:xfrm>
                <a:off x="8946000" y="7432560"/>
                <a:ext cx="327240" cy="435960"/>
              </a:xfrm>
              <a:custGeom>
                <a:avLst/>
                <a:gdLst/>
                <a:ahLst/>
                <a:rect l="l" t="t" r="r" b="b"/>
                <a:pathLst>
                  <a:path w="324484" h="432434">
                    <a:moveTo>
                      <a:pt x="324002" y="0"/>
                    </a:moveTo>
                    <a:lnTo>
                      <a:pt x="0" y="0"/>
                    </a:lnTo>
                    <a:lnTo>
                      <a:pt x="0" y="432003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4" name="object 16"/>
              <p:cNvSpPr/>
              <p:nvPr/>
            </p:nvSpPr>
            <p:spPr>
              <a:xfrm>
                <a:off x="8837280" y="7541280"/>
                <a:ext cx="435960" cy="327240"/>
              </a:xfrm>
              <a:custGeom>
                <a:avLst/>
                <a:gdLst/>
                <a:ahLst/>
                <a:rect l="l" t="t" r="r" b="b"/>
                <a:pathLst>
                  <a:path w="432434" h="324484">
                    <a:moveTo>
                      <a:pt x="0" y="324002"/>
                    </a:moveTo>
                    <a:lnTo>
                      <a:pt x="0" y="0"/>
                    </a:lnTo>
                    <a:lnTo>
                      <a:pt x="432003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5" name="object 17"/>
            <p:cNvGrpSpPr/>
            <p:nvPr/>
          </p:nvGrpSpPr>
          <p:grpSpPr>
            <a:xfrm>
              <a:off x="1254240" y="4151160"/>
              <a:ext cx="304560" cy="914400"/>
              <a:chOff x="1254240" y="4151160"/>
              <a:chExt cx="304560" cy="914400"/>
            </a:xfrm>
          </p:grpSpPr>
          <p:sp>
            <p:nvSpPr>
              <p:cNvPr id="106" name="object 18"/>
              <p:cNvSpPr/>
              <p:nvPr/>
            </p:nvSpPr>
            <p:spPr>
              <a:xfrm>
                <a:off x="1254240" y="4608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0" y="0"/>
                    </a:moveTo>
                    <a:lnTo>
                      <a:pt x="3048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7" name="object 19"/>
              <p:cNvSpPr/>
              <p:nvPr/>
            </p:nvSpPr>
            <p:spPr>
              <a:xfrm>
                <a:off x="1482840" y="4151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0"/>
                    </a:moveTo>
                    <a:lnTo>
                      <a:pt x="0" y="9144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08" name="object 20"/>
            <p:cNvGrpSpPr/>
            <p:nvPr/>
          </p:nvGrpSpPr>
          <p:grpSpPr>
            <a:xfrm>
              <a:off x="8991720" y="4151160"/>
              <a:ext cx="304560" cy="914400"/>
              <a:chOff x="8991720" y="4151160"/>
              <a:chExt cx="304560" cy="914400"/>
            </a:xfrm>
          </p:grpSpPr>
          <p:sp>
            <p:nvSpPr>
              <p:cNvPr id="109" name="object 21"/>
              <p:cNvSpPr/>
              <p:nvPr/>
            </p:nvSpPr>
            <p:spPr>
              <a:xfrm>
                <a:off x="8991720" y="4608360"/>
                <a:ext cx="304560" cy="360"/>
              </a:xfrm>
              <a:custGeom>
                <a:avLst/>
                <a:gdLst/>
                <a:ahLst/>
                <a:rect l="l" t="t" r="r" b="b"/>
                <a:pathLst>
                  <a:path w="304800" h="0">
                    <a:moveTo>
                      <a:pt x="3048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0" name="object 22"/>
              <p:cNvSpPr/>
              <p:nvPr/>
            </p:nvSpPr>
            <p:spPr>
              <a:xfrm>
                <a:off x="9067680" y="4151160"/>
                <a:ext cx="360" cy="914400"/>
              </a:xfrm>
              <a:custGeom>
                <a:avLst/>
                <a:gdLst/>
                <a:ahLst/>
                <a:rect l="l" t="t" r="r" b="b"/>
                <a:pathLst>
                  <a:path w="0" h="914400">
                    <a:moveTo>
                      <a:pt x="0" y="9144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1" name="object 23"/>
            <p:cNvGrpSpPr/>
            <p:nvPr/>
          </p:nvGrpSpPr>
          <p:grpSpPr>
            <a:xfrm>
              <a:off x="4817880" y="1325520"/>
              <a:ext cx="914400" cy="304560"/>
              <a:chOff x="4817880" y="1325520"/>
              <a:chExt cx="914400" cy="304560"/>
            </a:xfrm>
          </p:grpSpPr>
          <p:sp>
            <p:nvSpPr>
              <p:cNvPr id="112" name="object 24"/>
              <p:cNvSpPr/>
              <p:nvPr/>
            </p:nvSpPr>
            <p:spPr>
              <a:xfrm>
                <a:off x="4817880" y="155412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0" y="0"/>
                    </a:moveTo>
                    <a:lnTo>
                      <a:pt x="91440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3" name="object 25"/>
              <p:cNvSpPr/>
              <p:nvPr/>
            </p:nvSpPr>
            <p:spPr>
              <a:xfrm>
                <a:off x="5275080" y="132552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0"/>
                    </a:moveTo>
                    <a:lnTo>
                      <a:pt x="0" y="30480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4" name="object 26"/>
            <p:cNvGrpSpPr/>
            <p:nvPr/>
          </p:nvGrpSpPr>
          <p:grpSpPr>
            <a:xfrm>
              <a:off x="4817880" y="7587000"/>
              <a:ext cx="914400" cy="304560"/>
              <a:chOff x="4817880" y="7587000"/>
              <a:chExt cx="914400" cy="304560"/>
            </a:xfrm>
          </p:grpSpPr>
          <p:sp>
            <p:nvSpPr>
              <p:cNvPr id="115" name="object 27"/>
              <p:cNvSpPr/>
              <p:nvPr/>
            </p:nvSpPr>
            <p:spPr>
              <a:xfrm>
                <a:off x="4817880" y="7662960"/>
                <a:ext cx="914400" cy="360"/>
              </a:xfrm>
              <a:custGeom>
                <a:avLst/>
                <a:gdLst/>
                <a:ahLst/>
                <a:rect l="l" t="t" r="r" b="b"/>
                <a:pathLst>
                  <a:path w="914400" h="0">
                    <a:moveTo>
                      <a:pt x="914400" y="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object 28"/>
              <p:cNvSpPr/>
              <p:nvPr/>
            </p:nvSpPr>
            <p:spPr>
              <a:xfrm>
                <a:off x="5275080" y="7587000"/>
                <a:ext cx="360" cy="304560"/>
              </a:xfrm>
              <a:custGeom>
                <a:avLst/>
                <a:gdLst/>
                <a:ahLst/>
                <a:rect l="l" t="t" r="r" b="b"/>
                <a:pathLst>
                  <a:path w="0" h="304800">
                    <a:moveTo>
                      <a:pt x="0" y="304800"/>
                    </a:moveTo>
                    <a:lnTo>
                      <a:pt x="0" y="0"/>
                    </a:lnTo>
                  </a:path>
                </a:pathLst>
              </a:custGeom>
              <a:noFill/>
              <a:ln w="39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117" name="正方形/長方形 2"/>
          <p:cNvSpPr/>
          <p:nvPr/>
        </p:nvSpPr>
        <p:spPr>
          <a:xfrm>
            <a:off x="1603440" y="1674720"/>
            <a:ext cx="7343640" cy="5867640"/>
          </a:xfrm>
          <a:prstGeom prst="rect">
            <a:avLst/>
          </a:prstGeom>
          <a:noFill/>
          <a:ln w="3960">
            <a:solidFill>
              <a:srgbClr val="1c33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8" name="グループ化 1"/>
          <p:cNvGrpSpPr/>
          <p:nvPr/>
        </p:nvGrpSpPr>
        <p:grpSpPr>
          <a:xfrm>
            <a:off x="58680" y="1886040"/>
            <a:ext cx="8677440" cy="5667120"/>
            <a:chOff x="58680" y="1886040"/>
            <a:chExt cx="8677440" cy="5667120"/>
          </a:xfrm>
        </p:grpSpPr>
        <p:grpSp>
          <p:nvGrpSpPr>
            <p:cNvPr id="119" name="Group 113"/>
            <p:cNvGrpSpPr/>
            <p:nvPr/>
          </p:nvGrpSpPr>
          <p:grpSpPr>
            <a:xfrm>
              <a:off x="58680" y="4794480"/>
              <a:ext cx="1115640" cy="2758680"/>
              <a:chOff x="58680" y="4794480"/>
              <a:chExt cx="1115640" cy="2758680"/>
            </a:xfrm>
          </p:grpSpPr>
          <p:sp>
            <p:nvSpPr>
              <p:cNvPr id="120" name="AutoShape 112"/>
              <p:cNvSpPr/>
              <p:nvPr/>
            </p:nvSpPr>
            <p:spPr>
              <a:xfrm>
                <a:off x="58680" y="4794480"/>
                <a:ext cx="1115640" cy="275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1" name="Rectangle 114"/>
              <p:cNvSpPr/>
              <p:nvPr/>
            </p:nvSpPr>
            <p:spPr>
              <a:xfrm>
                <a:off x="469440" y="5843160"/>
                <a:ext cx="6202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切れて困る物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r>
                  <a:rPr b="0" lang="ja-JP" sz="500" spc="-1" strike="noStrike">
                    <a:solidFill>
                      <a:srgbClr val="ff0000"/>
                    </a:solidFill>
                    <a:latin typeface="小塚ゴシック Pr6N R"/>
                    <a:ea typeface="小塚ゴシック Pr6N R"/>
                  </a:rPr>
                  <a:t>ココより内側へ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2" name="Freeform 125"/>
              <p:cNvSpPr/>
              <p:nvPr/>
            </p:nvSpPr>
            <p:spPr>
              <a:xfrm>
                <a:off x="399600" y="5854320"/>
                <a:ext cx="51840" cy="56880"/>
              </a:xfrm>
              <a:custGeom>
                <a:avLst/>
                <a:gdLst/>
                <a:ahLst/>
                <a:rect l="l" t="t" r="r" b="b"/>
                <a:pathLst>
                  <a:path w="33" h="36">
                    <a:moveTo>
                      <a:pt x="0" y="0"/>
                    </a:moveTo>
                    <a:lnTo>
                      <a:pt x="0" y="36"/>
                    </a:lnTo>
                    <a:lnTo>
                      <a:pt x="33" y="36"/>
                    </a:lnTo>
                  </a:path>
                </a:pathLst>
              </a:custGeom>
              <a:noFill/>
              <a:ln w="468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3" name="Line 127"/>
              <p:cNvSpPr/>
              <p:nvPr/>
            </p:nvSpPr>
            <p:spPr>
              <a:xfrm flipH="1">
                <a:off x="178560" y="5746320"/>
                <a:ext cx="250200" cy="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4" name="Freeform 128"/>
              <p:cNvSpPr/>
              <p:nvPr/>
            </p:nvSpPr>
            <p:spPr>
              <a:xfrm>
                <a:off x="163080" y="5736960"/>
                <a:ext cx="23400" cy="20160"/>
              </a:xfrm>
              <a:custGeom>
                <a:avLst/>
                <a:gdLst/>
                <a:ahLst/>
                <a:rect l="l" t="t" r="r" b="b"/>
                <a:pathLst>
                  <a:path w="15" h="13">
                    <a:moveTo>
                      <a:pt x="15" y="0"/>
                    </a:moveTo>
                    <a:lnTo>
                      <a:pt x="13" y="6"/>
                    </a:lnTo>
                    <a:lnTo>
                      <a:pt x="15" y="13"/>
                    </a:lnTo>
                    <a:lnTo>
                      <a:pt x="0" y="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5" name="Line 129"/>
              <p:cNvSpPr/>
              <p:nvPr/>
            </p:nvSpPr>
            <p:spPr>
              <a:xfrm flipH="1" flipV="1">
                <a:off x="176760" y="5249160"/>
                <a:ext cx="417240" cy="23940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6" name="Freeform 130"/>
              <p:cNvSpPr/>
              <p:nvPr/>
            </p:nvSpPr>
            <p:spPr>
              <a:xfrm>
                <a:off x="163080" y="5241600"/>
                <a:ext cx="24840" cy="20160"/>
              </a:xfrm>
              <a:custGeom>
                <a:avLst/>
                <a:gdLst/>
                <a:ahLst/>
                <a:rect l="l" t="t" r="r" b="b"/>
                <a:pathLst>
                  <a:path w="16" h="13">
                    <a:moveTo>
                      <a:pt x="16" y="3"/>
                    </a:moveTo>
                    <a:lnTo>
                      <a:pt x="11" y="6"/>
                    </a:lnTo>
                    <a:lnTo>
                      <a:pt x="10" y="13"/>
                    </a:lnTo>
                    <a:lnTo>
                      <a:pt x="0" y="0"/>
                    </a:lnTo>
                    <a:lnTo>
                      <a:pt x="16" y="3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640" bIns="-266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7" name="Line 131"/>
              <p:cNvSpPr/>
              <p:nvPr/>
            </p:nvSpPr>
            <p:spPr>
              <a:xfrm flipV="1">
                <a:off x="845640" y="4915800"/>
                <a:ext cx="0" cy="24876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8" name="Freeform 132"/>
              <p:cNvSpPr/>
              <p:nvPr/>
            </p:nvSpPr>
            <p:spPr>
              <a:xfrm>
                <a:off x="835920" y="4900320"/>
                <a:ext cx="20520" cy="234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15"/>
                    </a:moveTo>
                    <a:lnTo>
                      <a:pt x="6" y="12"/>
                    </a:lnTo>
                    <a:lnTo>
                      <a:pt x="0" y="15"/>
                    </a:lnTo>
                    <a:lnTo>
                      <a:pt x="6" y="0"/>
                    </a:lnTo>
                    <a:lnTo>
                      <a:pt x="13" y="15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29" name="Line 133"/>
              <p:cNvSpPr/>
              <p:nvPr/>
            </p:nvSpPr>
            <p:spPr>
              <a:xfrm flipH="1" flipV="1">
                <a:off x="510480" y="4914720"/>
                <a:ext cx="180720" cy="367920"/>
              </a:xfrm>
              <a:prstGeom prst="line">
                <a:avLst/>
              </a:prstGeom>
              <a:ln w="4680">
                <a:solidFill>
                  <a:srgbClr val="071b7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0" name="Freeform 134"/>
              <p:cNvSpPr/>
              <p:nvPr/>
            </p:nvSpPr>
            <p:spPr>
              <a:xfrm>
                <a:off x="502560" y="490032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2" h="16">
                    <a:moveTo>
                      <a:pt x="12" y="11"/>
                    </a:moveTo>
                    <a:lnTo>
                      <a:pt x="6" y="11"/>
                    </a:lnTo>
                    <a:lnTo>
                      <a:pt x="2" y="16"/>
                    </a:lnTo>
                    <a:lnTo>
                      <a:pt x="0" y="0"/>
                    </a:lnTo>
                    <a:lnTo>
                      <a:pt x="12" y="11"/>
                    </a:lnTo>
                    <a:close/>
                  </a:path>
                </a:pathLst>
              </a:custGeom>
              <a:solidFill>
                <a:srgbClr val="071b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1" name="Rectangle 135"/>
              <p:cNvSpPr/>
              <p:nvPr/>
            </p:nvSpPr>
            <p:spPr>
              <a:xfrm>
                <a:off x="299520" y="6157800"/>
                <a:ext cx="496080" cy="152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フチ無印刷を希望する場合は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r>
                  <a:rPr b="0" lang="ja-JP" sz="500" spc="-1" strike="noStrike">
                    <a:solidFill>
                      <a:srgbClr val="160e10"/>
                    </a:solidFill>
                    <a:latin typeface="小塚ゴシック Pr6N R"/>
                    <a:ea typeface="小塚ゴシック Pr6N R"/>
                  </a:rPr>
                  <a:t>ココまで伸ばす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2" name="Line 152"/>
              <p:cNvSpPr/>
              <p:nvPr/>
            </p:nvSpPr>
            <p:spPr>
              <a:xfrm flipV="1">
                <a:off x="161280" y="5853960"/>
                <a:ext cx="0" cy="293400"/>
              </a:xfrm>
              <a:prstGeom prst="line">
                <a:avLst/>
              </a:prstGeom>
              <a:ln w="46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Rectangle 154"/>
              <p:cNvSpPr/>
              <p:nvPr/>
            </p:nvSpPr>
            <p:spPr>
              <a:xfrm>
                <a:off x="447120" y="6052680"/>
                <a:ext cx="534240" cy="76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r>
                  <a:rPr b="0" lang="ja-JP" sz="500" spc="-1" strike="noStrike">
                    <a:solidFill>
                      <a:srgbClr val="071b7e"/>
                    </a:solidFill>
                    <a:latin typeface="小塚ゴシック Pr6N R"/>
                    <a:ea typeface="小塚ゴシック Pr6N R"/>
                  </a:rPr>
                  <a:t>仕上がり位置（ココでカット）</a:t>
                </a:r>
                <a:endParaRPr b="0" lang="en-US" sz="5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4" name="Line 167"/>
              <p:cNvSpPr/>
              <p:nvPr/>
            </p:nvSpPr>
            <p:spPr>
              <a:xfrm flipV="1">
                <a:off x="293040" y="5854320"/>
                <a:ext cx="0" cy="188640"/>
              </a:xfrm>
              <a:prstGeom prst="line">
                <a:avLst/>
              </a:prstGeom>
              <a:ln w="468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5" name="Freeform 169"/>
              <p:cNvSpPr/>
              <p:nvPr/>
            </p:nvSpPr>
            <p:spPr>
              <a:xfrm>
                <a:off x="451800" y="6337080"/>
                <a:ext cx="345600" cy="137520"/>
              </a:xfrm>
              <a:custGeom>
                <a:avLst/>
                <a:gdLst/>
                <a:ahLst/>
                <a:rect l="l" t="t" r="r" b="b"/>
                <a:pathLst>
                  <a:path w="218" h="87">
                    <a:moveTo>
                      <a:pt x="167" y="36"/>
                    </a:moveTo>
                    <a:lnTo>
                      <a:pt x="167" y="0"/>
                    </a:lnTo>
                    <a:lnTo>
                      <a:pt x="51" y="0"/>
                    </a:lnTo>
                    <a:lnTo>
                      <a:pt x="51" y="36"/>
                    </a:lnTo>
                    <a:lnTo>
                      <a:pt x="0" y="36"/>
                    </a:lnTo>
                    <a:lnTo>
                      <a:pt x="109" y="87"/>
                    </a:lnTo>
                    <a:lnTo>
                      <a:pt x="218" y="36"/>
                    </a:lnTo>
                    <a:lnTo>
                      <a:pt x="167" y="36"/>
                    </a:lnTo>
                    <a:close/>
                  </a:path>
                </a:pathLst>
              </a:custGeom>
              <a:solidFill>
                <a:srgbClr val="e8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Rectangle 170"/>
              <p:cNvSpPr/>
              <p:nvPr/>
            </p:nvSpPr>
            <p:spPr>
              <a:xfrm>
                <a:off x="161280" y="5582880"/>
                <a:ext cx="955440" cy="25524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37" name="Picture 171" descr=""/>
              <p:cNvPicPr/>
              <p:nvPr/>
            </p:nvPicPr>
            <p:blipFill>
              <a:blip r:embed="rId2"/>
              <a:stretch/>
            </p:blipFill>
            <p:spPr>
              <a:xfrm>
                <a:off x="156600" y="5706720"/>
                <a:ext cx="964800" cy="6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8" name="Rectangle 172"/>
              <p:cNvSpPr/>
              <p:nvPr/>
            </p:nvSpPr>
            <p:spPr>
              <a:xfrm>
                <a:off x="161280" y="4897080"/>
                <a:ext cx="955440" cy="68544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9" name="Freeform 173"/>
              <p:cNvSpPr/>
              <p:nvPr/>
            </p:nvSpPr>
            <p:spPr>
              <a:xfrm>
                <a:off x="161280" y="4897080"/>
                <a:ext cx="955440" cy="941040"/>
              </a:xfrm>
              <a:custGeom>
                <a:avLst/>
                <a:gdLst/>
                <a:ahLst/>
                <a:rect l="l" t="t" r="r" b="b"/>
                <a:pathLst>
                  <a:path w="728" h="716">
                    <a:moveTo>
                      <a:pt x="101" y="716"/>
                    </a:moveTo>
                    <a:cubicBezTo>
                      <a:pt x="0" y="716"/>
                      <a:pt x="0" y="716"/>
                      <a:pt x="0" y="716"/>
                    </a:cubicBezTo>
                    <a:cubicBezTo>
                      <a:pt x="0" y="0"/>
                      <a:pt x="0" y="0"/>
                      <a:pt x="0" y="0"/>
                    </a:cubicBezTo>
                    <a:cubicBezTo>
                      <a:pt x="728" y="0"/>
                      <a:pt x="728" y="0"/>
                      <a:pt x="728" y="0"/>
                    </a:cubicBezTo>
                    <a:cubicBezTo>
                      <a:pt x="728" y="109"/>
                      <a:pt x="728" y="109"/>
                      <a:pt x="728" y="109"/>
                    </a:cubicBezTo>
                    <a:cubicBezTo>
                      <a:pt x="688" y="117"/>
                      <a:pt x="647" y="127"/>
                      <a:pt x="607" y="140"/>
                    </a:cubicBezTo>
                    <a:cubicBezTo>
                      <a:pt x="499" y="173"/>
                      <a:pt x="392" y="219"/>
                      <a:pt x="305" y="289"/>
                    </a:cubicBezTo>
                    <a:cubicBezTo>
                      <a:pt x="218" y="359"/>
                      <a:pt x="150" y="452"/>
                      <a:pt x="121" y="581"/>
                    </a:cubicBezTo>
                    <a:cubicBezTo>
                      <a:pt x="112" y="624"/>
                      <a:pt x="105" y="669"/>
                      <a:pt x="101" y="71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0" name="Freeform 174"/>
              <p:cNvSpPr/>
              <p:nvPr/>
            </p:nvSpPr>
            <p:spPr>
              <a:xfrm>
                <a:off x="518400" y="5316120"/>
                <a:ext cx="139320" cy="187200"/>
              </a:xfrm>
              <a:custGeom>
                <a:avLst/>
                <a:gdLst/>
                <a:ahLst/>
                <a:rect l="l" t="t" r="r" b="b"/>
                <a:pathLst>
                  <a:path w="107" h="142">
                    <a:moveTo>
                      <a:pt x="30" y="92"/>
                    </a:moveTo>
                    <a:cubicBezTo>
                      <a:pt x="0" y="92"/>
                      <a:pt x="0" y="92"/>
                      <a:pt x="0" y="92"/>
                    </a:cubicBezTo>
                    <a:cubicBezTo>
                      <a:pt x="0" y="3"/>
                      <a:pt x="0" y="3"/>
                      <a:pt x="0" y="3"/>
                    </a:cubicBezTo>
                    <a:cubicBezTo>
                      <a:pt x="30" y="3"/>
                      <a:pt x="30" y="3"/>
                      <a:pt x="30" y="3"/>
                    </a:cubicBezTo>
                    <a:lnTo>
                      <a:pt x="30" y="92"/>
                    </a:lnTo>
                    <a:close/>
                    <a:moveTo>
                      <a:pt x="107" y="69"/>
                    </a:moveTo>
                    <a:cubicBezTo>
                      <a:pt x="107" y="89"/>
                      <a:pt x="101" y="108"/>
                      <a:pt x="85" y="122"/>
                    </a:cubicBezTo>
                    <a:cubicBezTo>
                      <a:pt x="69" y="135"/>
                      <a:pt x="43" y="139"/>
                      <a:pt x="19" y="142"/>
                    </a:cubicBezTo>
                    <a:cubicBezTo>
                      <a:pt x="8" y="115"/>
                      <a:pt x="8" y="115"/>
                      <a:pt x="8" y="115"/>
                    </a:cubicBezTo>
                    <a:cubicBezTo>
                      <a:pt x="56" y="111"/>
                      <a:pt x="77" y="102"/>
                      <a:pt x="77" y="72"/>
                    </a:cubicBezTo>
                    <a:cubicBezTo>
                      <a:pt x="77" y="0"/>
                      <a:pt x="77" y="0"/>
                      <a:pt x="77" y="0"/>
                    </a:cubicBezTo>
                    <a:cubicBezTo>
                      <a:pt x="107" y="0"/>
                      <a:pt x="107" y="0"/>
                      <a:pt x="107" y="0"/>
                    </a:cubicBezTo>
                    <a:lnTo>
                      <a:pt x="107" y="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1" name="Freeform 175"/>
              <p:cNvSpPr/>
              <p:nvPr/>
            </p:nvSpPr>
            <p:spPr>
              <a:xfrm>
                <a:off x="717120" y="5335200"/>
                <a:ext cx="185040" cy="149040"/>
              </a:xfrm>
              <a:custGeom>
                <a:avLst/>
                <a:gdLst/>
                <a:ahLst/>
                <a:rect l="l" t="t" r="r" b="b"/>
                <a:pathLst>
                  <a:path w="117" h="94">
                    <a:moveTo>
                      <a:pt x="117" y="70"/>
                    </a:moveTo>
                    <a:lnTo>
                      <a:pt x="117" y="94"/>
                    </a:lnTo>
                    <a:lnTo>
                      <a:pt x="0" y="94"/>
                    </a:lnTo>
                    <a:lnTo>
                      <a:pt x="0" y="70"/>
                    </a:lnTo>
                    <a:lnTo>
                      <a:pt x="117" y="70"/>
                    </a:lnTo>
                    <a:close/>
                    <a:moveTo>
                      <a:pt x="107" y="0"/>
                    </a:moveTo>
                    <a:lnTo>
                      <a:pt x="107" y="23"/>
                    </a:lnTo>
                    <a:lnTo>
                      <a:pt x="10" y="23"/>
                    </a:lnTo>
                    <a:lnTo>
                      <a:pt x="10" y="0"/>
                    </a:lnTo>
                    <a:lnTo>
                      <a:pt x="107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2" name="Freeform 176"/>
              <p:cNvSpPr/>
              <p:nvPr/>
            </p:nvSpPr>
            <p:spPr>
              <a:xfrm>
                <a:off x="948600" y="5362200"/>
                <a:ext cx="160200" cy="133200"/>
              </a:xfrm>
              <a:custGeom>
                <a:avLst/>
                <a:gdLst/>
                <a:ahLst/>
                <a:rect l="l" t="t" r="r" b="b"/>
                <a:pathLst>
                  <a:path w="121" h="102">
                    <a:moveTo>
                      <a:pt x="100" y="0"/>
                    </a:moveTo>
                    <a:cubicBezTo>
                      <a:pt x="100" y="16"/>
                      <a:pt x="97" y="67"/>
                      <a:pt x="96" y="76"/>
                    </a:cubicBezTo>
                    <a:cubicBezTo>
                      <a:pt x="121" y="76"/>
                      <a:pt x="121" y="76"/>
                      <a:pt x="121" y="76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0" y="102"/>
                      <a:pt x="0" y="102"/>
                      <a:pt x="0" y="102"/>
                    </a:cubicBezTo>
                    <a:cubicBezTo>
                      <a:pt x="0" y="76"/>
                      <a:pt x="0" y="76"/>
                      <a:pt x="0" y="76"/>
                    </a:cubicBezTo>
                    <a:cubicBezTo>
                      <a:pt x="68" y="76"/>
                      <a:pt x="68" y="76"/>
                      <a:pt x="68" y="76"/>
                    </a:cubicBezTo>
                    <a:cubicBezTo>
                      <a:pt x="69" y="66"/>
                      <a:pt x="71" y="35"/>
                      <a:pt x="71" y="26"/>
                    </a:cubicBezTo>
                    <a:cubicBezTo>
                      <a:pt x="12" y="26"/>
                      <a:pt x="12" y="26"/>
                      <a:pt x="12" y="26"/>
                    </a:cubicBezTo>
                    <a:cubicBezTo>
                      <a:pt x="12" y="0"/>
                      <a:pt x="12" y="0"/>
                      <a:pt x="12" y="0"/>
                    </a:cubicBez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3" name="Freeform 177"/>
              <p:cNvSpPr/>
              <p:nvPr/>
            </p:nvSpPr>
            <p:spPr>
              <a:xfrm>
                <a:off x="59760" y="4795560"/>
                <a:ext cx="101160" cy="136080"/>
              </a:xfrm>
              <a:custGeom>
                <a:avLst/>
                <a:gdLst/>
                <a:ahLst/>
                <a:rect l="l" t="t" r="r" b="b"/>
                <a:pathLst>
                  <a:path w="64" h="86">
                    <a:moveTo>
                      <a:pt x="0" y="86"/>
                    </a:moveTo>
                    <a:lnTo>
                      <a:pt x="64" y="86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4" name="Freeform 178"/>
              <p:cNvSpPr/>
              <p:nvPr/>
            </p:nvSpPr>
            <p:spPr>
              <a:xfrm>
                <a:off x="59760" y="4795560"/>
                <a:ext cx="134640" cy="10116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5" name="Rectangle 179"/>
              <p:cNvSpPr/>
              <p:nvPr/>
            </p:nvSpPr>
            <p:spPr>
              <a:xfrm>
                <a:off x="199440" y="4935240"/>
                <a:ext cx="105840" cy="10584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6" name="Freeform 180"/>
              <p:cNvSpPr/>
              <p:nvPr/>
            </p:nvSpPr>
            <p:spPr>
              <a:xfrm>
                <a:off x="199440" y="4987800"/>
                <a:ext cx="10584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7" name="Line 181"/>
              <p:cNvSpPr/>
              <p:nvPr/>
            </p:nvSpPr>
            <p:spPr>
              <a:xfrm>
                <a:off x="199440" y="4987800"/>
                <a:ext cx="105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8" name="Freeform 182"/>
              <p:cNvSpPr/>
              <p:nvPr/>
            </p:nvSpPr>
            <p:spPr>
              <a:xfrm>
                <a:off x="251640" y="4935240"/>
                <a:ext cx="360" cy="10584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49" name="Line 183"/>
              <p:cNvSpPr/>
              <p:nvPr/>
            </p:nvSpPr>
            <p:spPr>
              <a:xfrm>
                <a:off x="251640" y="4935240"/>
                <a:ext cx="0" cy="1058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0" name="Freeform 184"/>
              <p:cNvSpPr/>
              <p:nvPr/>
            </p:nvSpPr>
            <p:spPr>
              <a:xfrm>
                <a:off x="161280" y="4897080"/>
                <a:ext cx="955440" cy="952200"/>
              </a:xfrm>
              <a:custGeom>
                <a:avLst/>
                <a:gdLst/>
                <a:ahLst/>
                <a:rect l="l" t="t" r="r" b="b"/>
                <a:pathLst>
                  <a:path w="602" h="600">
                    <a:moveTo>
                      <a:pt x="602" y="0"/>
                    </a:moveTo>
                    <a:lnTo>
                      <a:pt x="0" y="0"/>
                    </a:lnTo>
                    <a:lnTo>
                      <a:pt x="0" y="600"/>
                    </a:lnTo>
                  </a:path>
                </a:pathLst>
              </a:custGeom>
              <a:noFill/>
              <a:ln w="6480">
                <a:solidFill>
                  <a:srgbClr val="160e1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1" name="Freeform 185"/>
              <p:cNvSpPr/>
              <p:nvPr/>
            </p:nvSpPr>
            <p:spPr>
              <a:xfrm>
                <a:off x="399600" y="5152680"/>
                <a:ext cx="717120" cy="69192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0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2" name="Freeform 186"/>
              <p:cNvSpPr/>
              <p:nvPr/>
            </p:nvSpPr>
            <p:spPr>
              <a:xfrm>
                <a:off x="293040" y="5041440"/>
                <a:ext cx="823680" cy="80316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1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50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3" name="Rectangle 187"/>
              <p:cNvSpPr/>
              <p:nvPr/>
            </p:nvSpPr>
            <p:spPr>
              <a:xfrm>
                <a:off x="161280" y="6611760"/>
                <a:ext cx="955440" cy="683640"/>
              </a:xfrm>
              <a:prstGeom prst="rect">
                <a:avLst/>
              </a:prstGeom>
              <a:solidFill>
                <a:srgbClr val="8bc52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4" name="Rectangle 188"/>
              <p:cNvSpPr/>
              <p:nvPr/>
            </p:nvSpPr>
            <p:spPr>
              <a:xfrm>
                <a:off x="161280" y="7295760"/>
                <a:ext cx="955440" cy="255240"/>
              </a:xfrm>
              <a:prstGeom prst="rect">
                <a:avLst/>
              </a:prstGeom>
              <a:solidFill>
                <a:srgbClr val="fff5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5" name="Freeform 189"/>
              <p:cNvSpPr/>
              <p:nvPr/>
            </p:nvSpPr>
            <p:spPr>
              <a:xfrm>
                <a:off x="161280" y="6611760"/>
                <a:ext cx="955440" cy="939240"/>
              </a:xfrm>
              <a:custGeom>
                <a:avLst/>
                <a:gdLst/>
                <a:ahLst/>
                <a:rect l="l" t="t" r="r" b="b"/>
                <a:pathLst>
                  <a:path w="602" h="592">
                    <a:moveTo>
                      <a:pt x="602" y="0"/>
                    </a:moveTo>
                    <a:lnTo>
                      <a:pt x="0" y="0"/>
                    </a:lnTo>
                    <a:lnTo>
                      <a:pt x="0" y="592"/>
                    </a:lnTo>
                  </a:path>
                </a:pathLst>
              </a:custGeom>
              <a:noFill/>
              <a:ln w="1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6" name="Freeform 190"/>
              <p:cNvSpPr/>
              <p:nvPr/>
            </p:nvSpPr>
            <p:spPr>
              <a:xfrm>
                <a:off x="666000" y="7054560"/>
                <a:ext cx="122040" cy="159840"/>
              </a:xfrm>
              <a:custGeom>
                <a:avLst/>
                <a:gdLst/>
                <a:ahLst/>
                <a:rect l="l" t="t" r="r" b="b"/>
                <a:pathLst>
                  <a:path w="93" h="122">
                    <a:moveTo>
                      <a:pt x="26" y="78"/>
                    </a:moveTo>
                    <a:cubicBezTo>
                      <a:pt x="0" y="78"/>
                      <a:pt x="0" y="78"/>
                      <a:pt x="0" y="78"/>
                    </a:cubicBezTo>
                    <a:cubicBezTo>
                      <a:pt x="0" y="2"/>
                      <a:pt x="0" y="2"/>
                      <a:pt x="0" y="2"/>
                    </a:cubicBezTo>
                    <a:cubicBezTo>
                      <a:pt x="26" y="2"/>
                      <a:pt x="26" y="2"/>
                      <a:pt x="26" y="2"/>
                    </a:cubicBezTo>
                    <a:lnTo>
                      <a:pt x="26" y="78"/>
                    </a:lnTo>
                    <a:close/>
                    <a:moveTo>
                      <a:pt x="93" y="59"/>
                    </a:moveTo>
                    <a:cubicBezTo>
                      <a:pt x="93" y="76"/>
                      <a:pt x="88" y="93"/>
                      <a:pt x="74" y="104"/>
                    </a:cubicBezTo>
                    <a:cubicBezTo>
                      <a:pt x="60" y="115"/>
                      <a:pt x="37" y="119"/>
                      <a:pt x="17" y="122"/>
                    </a:cubicBezTo>
                    <a:cubicBezTo>
                      <a:pt x="7" y="98"/>
                      <a:pt x="7" y="98"/>
                      <a:pt x="7" y="98"/>
                    </a:cubicBezTo>
                    <a:cubicBezTo>
                      <a:pt x="48" y="95"/>
                      <a:pt x="67" y="87"/>
                      <a:pt x="67" y="61"/>
                    </a:cubicBezTo>
                    <a:cubicBezTo>
                      <a:pt x="67" y="0"/>
                      <a:pt x="67" y="0"/>
                      <a:pt x="67" y="0"/>
                    </a:cubicBezTo>
                    <a:cubicBezTo>
                      <a:pt x="93" y="0"/>
                      <a:pt x="93" y="0"/>
                      <a:pt x="93" y="0"/>
                    </a:cubicBezTo>
                    <a:lnTo>
                      <a:pt x="93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7" name="Freeform 191"/>
              <p:cNvSpPr/>
              <p:nvPr/>
            </p:nvSpPr>
            <p:spPr>
              <a:xfrm>
                <a:off x="837720" y="7068960"/>
                <a:ext cx="158400" cy="128160"/>
              </a:xfrm>
              <a:custGeom>
                <a:avLst/>
                <a:gdLst/>
                <a:ahLst/>
                <a:rect l="l" t="t" r="r" b="b"/>
                <a:pathLst>
                  <a:path w="100" h="81">
                    <a:moveTo>
                      <a:pt x="100" y="61"/>
                    </a:moveTo>
                    <a:lnTo>
                      <a:pt x="100" y="81"/>
                    </a:lnTo>
                    <a:lnTo>
                      <a:pt x="0" y="81"/>
                    </a:lnTo>
                    <a:lnTo>
                      <a:pt x="0" y="61"/>
                    </a:lnTo>
                    <a:lnTo>
                      <a:pt x="100" y="61"/>
                    </a:lnTo>
                    <a:close/>
                    <a:moveTo>
                      <a:pt x="92" y="0"/>
                    </a:moveTo>
                    <a:lnTo>
                      <a:pt x="92" y="20"/>
                    </a:lnTo>
                    <a:lnTo>
                      <a:pt x="8" y="20"/>
                    </a:lnTo>
                    <a:lnTo>
                      <a:pt x="8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8" name="Freeform 192"/>
              <p:cNvSpPr/>
              <p:nvPr/>
            </p:nvSpPr>
            <p:spPr>
              <a:xfrm>
                <a:off x="1039320" y="7092720"/>
                <a:ext cx="134640" cy="113760"/>
              </a:xfrm>
              <a:custGeom>
                <a:avLst/>
                <a:gdLst/>
                <a:ahLst/>
                <a:rect l="l" t="t" r="r" b="b"/>
                <a:pathLst>
                  <a:path w="103" h="87">
                    <a:moveTo>
                      <a:pt x="86" y="0"/>
                    </a:moveTo>
                    <a:cubicBezTo>
                      <a:pt x="85" y="13"/>
                      <a:pt x="82" y="57"/>
                      <a:pt x="82" y="65"/>
                    </a:cubicBezTo>
                    <a:cubicBezTo>
                      <a:pt x="103" y="65"/>
                      <a:pt x="103" y="65"/>
                      <a:pt x="103" y="65"/>
                    </a:cubicBezTo>
                    <a:cubicBezTo>
                      <a:pt x="103" y="87"/>
                      <a:pt x="103" y="87"/>
                      <a:pt x="103" y="87"/>
                    </a:cubicBezTo>
                    <a:cubicBezTo>
                      <a:pt x="0" y="87"/>
                      <a:pt x="0" y="87"/>
                      <a:pt x="0" y="87"/>
                    </a:cubicBezTo>
                    <a:cubicBezTo>
                      <a:pt x="0" y="65"/>
                      <a:pt x="0" y="65"/>
                      <a:pt x="0" y="65"/>
                    </a:cubicBezTo>
                    <a:cubicBezTo>
                      <a:pt x="58" y="65"/>
                      <a:pt x="58" y="65"/>
                      <a:pt x="58" y="65"/>
                    </a:cubicBezTo>
                    <a:cubicBezTo>
                      <a:pt x="59" y="56"/>
                      <a:pt x="60" y="30"/>
                      <a:pt x="60" y="22"/>
                    </a:cubicBezTo>
                    <a:cubicBezTo>
                      <a:pt x="10" y="22"/>
                      <a:pt x="10" y="22"/>
                      <a:pt x="10" y="22"/>
                    </a:cubicBezTo>
                    <a:cubicBezTo>
                      <a:pt x="10" y="0"/>
                      <a:pt x="10" y="0"/>
                      <a:pt x="10" y="0"/>
                    </a:cubicBez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59" name="Freeform 193"/>
              <p:cNvSpPr/>
              <p:nvPr/>
            </p:nvSpPr>
            <p:spPr>
              <a:xfrm>
                <a:off x="59760" y="6508440"/>
                <a:ext cx="101160" cy="134640"/>
              </a:xfrm>
              <a:custGeom>
                <a:avLst/>
                <a:gdLst/>
                <a:ahLst/>
                <a:rect l="l" t="t" r="r" b="b"/>
                <a:pathLst>
                  <a:path w="64" h="85">
                    <a:moveTo>
                      <a:pt x="0" y="85"/>
                    </a:moveTo>
                    <a:lnTo>
                      <a:pt x="64" y="85"/>
                    </a:lnTo>
                    <a:lnTo>
                      <a:pt x="64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0" name="Freeform 194"/>
              <p:cNvSpPr/>
              <p:nvPr/>
            </p:nvSpPr>
            <p:spPr>
              <a:xfrm>
                <a:off x="59760" y="6508440"/>
                <a:ext cx="134640" cy="101160"/>
              </a:xfrm>
              <a:custGeom>
                <a:avLst/>
                <a:gdLst/>
                <a:ahLst/>
                <a:rect l="l" t="t" r="r" b="b"/>
                <a:pathLst>
                  <a:path w="85" h="64">
                    <a:moveTo>
                      <a:pt x="85" y="0"/>
                    </a:moveTo>
                    <a:lnTo>
                      <a:pt x="85" y="64"/>
                    </a:lnTo>
                    <a:lnTo>
                      <a:pt x="0" y="64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1" name="Rectangle 195"/>
              <p:cNvSpPr/>
              <p:nvPr/>
            </p:nvSpPr>
            <p:spPr>
              <a:xfrm>
                <a:off x="199440" y="6648120"/>
                <a:ext cx="105840" cy="106200"/>
              </a:xfrm>
              <a:prstGeom prst="rect">
                <a:avLst/>
              </a:pr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1128600"/>
                    <a:tab algn="l" pos="2257560"/>
                    <a:tab algn="l" pos="3386160"/>
                    <a:tab algn="l" pos="4514760"/>
                    <a:tab algn="l" pos="5643720"/>
                    <a:tab algn="l" pos="6772320"/>
                    <a:tab algn="l" pos="7900920"/>
                    <a:tab algn="l" pos="9029880"/>
                    <a:tab algn="l" pos="10158480"/>
                  </a:tabLst>
                </a:pPr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2" name="Freeform 196"/>
              <p:cNvSpPr/>
              <p:nvPr/>
            </p:nvSpPr>
            <p:spPr>
              <a:xfrm>
                <a:off x="199440" y="6700680"/>
                <a:ext cx="105840" cy="360"/>
              </a:xfrm>
              <a:custGeom>
                <a:avLst/>
                <a:gdLst/>
                <a:ahLst/>
                <a:rect l="l" t="t" r="r" b="b"/>
                <a:pathLst>
                  <a:path w="67" h="0">
                    <a:moveTo>
                      <a:pt x="0" y="0"/>
                    </a:moveTo>
                    <a:lnTo>
                      <a:pt x="67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3" name="Line 197"/>
              <p:cNvSpPr/>
              <p:nvPr/>
            </p:nvSpPr>
            <p:spPr>
              <a:xfrm>
                <a:off x="199440" y="6700680"/>
                <a:ext cx="105840" cy="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4" name="Freeform 198"/>
              <p:cNvSpPr/>
              <p:nvPr/>
            </p:nvSpPr>
            <p:spPr>
              <a:xfrm>
                <a:off x="251640" y="6648120"/>
                <a:ext cx="360" cy="106200"/>
              </a:xfrm>
              <a:custGeom>
                <a:avLst/>
                <a:gdLst/>
                <a:ahLst/>
                <a:rect l="l" t="t" r="r" b="b"/>
                <a:pathLst>
                  <a:path w="0" h="67">
                    <a:moveTo>
                      <a:pt x="0" y="0"/>
                    </a:moveTo>
                    <a:lnTo>
                      <a:pt x="0" y="6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5" name="Line 199"/>
              <p:cNvSpPr/>
              <p:nvPr/>
            </p:nvSpPr>
            <p:spPr>
              <a:xfrm>
                <a:off x="251640" y="6648120"/>
                <a:ext cx="0" cy="1062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pic>
            <p:nvPicPr>
              <p:cNvPr id="166" name="Picture 200" descr=""/>
              <p:cNvPicPr/>
              <p:nvPr/>
            </p:nvPicPr>
            <p:blipFill>
              <a:blip r:embed="rId3"/>
              <a:stretch/>
            </p:blipFill>
            <p:spPr>
              <a:xfrm>
                <a:off x="156600" y="7419600"/>
                <a:ext cx="964800" cy="63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7" name="Freeform 201"/>
              <p:cNvSpPr/>
              <p:nvPr/>
            </p:nvSpPr>
            <p:spPr>
              <a:xfrm>
                <a:off x="399600" y="6859440"/>
                <a:ext cx="717120" cy="691560"/>
              </a:xfrm>
              <a:custGeom>
                <a:avLst/>
                <a:gdLst/>
                <a:ahLst/>
                <a:rect l="l" t="t" r="r" b="b"/>
                <a:pathLst>
                  <a:path w="546" h="527">
                    <a:moveTo>
                      <a:pt x="546" y="0"/>
                    </a:moveTo>
                    <a:cubicBezTo>
                      <a:pt x="518" y="6"/>
                      <a:pt x="491" y="13"/>
                      <a:pt x="463" y="22"/>
                    </a:cubicBezTo>
                    <a:cubicBezTo>
                      <a:pt x="365" y="52"/>
                      <a:pt x="266" y="93"/>
                      <a:pt x="186" y="156"/>
                    </a:cubicBezTo>
                    <a:cubicBezTo>
                      <a:pt x="106" y="219"/>
                      <a:pt x="44" y="303"/>
                      <a:pt x="18" y="419"/>
                    </a:cubicBezTo>
                    <a:cubicBezTo>
                      <a:pt x="10" y="454"/>
                      <a:pt x="4" y="490"/>
                      <a:pt x="0" y="527"/>
                    </a:cubicBezTo>
                  </a:path>
                </a:pathLst>
              </a:custGeom>
              <a:noFill/>
              <a:ln cap="sq" w="9360">
                <a:solidFill>
                  <a:srgbClr val="00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68" name="Freeform 202"/>
              <p:cNvSpPr/>
              <p:nvPr/>
            </p:nvSpPr>
            <p:spPr>
              <a:xfrm>
                <a:off x="293040" y="6748200"/>
                <a:ext cx="823680" cy="802800"/>
              </a:xfrm>
              <a:custGeom>
                <a:avLst/>
                <a:gdLst/>
                <a:ahLst/>
                <a:rect l="l" t="t" r="r" b="b"/>
                <a:pathLst>
                  <a:path w="627" h="612">
                    <a:moveTo>
                      <a:pt x="627" y="0"/>
                    </a:moveTo>
                    <a:cubicBezTo>
                      <a:pt x="587" y="8"/>
                      <a:pt x="546" y="18"/>
                      <a:pt x="506" y="30"/>
                    </a:cubicBezTo>
                    <a:cubicBezTo>
                      <a:pt x="398" y="64"/>
                      <a:pt x="291" y="110"/>
                      <a:pt x="204" y="180"/>
                    </a:cubicBezTo>
                    <a:cubicBezTo>
                      <a:pt x="117" y="249"/>
                      <a:pt x="49" y="343"/>
                      <a:pt x="20" y="472"/>
                    </a:cubicBezTo>
                    <a:cubicBezTo>
                      <a:pt x="11" y="517"/>
                      <a:pt x="3" y="564"/>
                      <a:pt x="0" y="612"/>
                    </a:cubicBezTo>
                  </a:path>
                </a:pathLst>
              </a:custGeom>
              <a:noFill/>
              <a:ln cap="sq"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69" name="グループ化 4"/>
            <p:cNvGrpSpPr/>
            <p:nvPr/>
          </p:nvGrpSpPr>
          <p:grpSpPr>
            <a:xfrm>
              <a:off x="71280" y="1886040"/>
              <a:ext cx="8664840" cy="5446080"/>
              <a:chOff x="71280" y="1886040"/>
              <a:chExt cx="8664840" cy="5446080"/>
            </a:xfrm>
          </p:grpSpPr>
          <p:grpSp>
            <p:nvGrpSpPr>
              <p:cNvPr id="170" name="グループ化 5"/>
              <p:cNvGrpSpPr/>
              <p:nvPr/>
            </p:nvGrpSpPr>
            <p:grpSpPr>
              <a:xfrm>
                <a:off x="71280" y="2521440"/>
                <a:ext cx="1530360" cy="539640"/>
                <a:chOff x="71280" y="2521440"/>
                <a:chExt cx="1530360" cy="539640"/>
              </a:xfrm>
            </p:grpSpPr>
            <p:sp>
              <p:nvSpPr>
                <p:cNvPr id="171" name="Line 67"/>
                <p:cNvSpPr/>
                <p:nvPr/>
              </p:nvSpPr>
              <p:spPr>
                <a:xfrm flipV="1">
                  <a:off x="1007640" y="2789640"/>
                  <a:ext cx="594000" cy="1800"/>
                </a:xfrm>
                <a:prstGeom prst="line">
                  <a:avLst/>
                </a:prstGeom>
                <a:ln w="9360">
                  <a:solidFill>
                    <a:srgbClr val="ff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2" name="Text Box 68"/>
                <p:cNvSpPr/>
                <p:nvPr/>
              </p:nvSpPr>
              <p:spPr>
                <a:xfrm>
                  <a:off x="71280" y="2521440"/>
                  <a:ext cx="936720" cy="53964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フチ無し印刷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は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黒の線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まで伸ば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3" name="グループ化 6"/>
              <p:cNvGrpSpPr/>
              <p:nvPr/>
            </p:nvGrpSpPr>
            <p:grpSpPr>
              <a:xfrm>
                <a:off x="71280" y="3788280"/>
                <a:ext cx="1880280" cy="684000"/>
                <a:chOff x="71280" y="3788280"/>
                <a:chExt cx="1880280" cy="684000"/>
              </a:xfrm>
            </p:grpSpPr>
            <p:sp>
              <p:nvSpPr>
                <p:cNvPr id="174" name="Line 64"/>
                <p:cNvSpPr/>
                <p:nvPr/>
              </p:nvSpPr>
              <p:spPr>
                <a:xfrm>
                  <a:off x="928440" y="4131000"/>
                  <a:ext cx="1023120" cy="0"/>
                </a:xfrm>
                <a:prstGeom prst="line">
                  <a:avLst/>
                </a:prstGeom>
                <a:ln w="936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5" name="Text Box 65"/>
                <p:cNvSpPr/>
                <p:nvPr/>
              </p:nvSpPr>
              <p:spPr>
                <a:xfrm>
                  <a:off x="71280" y="3788280"/>
                  <a:ext cx="936720" cy="68400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切れては困る物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は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水色の線の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内側に配置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6" name="グループ化 7"/>
              <p:cNvGrpSpPr/>
              <p:nvPr/>
            </p:nvGrpSpPr>
            <p:grpSpPr>
              <a:xfrm>
                <a:off x="71280" y="3135960"/>
                <a:ext cx="1998360" cy="544320"/>
                <a:chOff x="71280" y="3135960"/>
                <a:chExt cx="1998360" cy="544320"/>
              </a:xfrm>
            </p:grpSpPr>
            <p:sp>
              <p:nvSpPr>
                <p:cNvPr id="177" name="Line 70"/>
                <p:cNvSpPr/>
                <p:nvPr/>
              </p:nvSpPr>
              <p:spPr>
                <a:xfrm>
                  <a:off x="1007640" y="3408840"/>
                  <a:ext cx="1062000" cy="0"/>
                </a:xfrm>
                <a:prstGeom prst="line">
                  <a:avLst/>
                </a:prstGeom>
                <a:ln w="9360">
                  <a:solidFill>
                    <a:srgbClr val="0000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78" name="Text Box 71"/>
                <p:cNvSpPr/>
                <p:nvPr/>
              </p:nvSpPr>
              <p:spPr>
                <a:xfrm>
                  <a:off x="71280" y="3135960"/>
                  <a:ext cx="936360" cy="544320"/>
                </a:xfrm>
                <a:prstGeom prst="rect">
                  <a:avLst/>
                </a:prstGeom>
                <a:solidFill>
                  <a:srgbClr val="ffffff"/>
                </a:solidFill>
                <a:ln w="93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18000" rIns="18000" tIns="18000" bIns="180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1803240"/>
                      <a:tab algn="l" pos="3606840"/>
                      <a:tab algn="l" pos="5410080"/>
                      <a:tab algn="l" pos="7213680"/>
                      <a:tab algn="l" pos="9016920"/>
                      <a:tab algn="l" pos="10820520"/>
                    </a:tabLst>
                  </a:pP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仕上がり位置。この</a:t>
                  </a:r>
                  <a:r>
                    <a:rPr b="1" lang="ja-JP" sz="1000" spc="-1" strike="noStrike">
                      <a:solidFill>
                        <a:srgbClr val="ff0000"/>
                      </a:solidFill>
                      <a:latin typeface="ＭＳ Ｐゴシック"/>
                    </a:rPr>
                    <a:t>青の線</a:t>
                  </a:r>
                  <a:r>
                    <a:rPr b="0" lang="ja-JP" sz="1000" spc="-1" strike="noStrike">
                      <a:solidFill>
                        <a:srgbClr val="000000"/>
                      </a:solidFill>
                      <a:latin typeface="ＭＳ Ｐゴシック"/>
                    </a:rPr>
                    <a:t>で断裁します。</a:t>
                  </a:r>
                  <a:endParaRPr b="0" lang="en-US" sz="10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179" name="object 2"/>
              <p:cNvGrpSpPr/>
              <p:nvPr/>
            </p:nvGrpSpPr>
            <p:grpSpPr>
              <a:xfrm>
                <a:off x="1813680" y="1886040"/>
                <a:ext cx="6922440" cy="5446080"/>
                <a:chOff x="1813680" y="1886040"/>
                <a:chExt cx="6922440" cy="5446080"/>
              </a:xfrm>
            </p:grpSpPr>
            <p:sp>
              <p:nvSpPr>
                <p:cNvPr id="180" name="object 3"/>
                <p:cNvSpPr/>
                <p:nvPr/>
              </p:nvSpPr>
              <p:spPr>
                <a:xfrm>
                  <a:off x="1921680" y="2010960"/>
                  <a:ext cx="6706440" cy="5195520"/>
                </a:xfrm>
                <a:custGeom>
                  <a:avLst/>
                  <a:gdLst/>
                  <a:ahLst/>
                  <a:rect l="l" t="t" r="r" b="b"/>
                  <a:pathLst>
                    <a:path w="6696075" h="5186045">
                      <a:moveTo>
                        <a:pt x="3690616" y="4484785"/>
                      </a:moveTo>
                      <a:lnTo>
                        <a:pt x="3741769" y="4490880"/>
                      </a:lnTo>
                      <a:lnTo>
                        <a:pt x="3792787" y="4497957"/>
                      </a:lnTo>
                      <a:lnTo>
                        <a:pt x="3843652" y="4506011"/>
                      </a:lnTo>
                      <a:lnTo>
                        <a:pt x="3894349" y="4515039"/>
                      </a:lnTo>
                      <a:lnTo>
                        <a:pt x="3944860" y="4525037"/>
                      </a:lnTo>
                      <a:lnTo>
                        <a:pt x="3995171" y="4536000"/>
                      </a:lnTo>
                      <a:lnTo>
                        <a:pt x="4045263" y="4547925"/>
                      </a:lnTo>
                      <a:lnTo>
                        <a:pt x="4095120" y="4560808"/>
                      </a:lnTo>
                      <a:lnTo>
                        <a:pt x="4144726" y="4574646"/>
                      </a:lnTo>
                      <a:lnTo>
                        <a:pt x="4194065" y="4589433"/>
                      </a:lnTo>
                      <a:lnTo>
                        <a:pt x="4243120" y="4605167"/>
                      </a:lnTo>
                      <a:lnTo>
                        <a:pt x="4291874" y="4621843"/>
                      </a:lnTo>
                      <a:lnTo>
                        <a:pt x="4340310" y="4639458"/>
                      </a:lnTo>
                      <a:lnTo>
                        <a:pt x="4341822" y="4640042"/>
                      </a:lnTo>
                      <a:lnTo>
                        <a:pt x="4389848" y="4659268"/>
                      </a:lnTo>
                      <a:lnTo>
                        <a:pt x="4437655" y="4679218"/>
                      </a:lnTo>
                      <a:lnTo>
                        <a:pt x="4485216" y="4699880"/>
                      </a:lnTo>
                      <a:lnTo>
                        <a:pt x="4532504" y="4721241"/>
                      </a:lnTo>
                      <a:lnTo>
                        <a:pt x="4579493" y="4743288"/>
                      </a:lnTo>
                      <a:lnTo>
                        <a:pt x="4626156" y="4766010"/>
                      </a:lnTo>
                      <a:lnTo>
                        <a:pt x="4672468" y="4789393"/>
                      </a:lnTo>
                      <a:lnTo>
                        <a:pt x="4718402" y="4813425"/>
                      </a:lnTo>
                      <a:lnTo>
                        <a:pt x="4763931" y="4838093"/>
                      </a:lnTo>
                      <a:lnTo>
                        <a:pt x="4809029" y="4863384"/>
                      </a:lnTo>
                      <a:lnTo>
                        <a:pt x="4853858" y="4890111"/>
                      </a:lnTo>
                      <a:lnTo>
                        <a:pt x="4898179" y="4917644"/>
                      </a:lnTo>
                      <a:lnTo>
                        <a:pt x="4941969" y="4945967"/>
                      </a:lnTo>
                      <a:lnTo>
                        <a:pt x="4985207" y="4975064"/>
                      </a:lnTo>
                      <a:lnTo>
                        <a:pt x="5027872" y="5004918"/>
                      </a:lnTo>
                      <a:lnTo>
                        <a:pt x="5069942" y="5035513"/>
                      </a:lnTo>
                      <a:lnTo>
                        <a:pt x="5111395" y="5066833"/>
                      </a:lnTo>
                      <a:lnTo>
                        <a:pt x="5152210" y="5098862"/>
                      </a:lnTo>
                      <a:lnTo>
                        <a:pt x="5192366" y="5131583"/>
                      </a:lnTo>
                      <a:lnTo>
                        <a:pt x="5221486" y="5158315"/>
                      </a:lnTo>
                      <a:lnTo>
                        <a:pt x="5230342" y="5166543"/>
                      </a:lnTo>
                      <a:lnTo>
                        <a:pt x="5240432" y="5175871"/>
                      </a:lnTo>
                      <a:lnTo>
                        <a:pt x="5251358" y="5185901"/>
                      </a:lnTo>
                      <a:lnTo>
                        <a:pt x="5277456" y="5163511"/>
                      </a:lnTo>
                      <a:lnTo>
                        <a:pt x="5278790" y="5162380"/>
                      </a:lnTo>
                      <a:lnTo>
                        <a:pt x="5280123" y="5161288"/>
                      </a:lnTo>
                      <a:lnTo>
                        <a:pt x="5281507" y="5160221"/>
                      </a:lnTo>
                      <a:lnTo>
                        <a:pt x="5305460" y="5141603"/>
                      </a:lnTo>
                      <a:lnTo>
                        <a:pt x="5336811" y="5116505"/>
                      </a:lnTo>
                      <a:lnTo>
                        <a:pt x="5368248" y="5090740"/>
                      </a:lnTo>
                      <a:lnTo>
                        <a:pt x="5404496" y="5060381"/>
                      </a:lnTo>
                      <a:lnTo>
                        <a:pt x="5440494" y="5029599"/>
                      </a:lnTo>
                      <a:lnTo>
                        <a:pt x="5476189" y="4998441"/>
                      </a:lnTo>
                      <a:lnTo>
                        <a:pt x="5511526" y="4966956"/>
                      </a:lnTo>
                      <a:lnTo>
                        <a:pt x="5546451" y="4935193"/>
                      </a:lnTo>
                      <a:lnTo>
                        <a:pt x="5580910" y="4903199"/>
                      </a:lnTo>
                      <a:lnTo>
                        <a:pt x="5619914" y="4866241"/>
                      </a:lnTo>
                      <a:lnTo>
                        <a:pt x="5658481" y="4828667"/>
                      </a:lnTo>
                      <a:lnTo>
                        <a:pt x="5696569" y="4790517"/>
                      </a:lnTo>
                      <a:lnTo>
                        <a:pt x="5734140" y="4751834"/>
                      </a:lnTo>
                      <a:lnTo>
                        <a:pt x="5771152" y="4712658"/>
                      </a:lnTo>
                      <a:lnTo>
                        <a:pt x="5807566" y="4673031"/>
                      </a:lnTo>
                      <a:lnTo>
                        <a:pt x="5843343" y="4632994"/>
                      </a:lnTo>
                      <a:lnTo>
                        <a:pt x="5875586" y="4595931"/>
                      </a:lnTo>
                      <a:lnTo>
                        <a:pt x="5907045" y="4558172"/>
                      </a:lnTo>
                      <a:lnTo>
                        <a:pt x="5937698" y="4519746"/>
                      </a:lnTo>
                      <a:lnTo>
                        <a:pt x="5967523" y="4480684"/>
                      </a:lnTo>
                      <a:lnTo>
                        <a:pt x="5996498" y="4441015"/>
                      </a:lnTo>
                      <a:lnTo>
                        <a:pt x="6024601" y="4400770"/>
                      </a:lnTo>
                      <a:lnTo>
                        <a:pt x="6051810" y="4359978"/>
                      </a:lnTo>
                      <a:lnTo>
                        <a:pt x="6078102" y="4318669"/>
                      </a:lnTo>
                      <a:lnTo>
                        <a:pt x="6078978" y="4317272"/>
                      </a:lnTo>
                      <a:lnTo>
                        <a:pt x="6079867" y="4315887"/>
                      </a:lnTo>
                      <a:lnTo>
                        <a:pt x="6108864" y="4273050"/>
                      </a:lnTo>
                      <a:lnTo>
                        <a:pt x="6136354" y="4231183"/>
                      </a:lnTo>
                      <a:lnTo>
                        <a:pt x="6163262" y="4188948"/>
                      </a:lnTo>
                      <a:lnTo>
                        <a:pt x="6189584" y="4146353"/>
                      </a:lnTo>
                      <a:lnTo>
                        <a:pt x="6215315" y="4103404"/>
                      </a:lnTo>
                      <a:lnTo>
                        <a:pt x="6240451" y="4060111"/>
                      </a:lnTo>
                      <a:lnTo>
                        <a:pt x="6264990" y="4016480"/>
                      </a:lnTo>
                      <a:lnTo>
                        <a:pt x="6288926" y="3972519"/>
                      </a:lnTo>
                      <a:lnTo>
                        <a:pt x="6312255" y="3928236"/>
                      </a:lnTo>
                      <a:lnTo>
                        <a:pt x="6334974" y="3883638"/>
                      </a:lnTo>
                      <a:lnTo>
                        <a:pt x="6357079" y="3838734"/>
                      </a:lnTo>
                      <a:lnTo>
                        <a:pt x="6378566" y="3793531"/>
                      </a:lnTo>
                      <a:lnTo>
                        <a:pt x="6399431" y="3748036"/>
                      </a:lnTo>
                      <a:lnTo>
                        <a:pt x="6419669" y="3702258"/>
                      </a:lnTo>
                      <a:lnTo>
                        <a:pt x="6439277" y="3656203"/>
                      </a:lnTo>
                      <a:lnTo>
                        <a:pt x="6458251" y="3609880"/>
                      </a:lnTo>
                      <a:lnTo>
                        <a:pt x="6476587" y="3563297"/>
                      </a:lnTo>
                      <a:lnTo>
                        <a:pt x="6494281" y="3516460"/>
                      </a:lnTo>
                      <a:lnTo>
                        <a:pt x="6511642" y="3469831"/>
                      </a:lnTo>
                      <a:lnTo>
                        <a:pt x="6528236" y="3422987"/>
                      </a:lnTo>
                      <a:lnTo>
                        <a:pt x="6544060" y="3375934"/>
                      </a:lnTo>
                      <a:lnTo>
                        <a:pt x="6559114" y="3328680"/>
                      </a:lnTo>
                      <a:lnTo>
                        <a:pt x="6573397" y="3281232"/>
                      </a:lnTo>
                      <a:lnTo>
                        <a:pt x="6586907" y="3233595"/>
                      </a:lnTo>
                      <a:lnTo>
                        <a:pt x="6599643" y="3185776"/>
                      </a:lnTo>
                      <a:lnTo>
                        <a:pt x="6611604" y="3137782"/>
                      </a:lnTo>
                      <a:lnTo>
                        <a:pt x="6622788" y="3089620"/>
                      </a:lnTo>
                      <a:lnTo>
                        <a:pt x="6633194" y="3041295"/>
                      </a:lnTo>
                      <a:lnTo>
                        <a:pt x="6642821" y="2992815"/>
                      </a:lnTo>
                      <a:lnTo>
                        <a:pt x="6651668" y="2944186"/>
                      </a:lnTo>
                      <a:lnTo>
                        <a:pt x="6659733" y="2895415"/>
                      </a:lnTo>
                      <a:lnTo>
                        <a:pt x="6667016" y="2846508"/>
                      </a:lnTo>
                      <a:lnTo>
                        <a:pt x="6673514" y="2797472"/>
                      </a:lnTo>
                      <a:lnTo>
                        <a:pt x="6679226" y="2748313"/>
                      </a:lnTo>
                      <a:lnTo>
                        <a:pt x="6684152" y="2699039"/>
                      </a:lnTo>
                      <a:lnTo>
                        <a:pt x="6688290" y="2649655"/>
                      </a:lnTo>
                      <a:lnTo>
                        <a:pt x="6691639" y="2600168"/>
                      </a:lnTo>
                      <a:lnTo>
                        <a:pt x="6694160" y="2550015"/>
                      </a:lnTo>
                      <a:lnTo>
                        <a:pt x="6695551" y="2499840"/>
                      </a:lnTo>
                      <a:lnTo>
                        <a:pt x="6695819" y="2449666"/>
                      </a:lnTo>
                      <a:lnTo>
                        <a:pt x="6694966" y="2399515"/>
                      </a:lnTo>
                      <a:lnTo>
                        <a:pt x="6692997" y="2349409"/>
                      </a:lnTo>
                      <a:lnTo>
                        <a:pt x="6689917" y="2299371"/>
                      </a:lnTo>
                      <a:lnTo>
                        <a:pt x="6685728" y="2249423"/>
                      </a:lnTo>
                      <a:lnTo>
                        <a:pt x="6680437" y="2199588"/>
                      </a:lnTo>
                      <a:lnTo>
                        <a:pt x="6674046" y="2149889"/>
                      </a:lnTo>
                      <a:lnTo>
                        <a:pt x="6666560" y="2100347"/>
                      </a:lnTo>
                      <a:lnTo>
                        <a:pt x="6657983" y="2050985"/>
                      </a:lnTo>
                      <a:lnTo>
                        <a:pt x="6648319" y="2001826"/>
                      </a:lnTo>
                      <a:lnTo>
                        <a:pt x="6637573" y="1952892"/>
                      </a:lnTo>
                      <a:lnTo>
                        <a:pt x="6625748" y="1904206"/>
                      </a:lnTo>
                      <a:lnTo>
                        <a:pt x="6612849" y="1855789"/>
                      </a:lnTo>
                      <a:lnTo>
                        <a:pt x="6598881" y="1807665"/>
                      </a:lnTo>
                      <a:lnTo>
                        <a:pt x="6583846" y="1759856"/>
                      </a:lnTo>
                      <a:lnTo>
                        <a:pt x="6567750" y="1712384"/>
                      </a:lnTo>
                      <a:lnTo>
                        <a:pt x="6550596" y="1665272"/>
                      </a:lnTo>
                      <a:lnTo>
                        <a:pt x="6532390" y="1618542"/>
                      </a:lnTo>
                      <a:lnTo>
                        <a:pt x="6513134" y="1572217"/>
                      </a:lnTo>
                      <a:lnTo>
                        <a:pt x="6492833" y="1526320"/>
                      </a:lnTo>
                      <a:lnTo>
                        <a:pt x="6470726" y="1481284"/>
                      </a:lnTo>
                      <a:lnTo>
                        <a:pt x="6447770" y="1436737"/>
                      </a:lnTo>
                      <a:lnTo>
                        <a:pt x="6423972" y="1392687"/>
                      </a:lnTo>
                      <a:lnTo>
                        <a:pt x="6399338" y="1349144"/>
                      </a:lnTo>
                      <a:lnTo>
                        <a:pt x="6373875" y="1306117"/>
                      </a:lnTo>
                      <a:lnTo>
                        <a:pt x="6347588" y="1263615"/>
                      </a:lnTo>
                      <a:lnTo>
                        <a:pt x="6320484" y="1221646"/>
                      </a:lnTo>
                      <a:lnTo>
                        <a:pt x="6292569" y="1180221"/>
                      </a:lnTo>
                      <a:lnTo>
                        <a:pt x="6263849" y="1139347"/>
                      </a:lnTo>
                      <a:lnTo>
                        <a:pt x="6234331" y="1099035"/>
                      </a:lnTo>
                      <a:lnTo>
                        <a:pt x="6204020" y="1059293"/>
                      </a:lnTo>
                      <a:lnTo>
                        <a:pt x="6172924" y="1020130"/>
                      </a:lnTo>
                      <a:lnTo>
                        <a:pt x="6141047" y="981555"/>
                      </a:lnTo>
                      <a:lnTo>
                        <a:pt x="6108398" y="943577"/>
                      </a:lnTo>
                      <a:lnTo>
                        <a:pt x="6074980" y="906206"/>
                      </a:lnTo>
                      <a:lnTo>
                        <a:pt x="6040802" y="869450"/>
                      </a:lnTo>
                      <a:lnTo>
                        <a:pt x="6006533" y="834233"/>
                      </a:lnTo>
                      <a:lnTo>
                        <a:pt x="5971475" y="799937"/>
                      </a:lnTo>
                      <a:lnTo>
                        <a:pt x="5935640" y="766570"/>
                      </a:lnTo>
                      <a:lnTo>
                        <a:pt x="5899038" y="734141"/>
                      </a:lnTo>
                      <a:lnTo>
                        <a:pt x="5861681" y="702658"/>
                      </a:lnTo>
                      <a:lnTo>
                        <a:pt x="5823580" y="672130"/>
                      </a:lnTo>
                      <a:lnTo>
                        <a:pt x="5784746" y="642565"/>
                      </a:lnTo>
                      <a:lnTo>
                        <a:pt x="5745192" y="613971"/>
                      </a:lnTo>
                      <a:lnTo>
                        <a:pt x="5704927" y="586356"/>
                      </a:lnTo>
                      <a:lnTo>
                        <a:pt x="5663963" y="559729"/>
                      </a:lnTo>
                      <a:lnTo>
                        <a:pt x="5622311" y="534098"/>
                      </a:lnTo>
                      <a:lnTo>
                        <a:pt x="5579983" y="509472"/>
                      </a:lnTo>
                      <a:lnTo>
                        <a:pt x="5536990" y="485858"/>
                      </a:lnTo>
                      <a:lnTo>
                        <a:pt x="5493343" y="463266"/>
                      </a:lnTo>
                      <a:lnTo>
                        <a:pt x="5448355" y="440746"/>
                      </a:lnTo>
                      <a:lnTo>
                        <a:pt x="5403053" y="418862"/>
                      </a:lnTo>
                      <a:lnTo>
                        <a:pt x="5357449" y="397620"/>
                      </a:lnTo>
                      <a:lnTo>
                        <a:pt x="5311554" y="377021"/>
                      </a:lnTo>
                      <a:lnTo>
                        <a:pt x="5265377" y="357072"/>
                      </a:lnTo>
                      <a:lnTo>
                        <a:pt x="5218931" y="337774"/>
                      </a:lnTo>
                      <a:lnTo>
                        <a:pt x="5172225" y="319134"/>
                      </a:lnTo>
                      <a:lnTo>
                        <a:pt x="5125270" y="301154"/>
                      </a:lnTo>
                      <a:lnTo>
                        <a:pt x="5078078" y="283839"/>
                      </a:lnTo>
                      <a:lnTo>
                        <a:pt x="5030658" y="267192"/>
                      </a:lnTo>
                      <a:lnTo>
                        <a:pt x="4983021" y="251218"/>
                      </a:lnTo>
                      <a:lnTo>
                        <a:pt x="4935179" y="235921"/>
                      </a:lnTo>
                      <a:lnTo>
                        <a:pt x="4887142" y="221304"/>
                      </a:lnTo>
                      <a:lnTo>
                        <a:pt x="4838921" y="207371"/>
                      </a:lnTo>
                      <a:lnTo>
                        <a:pt x="4790525" y="194128"/>
                      </a:lnTo>
                      <a:lnTo>
                        <a:pt x="4740876" y="181185"/>
                      </a:lnTo>
                      <a:lnTo>
                        <a:pt x="4691107" y="168681"/>
                      </a:lnTo>
                      <a:lnTo>
                        <a:pt x="4641222" y="156618"/>
                      </a:lnTo>
                      <a:lnTo>
                        <a:pt x="4591226" y="144995"/>
                      </a:lnTo>
                      <a:lnTo>
                        <a:pt x="4541125" y="133815"/>
                      </a:lnTo>
                      <a:lnTo>
                        <a:pt x="4490921" y="123076"/>
                      </a:lnTo>
                      <a:lnTo>
                        <a:pt x="4440621" y="112781"/>
                      </a:lnTo>
                      <a:lnTo>
                        <a:pt x="4390228" y="102930"/>
                      </a:lnTo>
                      <a:lnTo>
                        <a:pt x="4339747" y="93523"/>
                      </a:lnTo>
                      <a:lnTo>
                        <a:pt x="4289182" y="84561"/>
                      </a:lnTo>
                      <a:lnTo>
                        <a:pt x="4238539" y="76045"/>
                      </a:lnTo>
                      <a:lnTo>
                        <a:pt x="4187821" y="67975"/>
                      </a:lnTo>
                      <a:lnTo>
                        <a:pt x="4137034" y="60353"/>
                      </a:lnTo>
                      <a:lnTo>
                        <a:pt x="4086181" y="53179"/>
                      </a:lnTo>
                      <a:lnTo>
                        <a:pt x="4035267" y="46453"/>
                      </a:lnTo>
                      <a:lnTo>
                        <a:pt x="3984298" y="40177"/>
                      </a:lnTo>
                      <a:lnTo>
                        <a:pt x="3933277" y="34350"/>
                      </a:lnTo>
                      <a:lnTo>
                        <a:pt x="3882209" y="28974"/>
                      </a:lnTo>
                      <a:lnTo>
                        <a:pt x="3831099" y="24050"/>
                      </a:lnTo>
                      <a:lnTo>
                        <a:pt x="3779951" y="19578"/>
                      </a:lnTo>
                      <a:lnTo>
                        <a:pt x="3728769" y="15558"/>
                      </a:lnTo>
                      <a:lnTo>
                        <a:pt x="3677559" y="11992"/>
                      </a:lnTo>
                      <a:lnTo>
                        <a:pt x="3626325" y="8880"/>
                      </a:lnTo>
                      <a:lnTo>
                        <a:pt x="3575071" y="6223"/>
                      </a:lnTo>
                      <a:lnTo>
                        <a:pt x="3523802" y="4021"/>
                      </a:lnTo>
                      <a:lnTo>
                        <a:pt x="3473361" y="2008"/>
                      </a:lnTo>
                      <a:lnTo>
                        <a:pt x="3423017" y="668"/>
                      </a:lnTo>
                      <a:lnTo>
                        <a:pt x="3372774" y="0"/>
                      </a:lnTo>
                      <a:lnTo>
                        <a:pt x="3322634" y="0"/>
                      </a:lnTo>
                      <a:lnTo>
                        <a:pt x="3272603" y="665"/>
                      </a:lnTo>
                      <a:lnTo>
                        <a:pt x="3222682" y="1994"/>
                      </a:lnTo>
                      <a:lnTo>
                        <a:pt x="3172876" y="3983"/>
                      </a:lnTo>
                      <a:lnTo>
                        <a:pt x="3119725" y="6669"/>
                      </a:lnTo>
                      <a:lnTo>
                        <a:pt x="3066743" y="9770"/>
                      </a:lnTo>
                      <a:lnTo>
                        <a:pt x="3013935" y="13286"/>
                      </a:lnTo>
                      <a:lnTo>
                        <a:pt x="2961305" y="17216"/>
                      </a:lnTo>
                      <a:lnTo>
                        <a:pt x="2908857" y="21559"/>
                      </a:lnTo>
                      <a:lnTo>
                        <a:pt x="2856596" y="26315"/>
                      </a:lnTo>
                      <a:lnTo>
                        <a:pt x="2804526" y="31482"/>
                      </a:lnTo>
                      <a:lnTo>
                        <a:pt x="2752653" y="37061"/>
                      </a:lnTo>
                      <a:lnTo>
                        <a:pt x="2700981" y="43050"/>
                      </a:lnTo>
                      <a:lnTo>
                        <a:pt x="2649514" y="49449"/>
                      </a:lnTo>
                      <a:lnTo>
                        <a:pt x="2598256" y="56257"/>
                      </a:lnTo>
                      <a:lnTo>
                        <a:pt x="2547213" y="63473"/>
                      </a:lnTo>
                      <a:lnTo>
                        <a:pt x="2496389" y="71097"/>
                      </a:lnTo>
                      <a:lnTo>
                        <a:pt x="2445789" y="79128"/>
                      </a:lnTo>
                      <a:lnTo>
                        <a:pt x="2395416" y="87566"/>
                      </a:lnTo>
                      <a:lnTo>
                        <a:pt x="2345276" y="96409"/>
                      </a:lnTo>
                      <a:lnTo>
                        <a:pt x="2295373" y="105657"/>
                      </a:lnTo>
                      <a:lnTo>
                        <a:pt x="2245713" y="115310"/>
                      </a:lnTo>
                      <a:lnTo>
                        <a:pt x="2196298" y="125366"/>
                      </a:lnTo>
                      <a:lnTo>
                        <a:pt x="2147134" y="135825"/>
                      </a:lnTo>
                      <a:lnTo>
                        <a:pt x="2098226" y="146687"/>
                      </a:lnTo>
                      <a:lnTo>
                        <a:pt x="2049577" y="157949"/>
                      </a:lnTo>
                      <a:lnTo>
                        <a:pt x="2001194" y="169613"/>
                      </a:lnTo>
                      <a:lnTo>
                        <a:pt x="1953079" y="181677"/>
                      </a:lnTo>
                      <a:lnTo>
                        <a:pt x="1905238" y="194140"/>
                      </a:lnTo>
                      <a:lnTo>
                        <a:pt x="1856855" y="207382"/>
                      </a:lnTo>
                      <a:lnTo>
                        <a:pt x="1808646" y="221311"/>
                      </a:lnTo>
                      <a:lnTo>
                        <a:pt x="1760622" y="235924"/>
                      </a:lnTo>
                      <a:lnTo>
                        <a:pt x="1712795" y="251216"/>
                      </a:lnTo>
                      <a:lnTo>
                        <a:pt x="1665177" y="267182"/>
                      </a:lnTo>
                      <a:lnTo>
                        <a:pt x="1617779" y="283819"/>
                      </a:lnTo>
                      <a:lnTo>
                        <a:pt x="1570614" y="301122"/>
                      </a:lnTo>
                      <a:lnTo>
                        <a:pt x="1523692" y="319086"/>
                      </a:lnTo>
                      <a:lnTo>
                        <a:pt x="1477026" y="337707"/>
                      </a:lnTo>
                      <a:lnTo>
                        <a:pt x="1430627" y="356980"/>
                      </a:lnTo>
                      <a:lnTo>
                        <a:pt x="1384508" y="376901"/>
                      </a:lnTo>
                      <a:lnTo>
                        <a:pt x="1338679" y="397465"/>
                      </a:lnTo>
                      <a:lnTo>
                        <a:pt x="1293153" y="418669"/>
                      </a:lnTo>
                      <a:lnTo>
                        <a:pt x="1247941" y="440506"/>
                      </a:lnTo>
                      <a:lnTo>
                        <a:pt x="1203055" y="462974"/>
                      </a:lnTo>
                      <a:lnTo>
                        <a:pt x="1159294" y="485625"/>
                      </a:lnTo>
                      <a:lnTo>
                        <a:pt x="1116203" y="509288"/>
                      </a:lnTo>
                      <a:lnTo>
                        <a:pt x="1073792" y="533957"/>
                      </a:lnTo>
                      <a:lnTo>
                        <a:pt x="1032071" y="559624"/>
                      </a:lnTo>
                      <a:lnTo>
                        <a:pt x="991050" y="586281"/>
                      </a:lnTo>
                      <a:lnTo>
                        <a:pt x="950739" y="613920"/>
                      </a:lnTo>
                      <a:lnTo>
                        <a:pt x="911147" y="642535"/>
                      </a:lnTo>
                      <a:lnTo>
                        <a:pt x="872284" y="672117"/>
                      </a:lnTo>
                      <a:lnTo>
                        <a:pt x="834162" y="702659"/>
                      </a:lnTo>
                      <a:lnTo>
                        <a:pt x="796788" y="734153"/>
                      </a:lnTo>
                      <a:lnTo>
                        <a:pt x="760174" y="766592"/>
                      </a:lnTo>
                      <a:lnTo>
                        <a:pt x="724329" y="799968"/>
                      </a:lnTo>
                      <a:lnTo>
                        <a:pt x="689263" y="834273"/>
                      </a:lnTo>
                      <a:lnTo>
                        <a:pt x="654986" y="869501"/>
                      </a:lnTo>
                      <a:lnTo>
                        <a:pt x="620812" y="906255"/>
                      </a:lnTo>
                      <a:lnTo>
                        <a:pt x="587399" y="943624"/>
                      </a:lnTo>
                      <a:lnTo>
                        <a:pt x="554753" y="981599"/>
                      </a:lnTo>
                      <a:lnTo>
                        <a:pt x="522879" y="1020172"/>
                      </a:lnTo>
                      <a:lnTo>
                        <a:pt x="491785" y="1059334"/>
                      </a:lnTo>
                      <a:lnTo>
                        <a:pt x="461477" y="1099074"/>
                      </a:lnTo>
                      <a:lnTo>
                        <a:pt x="431960" y="1139385"/>
                      </a:lnTo>
                      <a:lnTo>
                        <a:pt x="403242" y="1180256"/>
                      </a:lnTo>
                      <a:lnTo>
                        <a:pt x="375328" y="1221679"/>
                      </a:lnTo>
                      <a:lnTo>
                        <a:pt x="348225" y="1263644"/>
                      </a:lnTo>
                      <a:lnTo>
                        <a:pt x="321938" y="1306143"/>
                      </a:lnTo>
                      <a:lnTo>
                        <a:pt x="296475" y="1349166"/>
                      </a:lnTo>
                      <a:lnTo>
                        <a:pt x="271842" y="1392705"/>
                      </a:lnTo>
                      <a:lnTo>
                        <a:pt x="248044" y="1436749"/>
                      </a:lnTo>
                      <a:lnTo>
                        <a:pt x="225088" y="1481291"/>
                      </a:lnTo>
                      <a:lnTo>
                        <a:pt x="202981" y="1526320"/>
                      </a:lnTo>
                      <a:lnTo>
                        <a:pt x="182682" y="1572219"/>
                      </a:lnTo>
                      <a:lnTo>
                        <a:pt x="163427" y="1618545"/>
                      </a:lnTo>
                      <a:lnTo>
                        <a:pt x="145222" y="1665275"/>
                      </a:lnTo>
                      <a:lnTo>
                        <a:pt x="128070" y="1712387"/>
                      </a:lnTo>
                      <a:lnTo>
                        <a:pt x="111974" y="1759858"/>
                      </a:lnTo>
                      <a:lnTo>
                        <a:pt x="96941" y="1807666"/>
                      </a:lnTo>
                      <a:lnTo>
                        <a:pt x="82973" y="1855787"/>
                      </a:lnTo>
                      <a:lnTo>
                        <a:pt x="70075" y="1904200"/>
                      </a:lnTo>
                      <a:lnTo>
                        <a:pt x="58250" y="1952881"/>
                      </a:lnTo>
                      <a:lnTo>
                        <a:pt x="47504" y="2001809"/>
                      </a:lnTo>
                      <a:lnTo>
                        <a:pt x="37841" y="2050960"/>
                      </a:lnTo>
                      <a:lnTo>
                        <a:pt x="29264" y="2100312"/>
                      </a:lnTo>
                      <a:lnTo>
                        <a:pt x="21777" y="2149843"/>
                      </a:lnTo>
                      <a:lnTo>
                        <a:pt x="15386" y="2199529"/>
                      </a:lnTo>
                      <a:lnTo>
                        <a:pt x="10094" y="2249349"/>
                      </a:lnTo>
                      <a:lnTo>
                        <a:pt x="5905" y="2299280"/>
                      </a:lnTo>
                      <a:lnTo>
                        <a:pt x="2823" y="2349299"/>
                      </a:lnTo>
                      <a:lnTo>
                        <a:pt x="853" y="2399384"/>
                      </a:lnTo>
                      <a:lnTo>
                        <a:pt x="0" y="2449511"/>
                      </a:lnTo>
                      <a:lnTo>
                        <a:pt x="266" y="2499659"/>
                      </a:lnTo>
                      <a:lnTo>
                        <a:pt x="1656" y="2549805"/>
                      </a:lnTo>
                      <a:lnTo>
                        <a:pt x="4175" y="2599927"/>
                      </a:lnTo>
                      <a:lnTo>
                        <a:pt x="7523" y="2649440"/>
                      </a:lnTo>
                      <a:lnTo>
                        <a:pt x="11661" y="2698847"/>
                      </a:lnTo>
                      <a:lnTo>
                        <a:pt x="16586" y="2748141"/>
                      </a:lnTo>
                      <a:lnTo>
                        <a:pt x="22297" y="2797313"/>
                      </a:lnTo>
                      <a:lnTo>
                        <a:pt x="28792" y="2846358"/>
                      </a:lnTo>
                      <a:lnTo>
                        <a:pt x="36069" y="2895267"/>
                      </a:lnTo>
                      <a:lnTo>
                        <a:pt x="44127" y="2944033"/>
                      </a:lnTo>
                      <a:lnTo>
                        <a:pt x="52965" y="2992650"/>
                      </a:lnTo>
                      <a:lnTo>
                        <a:pt x="62581" y="3041109"/>
                      </a:lnTo>
                      <a:lnTo>
                        <a:pt x="72972" y="3089403"/>
                      </a:lnTo>
                      <a:lnTo>
                        <a:pt x="84139" y="3137526"/>
                      </a:lnTo>
                      <a:lnTo>
                        <a:pt x="96078" y="3185469"/>
                      </a:lnTo>
                      <a:lnTo>
                        <a:pt x="108789" y="3233226"/>
                      </a:lnTo>
                      <a:lnTo>
                        <a:pt x="122269" y="3280789"/>
                      </a:lnTo>
                      <a:lnTo>
                        <a:pt x="136518" y="3328152"/>
                      </a:lnTo>
                      <a:lnTo>
                        <a:pt x="151534" y="3375306"/>
                      </a:lnTo>
                      <a:lnTo>
                        <a:pt x="167314" y="3422244"/>
                      </a:lnTo>
                      <a:lnTo>
                        <a:pt x="183858" y="3468959"/>
                      </a:lnTo>
                      <a:lnTo>
                        <a:pt x="201164" y="3515444"/>
                      </a:lnTo>
                      <a:lnTo>
                        <a:pt x="218920" y="3562441"/>
                      </a:lnTo>
                      <a:lnTo>
                        <a:pt x="237311" y="3609167"/>
                      </a:lnTo>
                      <a:lnTo>
                        <a:pt x="256334" y="3655615"/>
                      </a:lnTo>
                      <a:lnTo>
                        <a:pt x="275985" y="3701780"/>
                      </a:lnTo>
                      <a:lnTo>
                        <a:pt x="296260" y="3747653"/>
                      </a:lnTo>
                      <a:lnTo>
                        <a:pt x="317156" y="3793230"/>
                      </a:lnTo>
                      <a:lnTo>
                        <a:pt x="338669" y="3838502"/>
                      </a:lnTo>
                      <a:lnTo>
                        <a:pt x="360796" y="3883464"/>
                      </a:lnTo>
                      <a:lnTo>
                        <a:pt x="383533" y="3928109"/>
                      </a:lnTo>
                      <a:lnTo>
                        <a:pt x="406877" y="3972430"/>
                      </a:lnTo>
                      <a:lnTo>
                        <a:pt x="430823" y="4016420"/>
                      </a:lnTo>
                      <a:lnTo>
                        <a:pt x="455369" y="4060073"/>
                      </a:lnTo>
                      <a:lnTo>
                        <a:pt x="480511" y="4103383"/>
                      </a:lnTo>
                      <a:lnTo>
                        <a:pt x="506245" y="4146342"/>
                      </a:lnTo>
                      <a:lnTo>
                        <a:pt x="532568" y="4188944"/>
                      </a:lnTo>
                      <a:lnTo>
                        <a:pt x="559476" y="4231182"/>
                      </a:lnTo>
                      <a:lnTo>
                        <a:pt x="586965" y="4273050"/>
                      </a:lnTo>
                      <a:lnTo>
                        <a:pt x="615032" y="4314541"/>
                      </a:lnTo>
                      <a:lnTo>
                        <a:pt x="615959" y="4315887"/>
                      </a:lnTo>
                      <a:lnTo>
                        <a:pt x="616861" y="4317272"/>
                      </a:lnTo>
                      <a:lnTo>
                        <a:pt x="644033" y="4359978"/>
                      </a:lnTo>
                      <a:lnTo>
                        <a:pt x="671249" y="4400777"/>
                      </a:lnTo>
                      <a:lnTo>
                        <a:pt x="699347" y="4441017"/>
                      </a:lnTo>
                      <a:lnTo>
                        <a:pt x="728302" y="4480665"/>
                      </a:lnTo>
                      <a:lnTo>
                        <a:pt x="758087" y="4519685"/>
                      </a:lnTo>
                      <a:lnTo>
                        <a:pt x="788676" y="4558041"/>
                      </a:lnTo>
                      <a:lnTo>
                        <a:pt x="820045" y="4595700"/>
                      </a:lnTo>
                      <a:lnTo>
                        <a:pt x="852166" y="4632625"/>
                      </a:lnTo>
                      <a:lnTo>
                        <a:pt x="888064" y="4672803"/>
                      </a:lnTo>
                      <a:lnTo>
                        <a:pt x="924563" y="4712528"/>
                      </a:lnTo>
                      <a:lnTo>
                        <a:pt x="961625" y="4751762"/>
                      </a:lnTo>
                      <a:lnTo>
                        <a:pt x="999213" y="4790469"/>
                      </a:lnTo>
                      <a:lnTo>
                        <a:pt x="1037290" y="4828610"/>
                      </a:lnTo>
                      <a:lnTo>
                        <a:pt x="1075820" y="4866149"/>
                      </a:lnTo>
                      <a:lnTo>
                        <a:pt x="1114764" y="4903046"/>
                      </a:lnTo>
                      <a:lnTo>
                        <a:pt x="1149307" y="4935119"/>
                      </a:lnTo>
                      <a:lnTo>
                        <a:pt x="1184286" y="4966932"/>
                      </a:lnTo>
                      <a:lnTo>
                        <a:pt x="1219649" y="4998441"/>
                      </a:lnTo>
                      <a:lnTo>
                        <a:pt x="1255348" y="5029601"/>
                      </a:lnTo>
                      <a:lnTo>
                        <a:pt x="1291332" y="5060370"/>
                      </a:lnTo>
                      <a:lnTo>
                        <a:pt x="1327553" y="5090702"/>
                      </a:lnTo>
                      <a:lnTo>
                        <a:pt x="1359108" y="5116564"/>
                      </a:lnTo>
                      <a:lnTo>
                        <a:pt x="1391091" y="5142149"/>
                      </a:lnTo>
                      <a:lnTo>
                        <a:pt x="1414383" y="5160247"/>
                      </a:lnTo>
                      <a:lnTo>
                        <a:pt x="1415729" y="5161314"/>
                      </a:lnTo>
                      <a:lnTo>
                        <a:pt x="1417062" y="5162380"/>
                      </a:lnTo>
                      <a:lnTo>
                        <a:pt x="1418371" y="5163511"/>
                      </a:lnTo>
                      <a:lnTo>
                        <a:pt x="1444482" y="5185888"/>
                      </a:lnTo>
                      <a:lnTo>
                        <a:pt x="1455398" y="5175873"/>
                      </a:lnTo>
                      <a:lnTo>
                        <a:pt x="1465480" y="5166552"/>
                      </a:lnTo>
                      <a:lnTo>
                        <a:pt x="1474330" y="5158328"/>
                      </a:lnTo>
                      <a:lnTo>
                        <a:pt x="1481553" y="5151598"/>
                      </a:lnTo>
                      <a:lnTo>
                        <a:pt x="1488596" y="5145043"/>
                      </a:lnTo>
                      <a:lnTo>
                        <a:pt x="1494447" y="5139638"/>
                      </a:lnTo>
                      <a:lnTo>
                        <a:pt x="1498930" y="5135543"/>
                      </a:lnTo>
                      <a:lnTo>
                        <a:pt x="1501873" y="5132916"/>
                      </a:lnTo>
                      <a:lnTo>
                        <a:pt x="1502394" y="5132472"/>
                      </a:lnTo>
                      <a:lnTo>
                        <a:pt x="1502914" y="5132027"/>
                      </a:lnTo>
                      <a:lnTo>
                        <a:pt x="1543603" y="5098866"/>
                      </a:lnTo>
                      <a:lnTo>
                        <a:pt x="1584410" y="5066845"/>
                      </a:lnTo>
                      <a:lnTo>
                        <a:pt x="1625841" y="5035541"/>
                      </a:lnTo>
                      <a:lnTo>
                        <a:pt x="1667865" y="5004975"/>
                      </a:lnTo>
                      <a:lnTo>
                        <a:pt x="1710453" y="4975167"/>
                      </a:lnTo>
                      <a:lnTo>
                        <a:pt x="1753576" y="4946138"/>
                      </a:lnTo>
                      <a:lnTo>
                        <a:pt x="1797204" y="4917908"/>
                      </a:lnTo>
                      <a:lnTo>
                        <a:pt x="1841308" y="4890499"/>
                      </a:lnTo>
                      <a:lnTo>
                        <a:pt x="1885858" y="4863930"/>
                      </a:lnTo>
                      <a:lnTo>
                        <a:pt x="1931234" y="4838480"/>
                      </a:lnTo>
                      <a:lnTo>
                        <a:pt x="1976985" y="4813686"/>
                      </a:lnTo>
                      <a:lnTo>
                        <a:pt x="2023090" y="4789556"/>
                      </a:lnTo>
                      <a:lnTo>
                        <a:pt x="2069527" y="4766100"/>
                      </a:lnTo>
                      <a:lnTo>
                        <a:pt x="2116277" y="4743328"/>
                      </a:lnTo>
                      <a:lnTo>
                        <a:pt x="2163318" y="4721248"/>
                      </a:lnTo>
                      <a:lnTo>
                        <a:pt x="2210631" y="4699871"/>
                      </a:lnTo>
                      <a:lnTo>
                        <a:pt x="2258195" y="4679204"/>
                      </a:lnTo>
                      <a:lnTo>
                        <a:pt x="2305989" y="4659258"/>
                      </a:lnTo>
                      <a:lnTo>
                        <a:pt x="2353992" y="4640042"/>
                      </a:lnTo>
                      <a:lnTo>
                        <a:pt x="2355008" y="4639648"/>
                      </a:lnTo>
                      <a:lnTo>
                        <a:pt x="2355516" y="4639458"/>
                      </a:lnTo>
                      <a:lnTo>
                        <a:pt x="2403958" y="4621843"/>
                      </a:lnTo>
                      <a:lnTo>
                        <a:pt x="2452716" y="4605166"/>
                      </a:lnTo>
                      <a:lnTo>
                        <a:pt x="2501774" y="4589431"/>
                      </a:lnTo>
                      <a:lnTo>
                        <a:pt x="2551114" y="4574643"/>
                      </a:lnTo>
                      <a:lnTo>
                        <a:pt x="2600722" y="4560805"/>
                      </a:lnTo>
                      <a:lnTo>
                        <a:pt x="2650580" y="4547921"/>
                      </a:lnTo>
                      <a:lnTo>
                        <a:pt x="2700672" y="4535995"/>
                      </a:lnTo>
                      <a:lnTo>
                        <a:pt x="2750981" y="4525031"/>
                      </a:lnTo>
                      <a:lnTo>
                        <a:pt x="2801493" y="4515034"/>
                      </a:lnTo>
                      <a:lnTo>
                        <a:pt x="2852189" y="4506006"/>
                      </a:lnTo>
                      <a:lnTo>
                        <a:pt x="2903053" y="4497953"/>
                      </a:lnTo>
                      <a:lnTo>
                        <a:pt x="2954070" y="4490878"/>
                      </a:lnTo>
                      <a:lnTo>
                        <a:pt x="3005223" y="4484785"/>
                      </a:lnTo>
                      <a:lnTo>
                        <a:pt x="3053815" y="4478561"/>
                      </a:lnTo>
                      <a:lnTo>
                        <a:pt x="3102574" y="4473294"/>
                      </a:lnTo>
                      <a:lnTo>
                        <a:pt x="3151473" y="4468985"/>
                      </a:lnTo>
                      <a:lnTo>
                        <a:pt x="3200484" y="4465634"/>
                      </a:lnTo>
                      <a:lnTo>
                        <a:pt x="3249579" y="4463240"/>
                      </a:lnTo>
                      <a:lnTo>
                        <a:pt x="3298731" y="4461803"/>
                      </a:lnTo>
                      <a:lnTo>
                        <a:pt x="3347910" y="4461325"/>
                      </a:lnTo>
                      <a:lnTo>
                        <a:pt x="3397090" y="4461803"/>
                      </a:lnTo>
                      <a:lnTo>
                        <a:pt x="3446242" y="4463240"/>
                      </a:lnTo>
                      <a:lnTo>
                        <a:pt x="3495339" y="4465634"/>
                      </a:lnTo>
                      <a:lnTo>
                        <a:pt x="3544353" y="4468985"/>
                      </a:lnTo>
                      <a:lnTo>
                        <a:pt x="3593256" y="4473294"/>
                      </a:lnTo>
                      <a:lnTo>
                        <a:pt x="3642020" y="4478561"/>
                      </a:lnTo>
                      <a:lnTo>
                        <a:pt x="3690616" y="4484785"/>
                      </a:lnTo>
                      <a:close/>
                    </a:path>
                  </a:pathLst>
                </a:custGeom>
                <a:noFill/>
                <a:ln w="10800">
                  <a:solidFill>
                    <a:srgbClr val="00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1" name="object 4"/>
                <p:cNvSpPr/>
                <p:nvPr/>
              </p:nvSpPr>
              <p:spPr>
                <a:xfrm>
                  <a:off x="1813680" y="1886040"/>
                  <a:ext cx="6922440" cy="5446080"/>
                </a:xfrm>
                <a:custGeom>
                  <a:avLst/>
                  <a:gdLst/>
                  <a:ahLst/>
                  <a:rect l="l" t="t" r="r" b="b"/>
                  <a:pathLst>
                    <a:path w="6911975" h="5436235">
                      <a:moveTo>
                        <a:pt x="6698758" y="1588582"/>
                      </a:moveTo>
                      <a:lnTo>
                        <a:pt x="6677111" y="1544387"/>
                      </a:lnTo>
                      <a:lnTo>
                        <a:pt x="6654668" y="1500624"/>
                      </a:lnTo>
                      <a:lnTo>
                        <a:pt x="6631435" y="1457305"/>
                      </a:lnTo>
                      <a:lnTo>
                        <a:pt x="6607419" y="1414439"/>
                      </a:lnTo>
                      <a:lnTo>
                        <a:pt x="6582628" y="1372038"/>
                      </a:lnTo>
                      <a:lnTo>
                        <a:pt x="6557069" y="1330111"/>
                      </a:lnTo>
                      <a:lnTo>
                        <a:pt x="6530749" y="1288668"/>
                      </a:lnTo>
                      <a:lnTo>
                        <a:pt x="6503675" y="1247719"/>
                      </a:lnTo>
                      <a:lnTo>
                        <a:pt x="6475854" y="1207276"/>
                      </a:lnTo>
                      <a:lnTo>
                        <a:pt x="6447293" y="1167348"/>
                      </a:lnTo>
                      <a:lnTo>
                        <a:pt x="6417999" y="1127945"/>
                      </a:lnTo>
                      <a:lnTo>
                        <a:pt x="6387980" y="1089078"/>
                      </a:lnTo>
                      <a:lnTo>
                        <a:pt x="6357242" y="1050757"/>
                      </a:lnTo>
                      <a:lnTo>
                        <a:pt x="6325792" y="1012993"/>
                      </a:lnTo>
                      <a:lnTo>
                        <a:pt x="6293638" y="975794"/>
                      </a:lnTo>
                      <a:lnTo>
                        <a:pt x="6260787" y="939173"/>
                      </a:lnTo>
                      <a:lnTo>
                        <a:pt x="6227245" y="903138"/>
                      </a:lnTo>
                      <a:lnTo>
                        <a:pt x="6191185" y="866086"/>
                      </a:lnTo>
                      <a:lnTo>
                        <a:pt x="6154252" y="829971"/>
                      </a:lnTo>
                      <a:lnTo>
                        <a:pt x="6116465" y="794805"/>
                      </a:lnTo>
                      <a:lnTo>
                        <a:pt x="6077843" y="760604"/>
                      </a:lnTo>
                      <a:lnTo>
                        <a:pt x="6038406" y="727381"/>
                      </a:lnTo>
                      <a:lnTo>
                        <a:pt x="5998172" y="695152"/>
                      </a:lnTo>
                      <a:lnTo>
                        <a:pt x="5957159" y="663929"/>
                      </a:lnTo>
                      <a:lnTo>
                        <a:pt x="5915388" y="633727"/>
                      </a:lnTo>
                      <a:lnTo>
                        <a:pt x="5872876" y="604560"/>
                      </a:lnTo>
                      <a:lnTo>
                        <a:pt x="5829644" y="576443"/>
                      </a:lnTo>
                      <a:lnTo>
                        <a:pt x="5785708" y="549390"/>
                      </a:lnTo>
                      <a:lnTo>
                        <a:pt x="5741090" y="523415"/>
                      </a:lnTo>
                      <a:lnTo>
                        <a:pt x="5695807" y="498531"/>
                      </a:lnTo>
                      <a:lnTo>
                        <a:pt x="5649878" y="474754"/>
                      </a:lnTo>
                      <a:lnTo>
                        <a:pt x="5603578" y="451576"/>
                      </a:lnTo>
                      <a:lnTo>
                        <a:pt x="5556971" y="429059"/>
                      </a:lnTo>
                      <a:lnTo>
                        <a:pt x="5510063" y="407205"/>
                      </a:lnTo>
                      <a:lnTo>
                        <a:pt x="5462863" y="386018"/>
                      </a:lnTo>
                      <a:lnTo>
                        <a:pt x="5415377" y="365500"/>
                      </a:lnTo>
                      <a:lnTo>
                        <a:pt x="5367613" y="345655"/>
                      </a:lnTo>
                      <a:lnTo>
                        <a:pt x="5319577" y="326485"/>
                      </a:lnTo>
                      <a:lnTo>
                        <a:pt x="5271276" y="307992"/>
                      </a:lnTo>
                      <a:lnTo>
                        <a:pt x="5222719" y="290181"/>
                      </a:lnTo>
                      <a:lnTo>
                        <a:pt x="5173911" y="273053"/>
                      </a:lnTo>
                      <a:lnTo>
                        <a:pt x="5124861" y="256611"/>
                      </a:lnTo>
                      <a:lnTo>
                        <a:pt x="5075574" y="240859"/>
                      </a:lnTo>
                      <a:lnTo>
                        <a:pt x="5026059" y="225799"/>
                      </a:lnTo>
                      <a:lnTo>
                        <a:pt x="4976323" y="211434"/>
                      </a:lnTo>
                      <a:lnTo>
                        <a:pt x="4926372" y="197767"/>
                      </a:lnTo>
                      <a:lnTo>
                        <a:pt x="4877672" y="185060"/>
                      </a:lnTo>
                      <a:lnTo>
                        <a:pt x="4828877" y="172770"/>
                      </a:lnTo>
                      <a:lnTo>
                        <a:pt x="4779989" y="160899"/>
                      </a:lnTo>
                      <a:lnTo>
                        <a:pt x="4731010" y="149445"/>
                      </a:lnTo>
                      <a:lnTo>
                        <a:pt x="4681944" y="138411"/>
                      </a:lnTo>
                      <a:lnTo>
                        <a:pt x="4632792" y="127795"/>
                      </a:lnTo>
                      <a:lnTo>
                        <a:pt x="4583558" y="117599"/>
                      </a:lnTo>
                      <a:lnTo>
                        <a:pt x="4534245" y="107823"/>
                      </a:lnTo>
                      <a:lnTo>
                        <a:pt x="4484855" y="98468"/>
                      </a:lnTo>
                      <a:lnTo>
                        <a:pt x="4435390" y="89532"/>
                      </a:lnTo>
                      <a:lnTo>
                        <a:pt x="4385854" y="81019"/>
                      </a:lnTo>
                      <a:lnTo>
                        <a:pt x="4336249" y="72926"/>
                      </a:lnTo>
                      <a:lnTo>
                        <a:pt x="4286577" y="65255"/>
                      </a:lnTo>
                      <a:lnTo>
                        <a:pt x="4236842" y="58007"/>
                      </a:lnTo>
                      <a:lnTo>
                        <a:pt x="4187047" y="51181"/>
                      </a:lnTo>
                      <a:lnTo>
                        <a:pt x="4137192" y="44779"/>
                      </a:lnTo>
                      <a:lnTo>
                        <a:pt x="4087283" y="38800"/>
                      </a:lnTo>
                      <a:lnTo>
                        <a:pt x="4037320" y="33244"/>
                      </a:lnTo>
                      <a:lnTo>
                        <a:pt x="3987308" y="28113"/>
                      </a:lnTo>
                      <a:lnTo>
                        <a:pt x="3937247" y="23406"/>
                      </a:lnTo>
                      <a:lnTo>
                        <a:pt x="3887142" y="19125"/>
                      </a:lnTo>
                      <a:lnTo>
                        <a:pt x="3836995" y="15268"/>
                      </a:lnTo>
                      <a:lnTo>
                        <a:pt x="3786809" y="11838"/>
                      </a:lnTo>
                      <a:lnTo>
                        <a:pt x="3736585" y="8834"/>
                      </a:lnTo>
                      <a:lnTo>
                        <a:pt x="3686328" y="6256"/>
                      </a:lnTo>
                      <a:lnTo>
                        <a:pt x="3636039" y="4105"/>
                      </a:lnTo>
                      <a:lnTo>
                        <a:pt x="3584614" y="2052"/>
                      </a:lnTo>
                      <a:lnTo>
                        <a:pt x="3533172" y="684"/>
                      </a:lnTo>
                      <a:lnTo>
                        <a:pt x="3481719" y="0"/>
                      </a:lnTo>
                      <a:lnTo>
                        <a:pt x="3430263" y="0"/>
                      </a:lnTo>
                      <a:lnTo>
                        <a:pt x="3378810" y="684"/>
                      </a:lnTo>
                      <a:lnTo>
                        <a:pt x="3327368" y="2052"/>
                      </a:lnTo>
                      <a:lnTo>
                        <a:pt x="3275943" y="4105"/>
                      </a:lnTo>
                      <a:lnTo>
                        <a:pt x="3225673" y="6628"/>
                      </a:lnTo>
                      <a:lnTo>
                        <a:pt x="3175432" y="9520"/>
                      </a:lnTo>
                      <a:lnTo>
                        <a:pt x="3125221" y="12784"/>
                      </a:lnTo>
                      <a:lnTo>
                        <a:pt x="3075045" y="16422"/>
                      </a:lnTo>
                      <a:lnTo>
                        <a:pt x="3024905" y="20439"/>
                      </a:lnTo>
                      <a:lnTo>
                        <a:pt x="2974806" y="24837"/>
                      </a:lnTo>
                      <a:lnTo>
                        <a:pt x="2924749" y="29619"/>
                      </a:lnTo>
                      <a:lnTo>
                        <a:pt x="2874738" y="34789"/>
                      </a:lnTo>
                      <a:lnTo>
                        <a:pt x="2824775" y="40350"/>
                      </a:lnTo>
                      <a:lnTo>
                        <a:pt x="2774863" y="46305"/>
                      </a:lnTo>
                      <a:lnTo>
                        <a:pt x="2725006" y="52657"/>
                      </a:lnTo>
                      <a:lnTo>
                        <a:pt x="2675205" y="59409"/>
                      </a:lnTo>
                      <a:lnTo>
                        <a:pt x="2625465" y="66565"/>
                      </a:lnTo>
                      <a:lnTo>
                        <a:pt x="2575787" y="74128"/>
                      </a:lnTo>
                      <a:lnTo>
                        <a:pt x="2526175" y="82101"/>
                      </a:lnTo>
                      <a:lnTo>
                        <a:pt x="2476632" y="90486"/>
                      </a:lnTo>
                      <a:lnTo>
                        <a:pt x="2427160" y="99288"/>
                      </a:lnTo>
                      <a:lnTo>
                        <a:pt x="2377762" y="108510"/>
                      </a:lnTo>
                      <a:lnTo>
                        <a:pt x="2328441" y="118154"/>
                      </a:lnTo>
                      <a:lnTo>
                        <a:pt x="2279201" y="128224"/>
                      </a:lnTo>
                      <a:lnTo>
                        <a:pt x="2230043" y="138724"/>
                      </a:lnTo>
                      <a:lnTo>
                        <a:pt x="2180971" y="149655"/>
                      </a:lnTo>
                      <a:lnTo>
                        <a:pt x="2131988" y="161022"/>
                      </a:lnTo>
                      <a:lnTo>
                        <a:pt x="2083096" y="172828"/>
                      </a:lnTo>
                      <a:lnTo>
                        <a:pt x="2034298" y="185075"/>
                      </a:lnTo>
                      <a:lnTo>
                        <a:pt x="1985598" y="197767"/>
                      </a:lnTo>
                      <a:lnTo>
                        <a:pt x="1935647" y="211434"/>
                      </a:lnTo>
                      <a:lnTo>
                        <a:pt x="1885911" y="225799"/>
                      </a:lnTo>
                      <a:lnTo>
                        <a:pt x="1836397" y="240859"/>
                      </a:lnTo>
                      <a:lnTo>
                        <a:pt x="1787111" y="256611"/>
                      </a:lnTo>
                      <a:lnTo>
                        <a:pt x="1738062" y="273053"/>
                      </a:lnTo>
                      <a:lnTo>
                        <a:pt x="1689255" y="290181"/>
                      </a:lnTo>
                      <a:lnTo>
                        <a:pt x="1640699" y="307992"/>
                      </a:lnTo>
                      <a:lnTo>
                        <a:pt x="1592400" y="326485"/>
                      </a:lnTo>
                      <a:lnTo>
                        <a:pt x="1544365" y="345655"/>
                      </a:lnTo>
                      <a:lnTo>
                        <a:pt x="1496602" y="365500"/>
                      </a:lnTo>
                      <a:lnTo>
                        <a:pt x="1449117" y="386018"/>
                      </a:lnTo>
                      <a:lnTo>
                        <a:pt x="1401918" y="407205"/>
                      </a:lnTo>
                      <a:lnTo>
                        <a:pt x="1355011" y="429059"/>
                      </a:lnTo>
                      <a:lnTo>
                        <a:pt x="1308404" y="451576"/>
                      </a:lnTo>
                      <a:lnTo>
                        <a:pt x="1262104" y="474754"/>
                      </a:lnTo>
                      <a:lnTo>
                        <a:pt x="1216175" y="498531"/>
                      </a:lnTo>
                      <a:lnTo>
                        <a:pt x="1170892" y="523415"/>
                      </a:lnTo>
                      <a:lnTo>
                        <a:pt x="1126274" y="549390"/>
                      </a:lnTo>
                      <a:lnTo>
                        <a:pt x="1082339" y="576443"/>
                      </a:lnTo>
                      <a:lnTo>
                        <a:pt x="1039106" y="604560"/>
                      </a:lnTo>
                      <a:lnTo>
                        <a:pt x="996594" y="633727"/>
                      </a:lnTo>
                      <a:lnTo>
                        <a:pt x="954823" y="663929"/>
                      </a:lnTo>
                      <a:lnTo>
                        <a:pt x="913811" y="695152"/>
                      </a:lnTo>
                      <a:lnTo>
                        <a:pt x="873576" y="727381"/>
                      </a:lnTo>
                      <a:lnTo>
                        <a:pt x="834139" y="760604"/>
                      </a:lnTo>
                      <a:lnTo>
                        <a:pt x="795517" y="794805"/>
                      </a:lnTo>
                      <a:lnTo>
                        <a:pt x="757731" y="829971"/>
                      </a:lnTo>
                      <a:lnTo>
                        <a:pt x="720797" y="866086"/>
                      </a:lnTo>
                      <a:lnTo>
                        <a:pt x="684737" y="903138"/>
                      </a:lnTo>
                      <a:lnTo>
                        <a:pt x="651199" y="939171"/>
                      </a:lnTo>
                      <a:lnTo>
                        <a:pt x="618351" y="975790"/>
                      </a:lnTo>
                      <a:lnTo>
                        <a:pt x="586200" y="1012987"/>
                      </a:lnTo>
                      <a:lnTo>
                        <a:pt x="554752" y="1050751"/>
                      </a:lnTo>
                      <a:lnTo>
                        <a:pt x="524016" y="1089071"/>
                      </a:lnTo>
                      <a:lnTo>
                        <a:pt x="493997" y="1127937"/>
                      </a:lnTo>
                      <a:lnTo>
                        <a:pt x="464704" y="1167339"/>
                      </a:lnTo>
                      <a:lnTo>
                        <a:pt x="436143" y="1207267"/>
                      </a:lnTo>
                      <a:lnTo>
                        <a:pt x="408321" y="1247710"/>
                      </a:lnTo>
                      <a:lnTo>
                        <a:pt x="381246" y="1288658"/>
                      </a:lnTo>
                      <a:lnTo>
                        <a:pt x="354924" y="1330102"/>
                      </a:lnTo>
                      <a:lnTo>
                        <a:pt x="329364" y="1372030"/>
                      </a:lnTo>
                      <a:lnTo>
                        <a:pt x="304571" y="1414433"/>
                      </a:lnTo>
                      <a:lnTo>
                        <a:pt x="280554" y="1457299"/>
                      </a:lnTo>
                      <a:lnTo>
                        <a:pt x="257319" y="1500620"/>
                      </a:lnTo>
                      <a:lnTo>
                        <a:pt x="234873" y="1544385"/>
                      </a:lnTo>
                      <a:lnTo>
                        <a:pt x="213224" y="1588582"/>
                      </a:lnTo>
                      <a:lnTo>
                        <a:pt x="192744" y="1634760"/>
                      </a:lnTo>
                      <a:lnTo>
                        <a:pt x="173279" y="1681307"/>
                      </a:lnTo>
                      <a:lnTo>
                        <a:pt x="154831" y="1728208"/>
                      </a:lnTo>
                      <a:lnTo>
                        <a:pt x="137405" y="1775445"/>
                      </a:lnTo>
                      <a:lnTo>
                        <a:pt x="121004" y="1823003"/>
                      </a:lnTo>
                      <a:lnTo>
                        <a:pt x="105629" y="1870863"/>
                      </a:lnTo>
                      <a:lnTo>
                        <a:pt x="91285" y="1919009"/>
                      </a:lnTo>
                      <a:lnTo>
                        <a:pt x="77974" y="1967425"/>
                      </a:lnTo>
                      <a:lnTo>
                        <a:pt x="65701" y="2016093"/>
                      </a:lnTo>
                      <a:lnTo>
                        <a:pt x="54467" y="2064997"/>
                      </a:lnTo>
                      <a:lnTo>
                        <a:pt x="44276" y="2114121"/>
                      </a:lnTo>
                      <a:lnTo>
                        <a:pt x="35130" y="2163446"/>
                      </a:lnTo>
                      <a:lnTo>
                        <a:pt x="27034" y="2212957"/>
                      </a:lnTo>
                      <a:lnTo>
                        <a:pt x="19991" y="2262637"/>
                      </a:lnTo>
                      <a:lnTo>
                        <a:pt x="14002" y="2312469"/>
                      </a:lnTo>
                      <a:lnTo>
                        <a:pt x="9072" y="2362435"/>
                      </a:lnTo>
                      <a:lnTo>
                        <a:pt x="5204" y="2412521"/>
                      </a:lnTo>
                      <a:lnTo>
                        <a:pt x="2400" y="2462707"/>
                      </a:lnTo>
                      <a:lnTo>
                        <a:pt x="664" y="2512979"/>
                      </a:lnTo>
                      <a:lnTo>
                        <a:pt x="0" y="2563318"/>
                      </a:lnTo>
                      <a:lnTo>
                        <a:pt x="409" y="2613709"/>
                      </a:lnTo>
                      <a:lnTo>
                        <a:pt x="1895" y="2664134"/>
                      </a:lnTo>
                      <a:lnTo>
                        <a:pt x="4461" y="2714577"/>
                      </a:lnTo>
                      <a:lnTo>
                        <a:pt x="7924" y="2765743"/>
                      </a:lnTo>
                      <a:lnTo>
                        <a:pt x="12205" y="2816819"/>
                      </a:lnTo>
                      <a:lnTo>
                        <a:pt x="17304" y="2867795"/>
                      </a:lnTo>
                      <a:lnTo>
                        <a:pt x="23218" y="2918661"/>
                      </a:lnTo>
                      <a:lnTo>
                        <a:pt x="29945" y="2969408"/>
                      </a:lnTo>
                      <a:lnTo>
                        <a:pt x="37483" y="3020026"/>
                      </a:lnTo>
                      <a:lnTo>
                        <a:pt x="45829" y="3070505"/>
                      </a:lnTo>
                      <a:lnTo>
                        <a:pt x="54983" y="3120835"/>
                      </a:lnTo>
                      <a:lnTo>
                        <a:pt x="64941" y="3171008"/>
                      </a:lnTo>
                      <a:lnTo>
                        <a:pt x="75703" y="3221014"/>
                      </a:lnTo>
                      <a:lnTo>
                        <a:pt x="87264" y="3270842"/>
                      </a:lnTo>
                      <a:lnTo>
                        <a:pt x="99625" y="3320483"/>
                      </a:lnTo>
                      <a:lnTo>
                        <a:pt x="112782" y="3369928"/>
                      </a:lnTo>
                      <a:lnTo>
                        <a:pt x="126733" y="3419167"/>
                      </a:lnTo>
                      <a:lnTo>
                        <a:pt x="141477" y="3468190"/>
                      </a:lnTo>
                      <a:lnTo>
                        <a:pt x="157011" y="3516988"/>
                      </a:lnTo>
                      <a:lnTo>
                        <a:pt x="173333" y="3565551"/>
                      </a:lnTo>
                      <a:lnTo>
                        <a:pt x="190442" y="3613869"/>
                      </a:lnTo>
                      <a:lnTo>
                        <a:pt x="208334" y="3661934"/>
                      </a:lnTo>
                      <a:lnTo>
                        <a:pt x="226568" y="3710203"/>
                      </a:lnTo>
                      <a:lnTo>
                        <a:pt x="245458" y="3758199"/>
                      </a:lnTo>
                      <a:lnTo>
                        <a:pt x="264999" y="3805914"/>
                      </a:lnTo>
                      <a:lnTo>
                        <a:pt x="285190" y="3853343"/>
                      </a:lnTo>
                      <a:lnTo>
                        <a:pt x="306025" y="3900480"/>
                      </a:lnTo>
                      <a:lnTo>
                        <a:pt x="327503" y="3947317"/>
                      </a:lnTo>
                      <a:lnTo>
                        <a:pt x="349620" y="3993848"/>
                      </a:lnTo>
                      <a:lnTo>
                        <a:pt x="372371" y="4040067"/>
                      </a:lnTo>
                      <a:lnTo>
                        <a:pt x="395755" y="4085968"/>
                      </a:lnTo>
                      <a:lnTo>
                        <a:pt x="419766" y="4131543"/>
                      </a:lnTo>
                      <a:lnTo>
                        <a:pt x="444403" y="4176787"/>
                      </a:lnTo>
                      <a:lnTo>
                        <a:pt x="469662" y="4221693"/>
                      </a:lnTo>
                      <a:lnTo>
                        <a:pt x="495539" y="4266255"/>
                      </a:lnTo>
                      <a:lnTo>
                        <a:pt x="522030" y="4310466"/>
                      </a:lnTo>
                      <a:lnTo>
                        <a:pt x="549133" y="4354320"/>
                      </a:lnTo>
                      <a:lnTo>
                        <a:pt x="576844" y="4397810"/>
                      </a:lnTo>
                      <a:lnTo>
                        <a:pt x="605160" y="4440931"/>
                      </a:lnTo>
                      <a:lnTo>
                        <a:pt x="634076" y="4483674"/>
                      </a:lnTo>
                      <a:lnTo>
                        <a:pt x="661655" y="4527002"/>
                      </a:lnTo>
                      <a:lnTo>
                        <a:pt x="690140" y="4569719"/>
                      </a:lnTo>
                      <a:lnTo>
                        <a:pt x="719520" y="4611810"/>
                      </a:lnTo>
                      <a:lnTo>
                        <a:pt x="749788" y="4653261"/>
                      </a:lnTo>
                      <a:lnTo>
                        <a:pt x="780932" y="4694058"/>
                      </a:lnTo>
                      <a:lnTo>
                        <a:pt x="812943" y="4734188"/>
                      </a:lnTo>
                      <a:lnTo>
                        <a:pt x="845812" y="4773636"/>
                      </a:lnTo>
                      <a:lnTo>
                        <a:pt x="879529" y="4812388"/>
                      </a:lnTo>
                      <a:lnTo>
                        <a:pt x="911737" y="4848501"/>
                      </a:lnTo>
                      <a:lnTo>
                        <a:pt x="944378" y="4884218"/>
                      </a:lnTo>
                      <a:lnTo>
                        <a:pt x="977449" y="4919534"/>
                      </a:lnTo>
                      <a:lnTo>
                        <a:pt x="1010946" y="4954446"/>
                      </a:lnTo>
                      <a:lnTo>
                        <a:pt x="1044866" y="4988949"/>
                      </a:lnTo>
                      <a:lnTo>
                        <a:pt x="1079204" y="5023038"/>
                      </a:lnTo>
                      <a:lnTo>
                        <a:pt x="1113959" y="5056710"/>
                      </a:lnTo>
                      <a:lnTo>
                        <a:pt x="1149125" y="5089960"/>
                      </a:lnTo>
                      <a:lnTo>
                        <a:pt x="1184562" y="5122872"/>
                      </a:lnTo>
                      <a:lnTo>
                        <a:pt x="1220334" y="5155414"/>
                      </a:lnTo>
                      <a:lnTo>
                        <a:pt x="1256438" y="5187586"/>
                      </a:lnTo>
                      <a:lnTo>
                        <a:pt x="1292872" y="5219387"/>
                      </a:lnTo>
                      <a:lnTo>
                        <a:pt x="1329632" y="5250815"/>
                      </a:lnTo>
                      <a:lnTo>
                        <a:pt x="1366714" y="5281869"/>
                      </a:lnTo>
                      <a:lnTo>
                        <a:pt x="1399296" y="5308571"/>
                      </a:lnTo>
                      <a:lnTo>
                        <a:pt x="1432221" y="5334892"/>
                      </a:lnTo>
                      <a:lnTo>
                        <a:pt x="1456160" y="5353510"/>
                      </a:lnTo>
                      <a:lnTo>
                        <a:pt x="1552274" y="5435908"/>
                      </a:lnTo>
                      <a:lnTo>
                        <a:pt x="1585805" y="5408946"/>
                      </a:lnTo>
                      <a:lnTo>
                        <a:pt x="1625783" y="5373300"/>
                      </a:lnTo>
                      <a:lnTo>
                        <a:pt x="1661068" y="5340649"/>
                      </a:lnTo>
                      <a:lnTo>
                        <a:pt x="1680518" y="5322674"/>
                      </a:lnTo>
                      <a:lnTo>
                        <a:pt x="1719249" y="5291110"/>
                      </a:lnTo>
                      <a:lnTo>
                        <a:pt x="1758541" y="5260270"/>
                      </a:lnTo>
                      <a:lnTo>
                        <a:pt x="1798382" y="5230159"/>
                      </a:lnTo>
                      <a:lnTo>
                        <a:pt x="1838764" y="5200785"/>
                      </a:lnTo>
                      <a:lnTo>
                        <a:pt x="1879674" y="5172154"/>
                      </a:lnTo>
                      <a:lnTo>
                        <a:pt x="1921103" y="5144273"/>
                      </a:lnTo>
                      <a:lnTo>
                        <a:pt x="1963041" y="5117149"/>
                      </a:lnTo>
                      <a:lnTo>
                        <a:pt x="2005476" y="5090787"/>
                      </a:lnTo>
                      <a:lnTo>
                        <a:pt x="2048399" y="5065195"/>
                      </a:lnTo>
                      <a:lnTo>
                        <a:pt x="2092251" y="5040601"/>
                      </a:lnTo>
                      <a:lnTo>
                        <a:pt x="2136445" y="5016651"/>
                      </a:lnTo>
                      <a:lnTo>
                        <a:pt x="2180974" y="4993346"/>
                      </a:lnTo>
                      <a:lnTo>
                        <a:pt x="2225832" y="4970691"/>
                      </a:lnTo>
                      <a:lnTo>
                        <a:pt x="2271011" y="4948690"/>
                      </a:lnTo>
                      <a:lnTo>
                        <a:pt x="2316504" y="4927344"/>
                      </a:lnTo>
                      <a:lnTo>
                        <a:pt x="2362304" y="4906659"/>
                      </a:lnTo>
                      <a:lnTo>
                        <a:pt x="2408403" y="4886637"/>
                      </a:lnTo>
                      <a:lnTo>
                        <a:pt x="2454795" y="4867281"/>
                      </a:lnTo>
                      <a:lnTo>
                        <a:pt x="2501472" y="4848596"/>
                      </a:lnTo>
                      <a:lnTo>
                        <a:pt x="2548087" y="4831646"/>
                      </a:lnTo>
                      <a:lnTo>
                        <a:pt x="2594996" y="4815603"/>
                      </a:lnTo>
                      <a:lnTo>
                        <a:pt x="2642185" y="4800471"/>
                      </a:lnTo>
                      <a:lnTo>
                        <a:pt x="2689641" y="4786253"/>
                      </a:lnTo>
                      <a:lnTo>
                        <a:pt x="2737351" y="4772952"/>
                      </a:lnTo>
                      <a:lnTo>
                        <a:pt x="2785301" y="4760572"/>
                      </a:lnTo>
                      <a:lnTo>
                        <a:pt x="2833479" y="4749117"/>
                      </a:lnTo>
                      <a:lnTo>
                        <a:pt x="2881871" y="4738589"/>
                      </a:lnTo>
                      <a:lnTo>
                        <a:pt x="2930463" y="4728992"/>
                      </a:lnTo>
                      <a:lnTo>
                        <a:pt x="2979244" y="4720329"/>
                      </a:lnTo>
                      <a:lnTo>
                        <a:pt x="3028198" y="4712604"/>
                      </a:lnTo>
                      <a:lnTo>
                        <a:pt x="3077314" y="4705820"/>
                      </a:lnTo>
                      <a:lnTo>
                        <a:pt x="3126578" y="4699981"/>
                      </a:lnTo>
                      <a:lnTo>
                        <a:pt x="3177070" y="4693518"/>
                      </a:lnTo>
                      <a:lnTo>
                        <a:pt x="3227656" y="4688132"/>
                      </a:lnTo>
                      <a:lnTo>
                        <a:pt x="3278320" y="4683823"/>
                      </a:lnTo>
                      <a:lnTo>
                        <a:pt x="3329044" y="4680592"/>
                      </a:lnTo>
                      <a:lnTo>
                        <a:pt x="3379811" y="4678437"/>
                      </a:lnTo>
                      <a:lnTo>
                        <a:pt x="3430603" y="4677360"/>
                      </a:lnTo>
                      <a:lnTo>
                        <a:pt x="3481404" y="4677360"/>
                      </a:lnTo>
                      <a:lnTo>
                        <a:pt x="3532197" y="4678437"/>
                      </a:lnTo>
                      <a:lnTo>
                        <a:pt x="3582964" y="4680592"/>
                      </a:lnTo>
                      <a:lnTo>
                        <a:pt x="3633688" y="4683823"/>
                      </a:lnTo>
                      <a:lnTo>
                        <a:pt x="3684351" y="4688132"/>
                      </a:lnTo>
                      <a:lnTo>
                        <a:pt x="3734937" y="4693518"/>
                      </a:lnTo>
                      <a:lnTo>
                        <a:pt x="3785429" y="4699981"/>
                      </a:lnTo>
                      <a:lnTo>
                        <a:pt x="3834688" y="4705820"/>
                      </a:lnTo>
                      <a:lnTo>
                        <a:pt x="3883799" y="4712604"/>
                      </a:lnTo>
                      <a:lnTo>
                        <a:pt x="3932750" y="4720329"/>
                      </a:lnTo>
                      <a:lnTo>
                        <a:pt x="3981527" y="4728992"/>
                      </a:lnTo>
                      <a:lnTo>
                        <a:pt x="4030117" y="4738589"/>
                      </a:lnTo>
                      <a:lnTo>
                        <a:pt x="4078506" y="4749117"/>
                      </a:lnTo>
                      <a:lnTo>
                        <a:pt x="4126681" y="4760572"/>
                      </a:lnTo>
                      <a:lnTo>
                        <a:pt x="4174630" y="4772952"/>
                      </a:lnTo>
                      <a:lnTo>
                        <a:pt x="4222337" y="4786253"/>
                      </a:lnTo>
                      <a:lnTo>
                        <a:pt x="4269791" y="4800471"/>
                      </a:lnTo>
                      <a:lnTo>
                        <a:pt x="4316978" y="4815603"/>
                      </a:lnTo>
                      <a:lnTo>
                        <a:pt x="4363885" y="4831646"/>
                      </a:lnTo>
                      <a:lnTo>
                        <a:pt x="4410498" y="4848596"/>
                      </a:lnTo>
                      <a:lnTo>
                        <a:pt x="4457176" y="4867281"/>
                      </a:lnTo>
                      <a:lnTo>
                        <a:pt x="4503570" y="4886637"/>
                      </a:lnTo>
                      <a:lnTo>
                        <a:pt x="4549674" y="4906659"/>
                      </a:lnTo>
                      <a:lnTo>
                        <a:pt x="4595479" y="4927344"/>
                      </a:lnTo>
                      <a:lnTo>
                        <a:pt x="4640977" y="4948690"/>
                      </a:lnTo>
                      <a:lnTo>
                        <a:pt x="4686162" y="4970691"/>
                      </a:lnTo>
                      <a:lnTo>
                        <a:pt x="4731025" y="4993346"/>
                      </a:lnTo>
                      <a:lnTo>
                        <a:pt x="4775559" y="5016651"/>
                      </a:lnTo>
                      <a:lnTo>
                        <a:pt x="4819756" y="5040601"/>
                      </a:lnTo>
                      <a:lnTo>
                        <a:pt x="4863608" y="5065195"/>
                      </a:lnTo>
                      <a:lnTo>
                        <a:pt x="4906523" y="5090787"/>
                      </a:lnTo>
                      <a:lnTo>
                        <a:pt x="4948952" y="5117149"/>
                      </a:lnTo>
                      <a:lnTo>
                        <a:pt x="4990883" y="5144273"/>
                      </a:lnTo>
                      <a:lnTo>
                        <a:pt x="5032308" y="5172154"/>
                      </a:lnTo>
                      <a:lnTo>
                        <a:pt x="5073215" y="5200785"/>
                      </a:lnTo>
                      <a:lnTo>
                        <a:pt x="5113595" y="5230159"/>
                      </a:lnTo>
                      <a:lnTo>
                        <a:pt x="5153437" y="5260270"/>
                      </a:lnTo>
                      <a:lnTo>
                        <a:pt x="5192730" y="5291110"/>
                      </a:lnTo>
                      <a:lnTo>
                        <a:pt x="5231464" y="5322674"/>
                      </a:lnTo>
                      <a:lnTo>
                        <a:pt x="5286194" y="5373300"/>
                      </a:lnTo>
                      <a:lnTo>
                        <a:pt x="5326176" y="5408946"/>
                      </a:lnTo>
                      <a:lnTo>
                        <a:pt x="5359708" y="5435908"/>
                      </a:lnTo>
                      <a:lnTo>
                        <a:pt x="5455835" y="5353510"/>
                      </a:lnTo>
                      <a:lnTo>
                        <a:pt x="5479800" y="5334892"/>
                      </a:lnTo>
                      <a:lnTo>
                        <a:pt x="5512697" y="5308571"/>
                      </a:lnTo>
                      <a:lnTo>
                        <a:pt x="5545281" y="5281869"/>
                      </a:lnTo>
                      <a:lnTo>
                        <a:pt x="5582359" y="5250815"/>
                      </a:lnTo>
                      <a:lnTo>
                        <a:pt x="5619118" y="5219387"/>
                      </a:lnTo>
                      <a:lnTo>
                        <a:pt x="5655553" y="5187586"/>
                      </a:lnTo>
                      <a:lnTo>
                        <a:pt x="5691662" y="5155414"/>
                      </a:lnTo>
                      <a:lnTo>
                        <a:pt x="5727440" y="5122872"/>
                      </a:lnTo>
                      <a:lnTo>
                        <a:pt x="5762883" y="5089960"/>
                      </a:lnTo>
                      <a:lnTo>
                        <a:pt x="5798040" y="5056710"/>
                      </a:lnTo>
                      <a:lnTo>
                        <a:pt x="5832789" y="5023038"/>
                      </a:lnTo>
                      <a:lnTo>
                        <a:pt x="5867123" y="4988949"/>
                      </a:lnTo>
                      <a:lnTo>
                        <a:pt x="5901040" y="4954446"/>
                      </a:lnTo>
                      <a:lnTo>
                        <a:pt x="5934535" y="4919534"/>
                      </a:lnTo>
                      <a:lnTo>
                        <a:pt x="5967605" y="4884218"/>
                      </a:lnTo>
                      <a:lnTo>
                        <a:pt x="6000245" y="4848501"/>
                      </a:lnTo>
                      <a:lnTo>
                        <a:pt x="6032453" y="4812388"/>
                      </a:lnTo>
                      <a:lnTo>
                        <a:pt x="6066171" y="4773636"/>
                      </a:lnTo>
                      <a:lnTo>
                        <a:pt x="6099042" y="4734188"/>
                      </a:lnTo>
                      <a:lnTo>
                        <a:pt x="6131057" y="4694058"/>
                      </a:lnTo>
                      <a:lnTo>
                        <a:pt x="6162204" y="4653261"/>
                      </a:lnTo>
                      <a:lnTo>
                        <a:pt x="6192473" y="4611810"/>
                      </a:lnTo>
                      <a:lnTo>
                        <a:pt x="6221853" y="4569719"/>
                      </a:lnTo>
                      <a:lnTo>
                        <a:pt x="6250334" y="4527002"/>
                      </a:lnTo>
                      <a:lnTo>
                        <a:pt x="6277906" y="4483674"/>
                      </a:lnTo>
                      <a:lnTo>
                        <a:pt x="6306823" y="4440931"/>
                      </a:lnTo>
                      <a:lnTo>
                        <a:pt x="6335138" y="4397810"/>
                      </a:lnTo>
                      <a:lnTo>
                        <a:pt x="6362849" y="4354320"/>
                      </a:lnTo>
                      <a:lnTo>
                        <a:pt x="6389952" y="4310466"/>
                      </a:lnTo>
                      <a:lnTo>
                        <a:pt x="6416444" y="4266255"/>
                      </a:lnTo>
                      <a:lnTo>
                        <a:pt x="6442320" y="4221693"/>
                      </a:lnTo>
                      <a:lnTo>
                        <a:pt x="6467579" y="4176787"/>
                      </a:lnTo>
                      <a:lnTo>
                        <a:pt x="6492216" y="4131543"/>
                      </a:lnTo>
                      <a:lnTo>
                        <a:pt x="6516228" y="4085968"/>
                      </a:lnTo>
                      <a:lnTo>
                        <a:pt x="6539611" y="4040067"/>
                      </a:lnTo>
                      <a:lnTo>
                        <a:pt x="6562363" y="3993848"/>
                      </a:lnTo>
                      <a:lnTo>
                        <a:pt x="6584479" y="3947317"/>
                      </a:lnTo>
                      <a:lnTo>
                        <a:pt x="6605957" y="3900480"/>
                      </a:lnTo>
                      <a:lnTo>
                        <a:pt x="6626793" y="3853343"/>
                      </a:lnTo>
                      <a:lnTo>
                        <a:pt x="6646983" y="3805914"/>
                      </a:lnTo>
                      <a:lnTo>
                        <a:pt x="6666525" y="3758199"/>
                      </a:lnTo>
                      <a:lnTo>
                        <a:pt x="6685414" y="3710203"/>
                      </a:lnTo>
                      <a:lnTo>
                        <a:pt x="6703648" y="3661934"/>
                      </a:lnTo>
                      <a:lnTo>
                        <a:pt x="6721540" y="3613873"/>
                      </a:lnTo>
                      <a:lnTo>
                        <a:pt x="6738649" y="3565558"/>
                      </a:lnTo>
                      <a:lnTo>
                        <a:pt x="6754971" y="3516998"/>
                      </a:lnTo>
                      <a:lnTo>
                        <a:pt x="6770505" y="3468203"/>
                      </a:lnTo>
                      <a:lnTo>
                        <a:pt x="6785249" y="3419182"/>
                      </a:lnTo>
                      <a:lnTo>
                        <a:pt x="6799200" y="3369945"/>
                      </a:lnTo>
                      <a:lnTo>
                        <a:pt x="6812357" y="3320502"/>
                      </a:lnTo>
                      <a:lnTo>
                        <a:pt x="6824718" y="3270862"/>
                      </a:lnTo>
                      <a:lnTo>
                        <a:pt x="6836279" y="3221035"/>
                      </a:lnTo>
                      <a:lnTo>
                        <a:pt x="6847041" y="3171031"/>
                      </a:lnTo>
                      <a:lnTo>
                        <a:pt x="6856999" y="3120859"/>
                      </a:lnTo>
                      <a:lnTo>
                        <a:pt x="6866153" y="3070529"/>
                      </a:lnTo>
                      <a:lnTo>
                        <a:pt x="6874500" y="3020050"/>
                      </a:lnTo>
                      <a:lnTo>
                        <a:pt x="6882037" y="2969433"/>
                      </a:lnTo>
                      <a:lnTo>
                        <a:pt x="6888764" y="2918686"/>
                      </a:lnTo>
                      <a:lnTo>
                        <a:pt x="6894678" y="2867820"/>
                      </a:lnTo>
                      <a:lnTo>
                        <a:pt x="6899777" y="2816845"/>
                      </a:lnTo>
                      <a:lnTo>
                        <a:pt x="6904059" y="2765769"/>
                      </a:lnTo>
                      <a:lnTo>
                        <a:pt x="6907521" y="2714602"/>
                      </a:lnTo>
                      <a:lnTo>
                        <a:pt x="6910086" y="2664160"/>
                      </a:lnTo>
                      <a:lnTo>
                        <a:pt x="6911571" y="2613734"/>
                      </a:lnTo>
                      <a:lnTo>
                        <a:pt x="6911979" y="2563343"/>
                      </a:lnTo>
                      <a:lnTo>
                        <a:pt x="6911314" y="2513003"/>
                      </a:lnTo>
                      <a:lnTo>
                        <a:pt x="6909578" y="2462731"/>
                      </a:lnTo>
                      <a:lnTo>
                        <a:pt x="6906775" y="2412544"/>
                      </a:lnTo>
                      <a:lnTo>
                        <a:pt x="6902907" y="2362458"/>
                      </a:lnTo>
                      <a:lnTo>
                        <a:pt x="6897977" y="2312490"/>
                      </a:lnTo>
                      <a:lnTo>
                        <a:pt x="6891990" y="2262657"/>
                      </a:lnTo>
                      <a:lnTo>
                        <a:pt x="6884947" y="2212976"/>
                      </a:lnTo>
                      <a:lnTo>
                        <a:pt x="6876851" y="2163464"/>
                      </a:lnTo>
                      <a:lnTo>
                        <a:pt x="6867707" y="2114137"/>
                      </a:lnTo>
                      <a:lnTo>
                        <a:pt x="6857517" y="2065013"/>
                      </a:lnTo>
                      <a:lnTo>
                        <a:pt x="6846283" y="2016107"/>
                      </a:lnTo>
                      <a:lnTo>
                        <a:pt x="6834010" y="1967437"/>
                      </a:lnTo>
                      <a:lnTo>
                        <a:pt x="6820700" y="1919020"/>
                      </a:lnTo>
                      <a:lnTo>
                        <a:pt x="6806357" y="1870872"/>
                      </a:lnTo>
                      <a:lnTo>
                        <a:pt x="6790982" y="1823011"/>
                      </a:lnTo>
                      <a:lnTo>
                        <a:pt x="6774580" y="1775452"/>
                      </a:lnTo>
                      <a:lnTo>
                        <a:pt x="6757154" y="1728213"/>
                      </a:lnTo>
                      <a:lnTo>
                        <a:pt x="6738706" y="1681311"/>
                      </a:lnTo>
                      <a:lnTo>
                        <a:pt x="6719240" y="1634761"/>
                      </a:lnTo>
                      <a:lnTo>
                        <a:pt x="6698758" y="1588582"/>
                      </a:lnTo>
                      <a:close/>
                    </a:path>
                  </a:pathLst>
                </a:custGeom>
                <a:noFill/>
                <a:ln w="10800">
                  <a:solidFill>
                    <a:srgbClr val="0000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0" rIns="0" tIns="0" bIns="0" anchor="t">
                  <a:noAutofit/>
                </a:bodyPr>
                <a:p>
                  <a:endParaRPr b="0" lang="en-US" sz="22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27400" y="367560"/>
            <a:ext cx="9492840" cy="153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527400" y="2156400"/>
            <a:ext cx="9492840" cy="5344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2280" indent="-4222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917640" indent="-352440">
              <a:spcBef>
                <a:spcPts val="876"/>
              </a:spcBef>
              <a:buClr>
                <a:srgbClr val="000000"/>
              </a:buClr>
              <a:buFont typeface="Arial"/>
              <a:buChar char="–"/>
              <a:tabLst>
                <a:tab algn="l" pos="1128600"/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lvl="2" marL="1411200" indent="-280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976400" indent="-2808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2257560"/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4" marL="2540160" indent="-281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3386160"/>
                <a:tab algn="l" pos="4514760"/>
                <a:tab algn="l" pos="5643720"/>
                <a:tab algn="l" pos="6772320"/>
                <a:tab algn="l" pos="7900920"/>
                <a:tab algn="l" pos="9029880"/>
                <a:tab algn="l" pos="1015848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5" marL="2540160" indent="-281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6" marL="2540160" indent="-281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14T06:42:43Z</dcterms:created>
  <dc:creator/>
  <dc:description/>
  <dc:language>en-US</dc:language>
  <cp:lastModifiedBy/>
  <dcterms:modified xsi:type="dcterms:W3CDTF">2024-07-25T09:04:23Z</dcterms:modified>
  <cp:revision>16</cp:revision>
  <dc:subject/>
  <dc:title/>
</cp:coreProperties>
</file>