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15.png" ContentType="image/png"/>
  <Override PartName="/ppt/media/image18.png" ContentType="image/png"/>
  <Override PartName="/ppt/media/image6.jpeg" ContentType="image/jpeg"/>
  <Override PartName="/ppt/media/image6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67.jpeg" ContentType="image/jpeg"/>
  <Override PartName="/ppt/media/image58.png" ContentType="image/png"/>
  <Override PartName="/ppt/media/image11.png" ContentType="image/png"/>
  <Override PartName="/ppt/media/image48.png" ContentType="image/png"/>
  <Override PartName="/ppt/media/image22.png" ContentType="image/png"/>
  <Override PartName="/ppt/media/image66.jpeg" ContentType="image/jpeg"/>
  <Override PartName="/ppt/media/image59.png" ContentType="image/png"/>
  <Override PartName="/ppt/media/image71.jpeg" ContentType="image/jpeg"/>
  <Override PartName="/ppt/media/image70.jpeg" ContentType="image/jpeg"/>
  <Override PartName="/ppt/media/image35.png" ContentType="image/png"/>
  <Override PartName="/ppt/media/image26.png" ContentType="image/png"/>
  <Override PartName="/ppt/media/image63.png" ContentType="image/png"/>
  <Override PartName="/ppt/media/image69.jpeg" ContentType="image/jpeg"/>
  <Override PartName="/ppt/media/image61.png" ContentType="image/png"/>
  <Override PartName="/ppt/media/image68.jpeg" ContentType="image/jpeg"/>
  <Override PartName="/ppt/media/image31.png" ContentType="image/png"/>
  <Override PartName="/ppt/media/image30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64.png" ContentType="image/png"/>
  <Override PartName="/ppt/media/image29.png" ContentType="image/png"/>
  <Override PartName="/ppt/media/image25.png" ContentType="image/png"/>
  <Override PartName="/ppt/media/image62.png" ContentType="image/png"/>
  <Override PartName="/ppt/media/image23.png" ContentType="image/png"/>
  <Override PartName="/ppt/media/image72.jpeg" ContentType="image/jpeg"/>
  <Override PartName="/ppt/media/image14.png" ContentType="image/png"/>
  <Override PartName="/ppt/media/image2.png" ContentType="image/png"/>
  <Override PartName="/ppt/media/image32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10.png" ContentType="image/png"/>
  <Override PartName="/ppt/media/image47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39.png" ContentType="image/png"/>
  <Override PartName="/ppt/media/image33.png" ContentType="image/png"/>
  <Override PartName="/ppt/media/image36.png" ContentType="image/png"/>
  <Override PartName="/ppt/media/image4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62850"/>
  <p:notesSz cx="10691813" cy="7562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5FCC-BEC6-4BFC-8BAD-F97B7B53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4700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20F0-811A-4DEF-94CD-3AEB4B8E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3988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4700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4700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125-0D72-4B6D-99E3-9827A001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3988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3988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4700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4700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4700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3BDF-75A4-402C-8A69-65837346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3988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3A80-DA71-4205-9F93-A3707A04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FF3B-D41C-4FD8-AF52-BD094E13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3988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4675-6B06-49B1-8118-2BA78EA7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DA15-B98C-4D63-93C1-E1268B86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B0CB-337C-4034-AC2D-D5C279A8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3988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4700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A268-6371-4980-AC21-095EDA93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3988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4700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D4F7-6441-45E8-BF90-AB40A1AD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3988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4700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C01A-05B4-40B9-A113-1032B3C2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3988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635280" y="7034040"/>
            <a:ext cx="342288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534600" y="7034040"/>
            <a:ext cx="245916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8960" y="7034040"/>
            <a:ext cx="245916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AFB0-9448-4F1C-933F-8DF5A3AF78AE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8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image" Target="../media/image22.png"/><Relationship Id="rId25" Type="http://schemas.openxmlformats.org/officeDocument/2006/relationships/image" Target="../media/image8.png"/><Relationship Id="rId26" Type="http://schemas.openxmlformats.org/officeDocument/2006/relationships/image" Target="../media/image23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image" Target="../media/image26.png"/><Relationship Id="rId30" Type="http://schemas.openxmlformats.org/officeDocument/2006/relationships/image" Target="../media/image27.png"/><Relationship Id="rId31" Type="http://schemas.openxmlformats.org/officeDocument/2006/relationships/image" Target="../media/image8.png"/><Relationship Id="rId32" Type="http://schemas.openxmlformats.org/officeDocument/2006/relationships/image" Target="../media/image28.png"/><Relationship Id="rId33" Type="http://schemas.openxmlformats.org/officeDocument/2006/relationships/image" Target="../media/image8.png"/><Relationship Id="rId34" Type="http://schemas.openxmlformats.org/officeDocument/2006/relationships/image" Target="../media/image29.png"/><Relationship Id="rId35" Type="http://schemas.openxmlformats.org/officeDocument/2006/relationships/image" Target="../media/image30.png"/><Relationship Id="rId36" Type="http://schemas.openxmlformats.org/officeDocument/2006/relationships/image" Target="../media/image31.png"/><Relationship Id="rId37" Type="http://schemas.openxmlformats.org/officeDocument/2006/relationships/image" Target="../media/image32.png"/><Relationship Id="rId38" Type="http://schemas.openxmlformats.org/officeDocument/2006/relationships/image" Target="../media/image33.png"/><Relationship Id="rId39" Type="http://schemas.openxmlformats.org/officeDocument/2006/relationships/image" Target="../media/image34.png"/><Relationship Id="rId40" Type="http://schemas.openxmlformats.org/officeDocument/2006/relationships/image" Target="../media/image35.png"/><Relationship Id="rId41" Type="http://schemas.openxmlformats.org/officeDocument/2006/relationships/image" Target="../media/image36.png"/><Relationship Id="rId42" Type="http://schemas.openxmlformats.org/officeDocument/2006/relationships/image" Target="../media/image37.png"/><Relationship Id="rId43" Type="http://schemas.openxmlformats.org/officeDocument/2006/relationships/image" Target="../media/image38.png"/><Relationship Id="rId44" Type="http://schemas.openxmlformats.org/officeDocument/2006/relationships/image" Target="../media/image39.png"/><Relationship Id="rId45" Type="http://schemas.openxmlformats.org/officeDocument/2006/relationships/image" Target="../media/image40.png"/><Relationship Id="rId46" Type="http://schemas.openxmlformats.org/officeDocument/2006/relationships/image" Target="../media/image41.png"/><Relationship Id="rId47" Type="http://schemas.openxmlformats.org/officeDocument/2006/relationships/image" Target="../media/image42.png"/><Relationship Id="rId48" Type="http://schemas.openxmlformats.org/officeDocument/2006/relationships/image" Target="../media/image43.png"/><Relationship Id="rId49" Type="http://schemas.openxmlformats.org/officeDocument/2006/relationships/image" Target="../media/image44.png"/><Relationship Id="rId50" Type="http://schemas.openxmlformats.org/officeDocument/2006/relationships/image" Target="../media/image45.png"/><Relationship Id="rId51" Type="http://schemas.openxmlformats.org/officeDocument/2006/relationships/image" Target="../media/image46.png"/><Relationship Id="rId52" Type="http://schemas.openxmlformats.org/officeDocument/2006/relationships/image" Target="../media/image47.png"/><Relationship Id="rId53" Type="http://schemas.openxmlformats.org/officeDocument/2006/relationships/image" Target="../media/image48.png"/><Relationship Id="rId54" Type="http://schemas.openxmlformats.org/officeDocument/2006/relationships/image" Target="../media/image49.png"/><Relationship Id="rId55" Type="http://schemas.openxmlformats.org/officeDocument/2006/relationships/image" Target="../media/image43.png"/><Relationship Id="rId56" Type="http://schemas.openxmlformats.org/officeDocument/2006/relationships/image" Target="../media/image50.png"/><Relationship Id="rId57" Type="http://schemas.openxmlformats.org/officeDocument/2006/relationships/image" Target="../media/image51.png"/><Relationship Id="rId58" Type="http://schemas.openxmlformats.org/officeDocument/2006/relationships/image" Target="../media/image52.png"/><Relationship Id="rId59" Type="http://schemas.openxmlformats.org/officeDocument/2006/relationships/image" Target="../media/image53.png"/><Relationship Id="rId60" Type="http://schemas.openxmlformats.org/officeDocument/2006/relationships/image" Target="../media/image54.png"/><Relationship Id="rId61" Type="http://schemas.openxmlformats.org/officeDocument/2006/relationships/image" Target="../media/image55.png"/><Relationship Id="rId62" Type="http://schemas.openxmlformats.org/officeDocument/2006/relationships/image" Target="../media/image56.png"/><Relationship Id="rId63" Type="http://schemas.openxmlformats.org/officeDocument/2006/relationships/image" Target="../media/image57.png"/><Relationship Id="rId64" Type="http://schemas.openxmlformats.org/officeDocument/2006/relationships/image" Target="../media/image58.png"/><Relationship Id="rId65" Type="http://schemas.openxmlformats.org/officeDocument/2006/relationships/image" Target="../media/image59.png"/><Relationship Id="rId66" Type="http://schemas.openxmlformats.org/officeDocument/2006/relationships/image" Target="../media/image60.png"/><Relationship Id="rId67" Type="http://schemas.openxmlformats.org/officeDocument/2006/relationships/image" Target="../media/image61.png"/><Relationship Id="rId68" Type="http://schemas.openxmlformats.org/officeDocument/2006/relationships/image" Target="../media/image62.png"/><Relationship Id="rId69" Type="http://schemas.openxmlformats.org/officeDocument/2006/relationships/image" Target="../media/image55.png"/><Relationship Id="rId70" Type="http://schemas.openxmlformats.org/officeDocument/2006/relationships/image" Target="../media/image63.png"/><Relationship Id="rId71" Type="http://schemas.openxmlformats.org/officeDocument/2006/relationships/image" Target="../media/image64.png"/><Relationship Id="rId72" Type="http://schemas.openxmlformats.org/officeDocument/2006/relationships/image" Target="../media/image65.png"/><Relationship Id="rId73" Type="http://schemas.openxmlformats.org/officeDocument/2006/relationships/image" Target="../media/image66.jpeg"/><Relationship Id="rId74" Type="http://schemas.openxmlformats.org/officeDocument/2006/relationships/image" Target="../media/image67.jpeg"/><Relationship Id="rId75" Type="http://schemas.openxmlformats.org/officeDocument/2006/relationships/image" Target="../media/image68.jpeg"/><Relationship Id="rId76" Type="http://schemas.openxmlformats.org/officeDocument/2006/relationships/image" Target="../media/image69.jpeg"/><Relationship Id="rId77" Type="http://schemas.openxmlformats.org/officeDocument/2006/relationships/image" Target="../media/image70.jpeg"/><Relationship Id="rId78" Type="http://schemas.openxmlformats.org/officeDocument/2006/relationships/image" Target="../media/image71.jpeg"/><Relationship Id="rId79" Type="http://schemas.openxmlformats.org/officeDocument/2006/relationships/image" Target="../media/image72.jpeg"/><Relationship Id="rId80" Type="http://schemas.openxmlformats.org/officeDocument/2006/relationships/image" Target="../media/image73.jpeg"/><Relationship Id="rId8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4680" y="0"/>
            <a:ext cx="10686960" cy="7558200"/>
          </a:xfrm>
          <a:custGeom>
            <a:avLst/>
            <a:gdLst/>
            <a:ahLst/>
            <a:rect l="l" t="t" r="r" b="b"/>
            <a:pathLst>
              <a:path w="10687685" h="7558405">
                <a:moveTo>
                  <a:pt x="10687240" y="0"/>
                </a:moveTo>
                <a:lnTo>
                  <a:pt x="0" y="0"/>
                </a:lnTo>
                <a:lnTo>
                  <a:pt x="0" y="7558405"/>
                </a:lnTo>
                <a:lnTo>
                  <a:pt x="10687240" y="7558405"/>
                </a:lnTo>
                <a:lnTo>
                  <a:pt x="10687240" y="0"/>
                </a:lnTo>
                <a:close/>
              </a:path>
            </a:pathLst>
          </a:custGeom>
          <a:solidFill>
            <a:srgbClr val="e6e7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3"/>
          <p:cNvSpPr/>
          <p:nvPr/>
        </p:nvSpPr>
        <p:spPr>
          <a:xfrm>
            <a:off x="306360" y="128520"/>
            <a:ext cx="10078920" cy="973080"/>
          </a:xfrm>
          <a:custGeom>
            <a:avLst/>
            <a:gdLst/>
            <a:ahLst/>
            <a:rect l="l" t="t" r="r" b="b"/>
            <a:pathLst>
              <a:path w="10079990" h="972185">
                <a:moveTo>
                  <a:pt x="10079990" y="0"/>
                </a:moveTo>
                <a:lnTo>
                  <a:pt x="0" y="0"/>
                </a:lnTo>
                <a:lnTo>
                  <a:pt x="0" y="972007"/>
                </a:lnTo>
                <a:lnTo>
                  <a:pt x="10079990" y="972007"/>
                </a:lnTo>
                <a:lnTo>
                  <a:pt x="10079990" y="0"/>
                </a:lnTo>
                <a:close/>
              </a:path>
            </a:pathLst>
          </a:custGeom>
          <a:solidFill>
            <a:srgbClr val="244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object 4"/>
          <p:cNvGrpSpPr/>
          <p:nvPr/>
        </p:nvGrpSpPr>
        <p:grpSpPr>
          <a:xfrm>
            <a:off x="299880" y="3290760"/>
            <a:ext cx="10091880" cy="4146840"/>
            <a:chOff x="299880" y="3290760"/>
            <a:chExt cx="10091880" cy="4146840"/>
          </a:xfrm>
        </p:grpSpPr>
        <p:sp>
          <p:nvSpPr>
            <p:cNvPr id="44" name="object 5"/>
            <p:cNvSpPr/>
            <p:nvPr/>
          </p:nvSpPr>
          <p:spPr>
            <a:xfrm>
              <a:off x="299880" y="3290760"/>
              <a:ext cx="10091880" cy="829440"/>
            </a:xfrm>
            <a:custGeom>
              <a:avLst/>
              <a:gdLst/>
              <a:ahLst/>
              <a:rect l="l" t="t" r="r" b="b"/>
              <a:pathLst>
                <a:path w="10079990" h="828039">
                  <a:moveTo>
                    <a:pt x="10079990" y="0"/>
                  </a:moveTo>
                  <a:lnTo>
                    <a:pt x="0" y="0"/>
                  </a:lnTo>
                  <a:lnTo>
                    <a:pt x="0" y="828001"/>
                  </a:lnTo>
                  <a:lnTo>
                    <a:pt x="10079990" y="828001"/>
                  </a:lnTo>
                  <a:lnTo>
                    <a:pt x="10079990" y="0"/>
                  </a:lnTo>
                  <a:close/>
                </a:path>
              </a:pathLst>
            </a:custGeom>
            <a:solidFill>
              <a:srgbClr val="244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bject 6"/>
            <p:cNvSpPr/>
            <p:nvPr/>
          </p:nvSpPr>
          <p:spPr>
            <a:xfrm>
              <a:off x="299880" y="4119840"/>
              <a:ext cx="10091880" cy="3317760"/>
            </a:xfrm>
            <a:custGeom>
              <a:avLst/>
              <a:gdLst/>
              <a:ahLst/>
              <a:rect l="l" t="t" r="r" b="b"/>
              <a:pathLst>
                <a:path w="10079990" h="3312159">
                  <a:moveTo>
                    <a:pt x="10079990" y="828001"/>
                  </a:moveTo>
                  <a:lnTo>
                    <a:pt x="0" y="828001"/>
                  </a:lnTo>
                  <a:lnTo>
                    <a:pt x="0" y="0"/>
                  </a:lnTo>
                  <a:lnTo>
                    <a:pt x="10079990" y="0"/>
                  </a:lnTo>
                  <a:lnTo>
                    <a:pt x="10079990" y="828001"/>
                  </a:lnTo>
                  <a:close/>
                </a:path>
                <a:path w="10079990" h="3312159">
                  <a:moveTo>
                    <a:pt x="10079990" y="1655991"/>
                  </a:moveTo>
                  <a:lnTo>
                    <a:pt x="0" y="1655991"/>
                  </a:lnTo>
                  <a:lnTo>
                    <a:pt x="0" y="828001"/>
                  </a:lnTo>
                  <a:lnTo>
                    <a:pt x="10079990" y="828001"/>
                  </a:lnTo>
                  <a:lnTo>
                    <a:pt x="10079990" y="1655991"/>
                  </a:lnTo>
                  <a:close/>
                </a:path>
                <a:path w="10079990" h="3312159">
                  <a:moveTo>
                    <a:pt x="10079990" y="2484005"/>
                  </a:moveTo>
                  <a:lnTo>
                    <a:pt x="0" y="2484005"/>
                  </a:lnTo>
                  <a:lnTo>
                    <a:pt x="0" y="1656003"/>
                  </a:lnTo>
                  <a:lnTo>
                    <a:pt x="10079990" y="1656003"/>
                  </a:lnTo>
                  <a:lnTo>
                    <a:pt x="10079990" y="2484005"/>
                  </a:lnTo>
                  <a:close/>
                </a:path>
                <a:path w="10079990" h="3312159">
                  <a:moveTo>
                    <a:pt x="10079990" y="3311994"/>
                  </a:moveTo>
                  <a:lnTo>
                    <a:pt x="0" y="3311994"/>
                  </a:lnTo>
                  <a:lnTo>
                    <a:pt x="0" y="2484005"/>
                  </a:lnTo>
                  <a:lnTo>
                    <a:pt x="10079990" y="2484005"/>
                  </a:lnTo>
                  <a:lnTo>
                    <a:pt x="10079990" y="3311994"/>
                  </a:lnTo>
                  <a:close/>
                </a:path>
              </a:pathLst>
            </a:custGeom>
            <a:noFill/>
            <a:ln w="11520">
              <a:solidFill>
                <a:srgbClr val="231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bject 7"/>
            <p:cNvSpPr/>
            <p:nvPr/>
          </p:nvSpPr>
          <p:spPr>
            <a:xfrm>
              <a:off x="5345640" y="4119840"/>
              <a:ext cx="360" cy="3317760"/>
            </a:xfrm>
            <a:custGeom>
              <a:avLst/>
              <a:gdLst/>
              <a:ahLst/>
              <a:rect l="l" t="t" r="r" b="b"/>
              <a:pathLst>
                <a:path w="0" h="3312159">
                  <a:moveTo>
                    <a:pt x="0" y="3311994"/>
                  </a:moveTo>
                  <a:lnTo>
                    <a:pt x="0" y="0"/>
                  </a:lnTo>
                </a:path>
              </a:pathLst>
            </a:custGeom>
            <a:noFill/>
            <a:ln w="8280">
              <a:solidFill>
                <a:srgbClr val="231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object 8"/>
          <p:cNvSpPr/>
          <p:nvPr/>
        </p:nvSpPr>
        <p:spPr>
          <a:xfrm>
            <a:off x="3730680" y="272880"/>
            <a:ext cx="187200" cy="263520"/>
          </a:xfrm>
          <a:custGeom>
            <a:avLst/>
            <a:gdLst/>
            <a:ahLst/>
            <a:rect l="l" t="t" r="r" b="b"/>
            <a:pathLst>
              <a:path w="186689" h="262890">
                <a:moveTo>
                  <a:pt x="186499" y="0"/>
                </a:moveTo>
                <a:lnTo>
                  <a:pt x="0" y="0"/>
                </a:lnTo>
                <a:lnTo>
                  <a:pt x="0" y="40640"/>
                </a:lnTo>
                <a:lnTo>
                  <a:pt x="0" y="109220"/>
                </a:lnTo>
                <a:lnTo>
                  <a:pt x="0" y="149860"/>
                </a:lnTo>
                <a:lnTo>
                  <a:pt x="0" y="262890"/>
                </a:lnTo>
                <a:lnTo>
                  <a:pt x="48602" y="262890"/>
                </a:lnTo>
                <a:lnTo>
                  <a:pt x="48602" y="149860"/>
                </a:lnTo>
                <a:lnTo>
                  <a:pt x="173545" y="149860"/>
                </a:lnTo>
                <a:lnTo>
                  <a:pt x="173545" y="109220"/>
                </a:lnTo>
                <a:lnTo>
                  <a:pt x="48602" y="109220"/>
                </a:lnTo>
                <a:lnTo>
                  <a:pt x="48602" y="40640"/>
                </a:lnTo>
                <a:lnTo>
                  <a:pt x="186499" y="40640"/>
                </a:lnTo>
                <a:lnTo>
                  <a:pt x="18649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ject 9"/>
          <p:cNvSpPr/>
          <p:nvPr/>
        </p:nvSpPr>
        <p:spPr>
          <a:xfrm>
            <a:off x="3963960" y="263520"/>
            <a:ext cx="222120" cy="281160"/>
          </a:xfrm>
          <a:custGeom>
            <a:avLst/>
            <a:gdLst/>
            <a:ahLst/>
            <a:rect l="l" t="t" r="r" b="b"/>
            <a:pathLst>
              <a:path w="222885" h="280670">
                <a:moveTo>
                  <a:pt x="109816" y="0"/>
                </a:moveTo>
                <a:lnTo>
                  <a:pt x="71551" y="4316"/>
                </a:lnTo>
                <a:lnTo>
                  <a:pt x="37577" y="18051"/>
                </a:lnTo>
                <a:lnTo>
                  <a:pt x="13260" y="42385"/>
                </a:lnTo>
                <a:lnTo>
                  <a:pt x="3962" y="78498"/>
                </a:lnTo>
                <a:lnTo>
                  <a:pt x="10228" y="110527"/>
                </a:lnTo>
                <a:lnTo>
                  <a:pt x="26550" y="132772"/>
                </a:lnTo>
                <a:lnTo>
                  <a:pt x="49219" y="147053"/>
                </a:lnTo>
                <a:lnTo>
                  <a:pt x="74523" y="155194"/>
                </a:lnTo>
                <a:lnTo>
                  <a:pt x="137896" y="169227"/>
                </a:lnTo>
                <a:lnTo>
                  <a:pt x="153433" y="173771"/>
                </a:lnTo>
                <a:lnTo>
                  <a:pt x="164447" y="179936"/>
                </a:lnTo>
                <a:lnTo>
                  <a:pt x="171006" y="188669"/>
                </a:lnTo>
                <a:lnTo>
                  <a:pt x="173177" y="200914"/>
                </a:lnTo>
                <a:lnTo>
                  <a:pt x="164830" y="222577"/>
                </a:lnTo>
                <a:lnTo>
                  <a:pt x="145548" y="234080"/>
                </a:lnTo>
                <a:lnTo>
                  <a:pt x="123971" y="238629"/>
                </a:lnTo>
                <a:lnTo>
                  <a:pt x="108737" y="239433"/>
                </a:lnTo>
                <a:lnTo>
                  <a:pt x="91442" y="238044"/>
                </a:lnTo>
                <a:lnTo>
                  <a:pt x="72188" y="231830"/>
                </a:lnTo>
                <a:lnTo>
                  <a:pt x="56175" y="217717"/>
                </a:lnTo>
                <a:lnTo>
                  <a:pt x="48602" y="192633"/>
                </a:lnTo>
                <a:lnTo>
                  <a:pt x="0" y="192633"/>
                </a:lnTo>
                <a:lnTo>
                  <a:pt x="13007" y="238048"/>
                </a:lnTo>
                <a:lnTo>
                  <a:pt x="41135" y="264596"/>
                </a:lnTo>
                <a:lnTo>
                  <a:pt x="76959" y="277035"/>
                </a:lnTo>
                <a:lnTo>
                  <a:pt x="113055" y="280123"/>
                </a:lnTo>
                <a:lnTo>
                  <a:pt x="159532" y="273688"/>
                </a:lnTo>
                <a:lnTo>
                  <a:pt x="194024" y="255912"/>
                </a:lnTo>
                <a:lnTo>
                  <a:pt x="215486" y="229090"/>
                </a:lnTo>
                <a:lnTo>
                  <a:pt x="222872" y="195516"/>
                </a:lnTo>
                <a:lnTo>
                  <a:pt x="215411" y="163262"/>
                </a:lnTo>
                <a:lnTo>
                  <a:pt x="197484" y="142179"/>
                </a:lnTo>
                <a:lnTo>
                  <a:pt x="175777" y="129940"/>
                </a:lnTo>
                <a:lnTo>
                  <a:pt x="156971" y="124218"/>
                </a:lnTo>
                <a:lnTo>
                  <a:pt x="88569" y="109105"/>
                </a:lnTo>
                <a:lnTo>
                  <a:pt x="70929" y="103473"/>
                </a:lnTo>
                <a:lnTo>
                  <a:pt x="59497" y="95915"/>
                </a:lnTo>
                <a:lnTo>
                  <a:pt x="53331" y="86668"/>
                </a:lnTo>
                <a:lnTo>
                  <a:pt x="51485" y="75971"/>
                </a:lnTo>
                <a:lnTo>
                  <a:pt x="59270" y="56085"/>
                </a:lnTo>
                <a:lnTo>
                  <a:pt x="77046" y="45683"/>
                </a:lnTo>
                <a:lnTo>
                  <a:pt x="96443" y="41693"/>
                </a:lnTo>
                <a:lnTo>
                  <a:pt x="109092" y="41046"/>
                </a:lnTo>
                <a:lnTo>
                  <a:pt x="123405" y="42002"/>
                </a:lnTo>
                <a:lnTo>
                  <a:pt x="142038" y="47077"/>
                </a:lnTo>
                <a:lnTo>
                  <a:pt x="158511" y="59579"/>
                </a:lnTo>
                <a:lnTo>
                  <a:pt x="166344" y="82816"/>
                </a:lnTo>
                <a:lnTo>
                  <a:pt x="214947" y="82816"/>
                </a:lnTo>
                <a:lnTo>
                  <a:pt x="198743" y="36282"/>
                </a:lnTo>
                <a:lnTo>
                  <a:pt x="148612" y="4725"/>
                </a:lnTo>
                <a:lnTo>
                  <a:pt x="128065" y="962"/>
                </a:lnTo>
                <a:lnTo>
                  <a:pt x="1098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ject 10"/>
          <p:cNvSpPr/>
          <p:nvPr/>
        </p:nvSpPr>
        <p:spPr>
          <a:xfrm>
            <a:off x="4235400" y="263520"/>
            <a:ext cx="241200" cy="281160"/>
          </a:xfrm>
          <a:custGeom>
            <a:avLst/>
            <a:gdLst/>
            <a:ahLst/>
            <a:rect l="l" t="t" r="r" b="b"/>
            <a:pathLst>
              <a:path w="241300" h="280670">
                <a:moveTo>
                  <a:pt x="129260" y="0"/>
                </a:moveTo>
                <a:lnTo>
                  <a:pt x="79870" y="8158"/>
                </a:lnTo>
                <a:lnTo>
                  <a:pt x="43320" y="30178"/>
                </a:lnTo>
                <a:lnTo>
                  <a:pt x="18539" y="62377"/>
                </a:lnTo>
                <a:lnTo>
                  <a:pt x="4456" y="101073"/>
                </a:lnTo>
                <a:lnTo>
                  <a:pt x="0" y="142582"/>
                </a:lnTo>
                <a:lnTo>
                  <a:pt x="4704" y="184538"/>
                </a:lnTo>
                <a:lnTo>
                  <a:pt x="19139" y="222105"/>
                </a:lnTo>
                <a:lnTo>
                  <a:pt x="43789" y="252448"/>
                </a:lnTo>
                <a:lnTo>
                  <a:pt x="79137" y="272732"/>
                </a:lnTo>
                <a:lnTo>
                  <a:pt x="125666" y="280123"/>
                </a:lnTo>
                <a:lnTo>
                  <a:pt x="175517" y="271111"/>
                </a:lnTo>
                <a:lnTo>
                  <a:pt x="210415" y="247989"/>
                </a:lnTo>
                <a:lnTo>
                  <a:pt x="231742" y="216633"/>
                </a:lnTo>
                <a:lnTo>
                  <a:pt x="240880" y="182918"/>
                </a:lnTo>
                <a:lnTo>
                  <a:pt x="189395" y="182918"/>
                </a:lnTo>
                <a:lnTo>
                  <a:pt x="187566" y="193036"/>
                </a:lnTo>
                <a:lnTo>
                  <a:pt x="184758" y="201772"/>
                </a:lnTo>
                <a:lnTo>
                  <a:pt x="150374" y="232783"/>
                </a:lnTo>
                <a:lnTo>
                  <a:pt x="124942" y="237642"/>
                </a:lnTo>
                <a:lnTo>
                  <a:pt x="96455" y="231334"/>
                </a:lnTo>
                <a:lnTo>
                  <a:pt x="73099" y="212839"/>
                </a:lnTo>
                <a:lnTo>
                  <a:pt x="57303" y="182799"/>
                </a:lnTo>
                <a:lnTo>
                  <a:pt x="51498" y="141859"/>
                </a:lnTo>
                <a:lnTo>
                  <a:pt x="58045" y="98592"/>
                </a:lnTo>
                <a:lnTo>
                  <a:pt x="75526" y="67646"/>
                </a:lnTo>
                <a:lnTo>
                  <a:pt x="100704" y="49054"/>
                </a:lnTo>
                <a:lnTo>
                  <a:pt x="130340" y="42849"/>
                </a:lnTo>
                <a:lnTo>
                  <a:pt x="141192" y="43609"/>
                </a:lnTo>
                <a:lnTo>
                  <a:pt x="158791" y="48926"/>
                </a:lnTo>
                <a:lnTo>
                  <a:pt x="176928" y="63359"/>
                </a:lnTo>
                <a:lnTo>
                  <a:pt x="189395" y="91465"/>
                </a:lnTo>
                <a:lnTo>
                  <a:pt x="240880" y="91465"/>
                </a:lnTo>
                <a:lnTo>
                  <a:pt x="232150" y="59546"/>
                </a:lnTo>
                <a:lnTo>
                  <a:pt x="211535" y="30064"/>
                </a:lnTo>
                <a:lnTo>
                  <a:pt x="177689" y="8415"/>
                </a:lnTo>
                <a:lnTo>
                  <a:pt x="1292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ject 11"/>
          <p:cNvSpPr/>
          <p:nvPr/>
        </p:nvSpPr>
        <p:spPr>
          <a:xfrm>
            <a:off x="4527720" y="243000"/>
            <a:ext cx="328320" cy="311040"/>
          </a:xfrm>
          <a:custGeom>
            <a:avLst/>
            <a:gdLst/>
            <a:ahLst/>
            <a:rect l="l" t="t" r="r" b="b"/>
            <a:pathLst>
              <a:path w="328929" h="311150">
                <a:moveTo>
                  <a:pt x="111620" y="249161"/>
                </a:moveTo>
                <a:lnTo>
                  <a:pt x="70929" y="249161"/>
                </a:lnTo>
                <a:lnTo>
                  <a:pt x="70929" y="311086"/>
                </a:lnTo>
                <a:lnTo>
                  <a:pt x="111620" y="311086"/>
                </a:lnTo>
                <a:lnTo>
                  <a:pt x="111620" y="249161"/>
                </a:lnTo>
                <a:close/>
              </a:path>
              <a:path w="328929" h="311150">
                <a:moveTo>
                  <a:pt x="292980" y="238366"/>
                </a:moveTo>
                <a:lnTo>
                  <a:pt x="213512" y="238366"/>
                </a:lnTo>
                <a:lnTo>
                  <a:pt x="213512" y="311086"/>
                </a:lnTo>
                <a:lnTo>
                  <a:pt x="254558" y="311086"/>
                </a:lnTo>
                <a:lnTo>
                  <a:pt x="254558" y="247002"/>
                </a:lnTo>
                <a:lnTo>
                  <a:pt x="302655" y="247002"/>
                </a:lnTo>
                <a:lnTo>
                  <a:pt x="297545" y="242908"/>
                </a:lnTo>
                <a:lnTo>
                  <a:pt x="292980" y="238366"/>
                </a:lnTo>
                <a:close/>
              </a:path>
              <a:path w="328929" h="311150">
                <a:moveTo>
                  <a:pt x="262128" y="203072"/>
                </a:moveTo>
                <a:lnTo>
                  <a:pt x="197675" y="203072"/>
                </a:lnTo>
                <a:lnTo>
                  <a:pt x="186973" y="218920"/>
                </a:lnTo>
                <a:lnTo>
                  <a:pt x="171750" y="237734"/>
                </a:lnTo>
                <a:lnTo>
                  <a:pt x="150585" y="258572"/>
                </a:lnTo>
                <a:lnTo>
                  <a:pt x="122059" y="280492"/>
                </a:lnTo>
                <a:lnTo>
                  <a:pt x="153022" y="307124"/>
                </a:lnTo>
                <a:lnTo>
                  <a:pt x="173512" y="288431"/>
                </a:lnTo>
                <a:lnTo>
                  <a:pt x="189749" y="270987"/>
                </a:lnTo>
                <a:lnTo>
                  <a:pt x="202744" y="254422"/>
                </a:lnTo>
                <a:lnTo>
                  <a:pt x="213512" y="238366"/>
                </a:lnTo>
                <a:lnTo>
                  <a:pt x="292980" y="238366"/>
                </a:lnTo>
                <a:lnTo>
                  <a:pt x="280325" y="225776"/>
                </a:lnTo>
                <a:lnTo>
                  <a:pt x="262128" y="203072"/>
                </a:lnTo>
                <a:close/>
              </a:path>
              <a:path w="328929" h="311150">
                <a:moveTo>
                  <a:pt x="111620" y="204165"/>
                </a:moveTo>
                <a:lnTo>
                  <a:pt x="61214" y="204165"/>
                </a:lnTo>
                <a:lnTo>
                  <a:pt x="44559" y="229544"/>
                </a:lnTo>
                <a:lnTo>
                  <a:pt x="28444" y="248715"/>
                </a:lnTo>
                <a:lnTo>
                  <a:pt x="13411" y="262892"/>
                </a:lnTo>
                <a:lnTo>
                  <a:pt x="0" y="273291"/>
                </a:lnTo>
                <a:lnTo>
                  <a:pt x="33845" y="299211"/>
                </a:lnTo>
                <a:lnTo>
                  <a:pt x="45158" y="286532"/>
                </a:lnTo>
                <a:lnTo>
                  <a:pt x="54683" y="274458"/>
                </a:lnTo>
                <a:lnTo>
                  <a:pt x="63122" y="262143"/>
                </a:lnTo>
                <a:lnTo>
                  <a:pt x="70929" y="249161"/>
                </a:lnTo>
                <a:lnTo>
                  <a:pt x="111620" y="249161"/>
                </a:lnTo>
                <a:lnTo>
                  <a:pt x="111620" y="247002"/>
                </a:lnTo>
                <a:lnTo>
                  <a:pt x="148844" y="247002"/>
                </a:lnTo>
                <a:lnTo>
                  <a:pt x="156260" y="239090"/>
                </a:lnTo>
                <a:lnTo>
                  <a:pt x="141997" y="229779"/>
                </a:lnTo>
                <a:lnTo>
                  <a:pt x="130163" y="220808"/>
                </a:lnTo>
                <a:lnTo>
                  <a:pt x="120218" y="212247"/>
                </a:lnTo>
                <a:lnTo>
                  <a:pt x="111620" y="204165"/>
                </a:lnTo>
                <a:close/>
              </a:path>
              <a:path w="328929" h="311150">
                <a:moveTo>
                  <a:pt x="302655" y="247002"/>
                </a:moveTo>
                <a:lnTo>
                  <a:pt x="254558" y="247002"/>
                </a:lnTo>
                <a:lnTo>
                  <a:pt x="263736" y="260170"/>
                </a:lnTo>
                <a:lnTo>
                  <a:pt x="273421" y="272159"/>
                </a:lnTo>
                <a:lnTo>
                  <a:pt x="284387" y="283812"/>
                </a:lnTo>
                <a:lnTo>
                  <a:pt x="297408" y="295973"/>
                </a:lnTo>
                <a:lnTo>
                  <a:pt x="328371" y="265722"/>
                </a:lnTo>
                <a:lnTo>
                  <a:pt x="313616" y="255784"/>
                </a:lnTo>
                <a:lnTo>
                  <a:pt x="302655" y="247002"/>
                </a:lnTo>
                <a:close/>
              </a:path>
              <a:path w="328929" h="311150">
                <a:moveTo>
                  <a:pt x="148844" y="247002"/>
                </a:moveTo>
                <a:lnTo>
                  <a:pt x="111620" y="247002"/>
                </a:lnTo>
                <a:lnTo>
                  <a:pt x="115691" y="253352"/>
                </a:lnTo>
                <a:lnTo>
                  <a:pt x="119087" y="257848"/>
                </a:lnTo>
                <a:lnTo>
                  <a:pt x="123272" y="262248"/>
                </a:lnTo>
                <a:lnTo>
                  <a:pt x="129260" y="267893"/>
                </a:lnTo>
                <a:lnTo>
                  <a:pt x="148844" y="247002"/>
                </a:lnTo>
                <a:close/>
              </a:path>
              <a:path w="328929" h="311150">
                <a:moveTo>
                  <a:pt x="155905" y="166712"/>
                </a:moveTo>
                <a:lnTo>
                  <a:pt x="12598" y="166712"/>
                </a:lnTo>
                <a:lnTo>
                  <a:pt x="12598" y="204165"/>
                </a:lnTo>
                <a:lnTo>
                  <a:pt x="155905" y="204165"/>
                </a:lnTo>
                <a:lnTo>
                  <a:pt x="155905" y="166712"/>
                </a:lnTo>
                <a:close/>
              </a:path>
              <a:path w="328929" h="311150">
                <a:moveTo>
                  <a:pt x="320814" y="165633"/>
                </a:moveTo>
                <a:lnTo>
                  <a:pt x="164553" y="165633"/>
                </a:lnTo>
                <a:lnTo>
                  <a:pt x="164553" y="203072"/>
                </a:lnTo>
                <a:lnTo>
                  <a:pt x="320814" y="203072"/>
                </a:lnTo>
                <a:lnTo>
                  <a:pt x="320814" y="165633"/>
                </a:lnTo>
                <a:close/>
              </a:path>
              <a:path w="328929" h="311150">
                <a:moveTo>
                  <a:pt x="118821" y="145821"/>
                </a:moveTo>
                <a:lnTo>
                  <a:pt x="70929" y="145821"/>
                </a:lnTo>
                <a:lnTo>
                  <a:pt x="70929" y="166712"/>
                </a:lnTo>
                <a:lnTo>
                  <a:pt x="111620" y="166712"/>
                </a:lnTo>
                <a:lnTo>
                  <a:pt x="111707" y="151855"/>
                </a:lnTo>
                <a:lnTo>
                  <a:pt x="112699" y="150863"/>
                </a:lnTo>
                <a:lnTo>
                  <a:pt x="117741" y="146913"/>
                </a:lnTo>
                <a:lnTo>
                  <a:pt x="118821" y="145821"/>
                </a:lnTo>
                <a:close/>
              </a:path>
              <a:path w="328929" h="311150">
                <a:moveTo>
                  <a:pt x="213512" y="132867"/>
                </a:moveTo>
                <a:lnTo>
                  <a:pt x="213512" y="165633"/>
                </a:lnTo>
                <a:lnTo>
                  <a:pt x="254558" y="165633"/>
                </a:lnTo>
                <a:lnTo>
                  <a:pt x="254558" y="148348"/>
                </a:lnTo>
                <a:lnTo>
                  <a:pt x="255638" y="146913"/>
                </a:lnTo>
                <a:lnTo>
                  <a:pt x="258165" y="144741"/>
                </a:lnTo>
                <a:lnTo>
                  <a:pt x="260680" y="142951"/>
                </a:lnTo>
                <a:lnTo>
                  <a:pt x="261048" y="142582"/>
                </a:lnTo>
                <a:lnTo>
                  <a:pt x="309006" y="142582"/>
                </a:lnTo>
                <a:lnTo>
                  <a:pt x="316950" y="134302"/>
                </a:lnTo>
                <a:lnTo>
                  <a:pt x="247713" y="134302"/>
                </a:lnTo>
                <a:lnTo>
                  <a:pt x="213512" y="132867"/>
                </a:lnTo>
                <a:close/>
              </a:path>
              <a:path w="328929" h="311150">
                <a:moveTo>
                  <a:pt x="217119" y="66979"/>
                </a:moveTo>
                <a:lnTo>
                  <a:pt x="117017" y="66979"/>
                </a:lnTo>
                <a:lnTo>
                  <a:pt x="109930" y="74600"/>
                </a:lnTo>
                <a:lnTo>
                  <a:pt x="101626" y="82322"/>
                </a:lnTo>
                <a:lnTo>
                  <a:pt x="55537" y="111975"/>
                </a:lnTo>
                <a:lnTo>
                  <a:pt x="9359" y="131063"/>
                </a:lnTo>
                <a:lnTo>
                  <a:pt x="40322" y="161670"/>
                </a:lnTo>
                <a:lnTo>
                  <a:pt x="51337" y="156256"/>
                </a:lnTo>
                <a:lnTo>
                  <a:pt x="59817" y="151855"/>
                </a:lnTo>
                <a:lnTo>
                  <a:pt x="70929" y="145821"/>
                </a:lnTo>
                <a:lnTo>
                  <a:pt x="118821" y="145821"/>
                </a:lnTo>
                <a:lnTo>
                  <a:pt x="119900" y="145110"/>
                </a:lnTo>
                <a:lnTo>
                  <a:pt x="119900" y="140068"/>
                </a:lnTo>
                <a:lnTo>
                  <a:pt x="116293" y="138988"/>
                </a:lnTo>
                <a:lnTo>
                  <a:pt x="87134" y="135026"/>
                </a:lnTo>
                <a:lnTo>
                  <a:pt x="103957" y="122831"/>
                </a:lnTo>
                <a:lnTo>
                  <a:pt x="118552" y="110902"/>
                </a:lnTo>
                <a:lnTo>
                  <a:pt x="132202" y="98164"/>
                </a:lnTo>
                <a:lnTo>
                  <a:pt x="146189" y="83540"/>
                </a:lnTo>
                <a:lnTo>
                  <a:pt x="187591" y="83540"/>
                </a:lnTo>
                <a:lnTo>
                  <a:pt x="187591" y="81737"/>
                </a:lnTo>
                <a:lnTo>
                  <a:pt x="235472" y="81737"/>
                </a:lnTo>
                <a:lnTo>
                  <a:pt x="217119" y="66979"/>
                </a:lnTo>
                <a:close/>
              </a:path>
              <a:path w="328929" h="311150">
                <a:moveTo>
                  <a:pt x="309006" y="142582"/>
                </a:moveTo>
                <a:lnTo>
                  <a:pt x="261048" y="142582"/>
                </a:lnTo>
                <a:lnTo>
                  <a:pt x="270520" y="147645"/>
                </a:lnTo>
                <a:lnTo>
                  <a:pt x="278777" y="151726"/>
                </a:lnTo>
                <a:lnTo>
                  <a:pt x="286358" y="155198"/>
                </a:lnTo>
                <a:lnTo>
                  <a:pt x="293801" y="158432"/>
                </a:lnTo>
                <a:lnTo>
                  <a:pt x="309006" y="142582"/>
                </a:lnTo>
                <a:close/>
              </a:path>
              <a:path w="328929" h="311150">
                <a:moveTo>
                  <a:pt x="187591" y="83540"/>
                </a:moveTo>
                <a:lnTo>
                  <a:pt x="146189" y="83540"/>
                </a:lnTo>
                <a:lnTo>
                  <a:pt x="146189" y="152666"/>
                </a:lnTo>
                <a:lnTo>
                  <a:pt x="187591" y="152666"/>
                </a:lnTo>
                <a:lnTo>
                  <a:pt x="187591" y="83540"/>
                </a:lnTo>
                <a:close/>
              </a:path>
              <a:path w="328929" h="311150">
                <a:moveTo>
                  <a:pt x="235472" y="81737"/>
                </a:moveTo>
                <a:lnTo>
                  <a:pt x="187591" y="81737"/>
                </a:lnTo>
                <a:lnTo>
                  <a:pt x="204629" y="99824"/>
                </a:lnTo>
                <a:lnTo>
                  <a:pt x="219948" y="113825"/>
                </a:lnTo>
                <a:lnTo>
                  <a:pt x="234118" y="124922"/>
                </a:lnTo>
                <a:lnTo>
                  <a:pt x="247713" y="134302"/>
                </a:lnTo>
                <a:lnTo>
                  <a:pt x="316950" y="134302"/>
                </a:lnTo>
                <a:lnTo>
                  <a:pt x="327647" y="123151"/>
                </a:lnTo>
                <a:lnTo>
                  <a:pt x="300658" y="115385"/>
                </a:lnTo>
                <a:lnTo>
                  <a:pt x="271573" y="103705"/>
                </a:lnTo>
                <a:lnTo>
                  <a:pt x="242893" y="87704"/>
                </a:lnTo>
                <a:lnTo>
                  <a:pt x="235472" y="81737"/>
                </a:lnTo>
                <a:close/>
              </a:path>
              <a:path w="328929" h="311150">
                <a:moveTo>
                  <a:pt x="305333" y="31686"/>
                </a:moveTo>
                <a:lnTo>
                  <a:pt x="29527" y="31686"/>
                </a:lnTo>
                <a:lnTo>
                  <a:pt x="29527" y="66979"/>
                </a:lnTo>
                <a:lnTo>
                  <a:pt x="305333" y="66979"/>
                </a:lnTo>
                <a:lnTo>
                  <a:pt x="305333" y="31686"/>
                </a:lnTo>
                <a:close/>
              </a:path>
              <a:path w="328929" h="311150">
                <a:moveTo>
                  <a:pt x="146189" y="0"/>
                </a:moveTo>
                <a:lnTo>
                  <a:pt x="146189" y="31686"/>
                </a:lnTo>
                <a:lnTo>
                  <a:pt x="187591" y="31686"/>
                </a:lnTo>
                <a:lnTo>
                  <a:pt x="187591" y="14770"/>
                </a:lnTo>
                <a:lnTo>
                  <a:pt x="194437" y="7924"/>
                </a:lnTo>
                <a:lnTo>
                  <a:pt x="194437" y="2882"/>
                </a:lnTo>
                <a:lnTo>
                  <a:pt x="190830" y="1803"/>
                </a:lnTo>
                <a:lnTo>
                  <a:pt x="185432" y="1447"/>
                </a:lnTo>
                <a:lnTo>
                  <a:pt x="14618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ject 12"/>
          <p:cNvSpPr/>
          <p:nvPr/>
        </p:nvSpPr>
        <p:spPr>
          <a:xfrm>
            <a:off x="4906800" y="241200"/>
            <a:ext cx="339840" cy="312840"/>
          </a:xfrm>
          <a:custGeom>
            <a:avLst/>
            <a:gdLst/>
            <a:ahLst/>
            <a:rect l="l" t="t" r="r" b="b"/>
            <a:pathLst>
              <a:path w="339725" h="312420">
                <a:moveTo>
                  <a:pt x="254203" y="194436"/>
                </a:moveTo>
                <a:lnTo>
                  <a:pt x="214591" y="194436"/>
                </a:lnTo>
                <a:lnTo>
                  <a:pt x="214591" y="312165"/>
                </a:lnTo>
                <a:lnTo>
                  <a:pt x="254203" y="312165"/>
                </a:lnTo>
                <a:lnTo>
                  <a:pt x="254203" y="194436"/>
                </a:lnTo>
                <a:close/>
              </a:path>
              <a:path w="339725" h="312420">
                <a:moveTo>
                  <a:pt x="116293" y="202717"/>
                </a:moveTo>
                <a:lnTo>
                  <a:pt x="77406" y="202717"/>
                </a:lnTo>
                <a:lnTo>
                  <a:pt x="77406" y="311810"/>
                </a:lnTo>
                <a:lnTo>
                  <a:pt x="116293" y="311810"/>
                </a:lnTo>
                <a:lnTo>
                  <a:pt x="116293" y="202717"/>
                </a:lnTo>
                <a:close/>
              </a:path>
              <a:path w="339725" h="312420">
                <a:moveTo>
                  <a:pt x="258165" y="98297"/>
                </a:moveTo>
                <a:lnTo>
                  <a:pt x="209194" y="98297"/>
                </a:lnTo>
                <a:lnTo>
                  <a:pt x="206302" y="111412"/>
                </a:lnTo>
                <a:lnTo>
                  <a:pt x="201183" y="129217"/>
                </a:lnTo>
                <a:lnTo>
                  <a:pt x="179666" y="176072"/>
                </a:lnTo>
                <a:lnTo>
                  <a:pt x="153206" y="212258"/>
                </a:lnTo>
                <a:lnTo>
                  <a:pt x="121335" y="244119"/>
                </a:lnTo>
                <a:lnTo>
                  <a:pt x="156984" y="267881"/>
                </a:lnTo>
                <a:lnTo>
                  <a:pt x="169942" y="255282"/>
                </a:lnTo>
                <a:lnTo>
                  <a:pt x="185116" y="238045"/>
                </a:lnTo>
                <a:lnTo>
                  <a:pt x="200681" y="217303"/>
                </a:lnTo>
                <a:lnTo>
                  <a:pt x="214591" y="194436"/>
                </a:lnTo>
                <a:lnTo>
                  <a:pt x="254203" y="194436"/>
                </a:lnTo>
                <a:lnTo>
                  <a:pt x="254203" y="194081"/>
                </a:lnTo>
                <a:lnTo>
                  <a:pt x="307353" y="194081"/>
                </a:lnTo>
                <a:lnTo>
                  <a:pt x="295562" y="178993"/>
                </a:lnTo>
                <a:lnTo>
                  <a:pt x="275226" y="143220"/>
                </a:lnTo>
                <a:lnTo>
                  <a:pt x="258165" y="98297"/>
                </a:lnTo>
                <a:close/>
              </a:path>
              <a:path w="339725" h="312420">
                <a:moveTo>
                  <a:pt x="307353" y="194081"/>
                </a:moveTo>
                <a:lnTo>
                  <a:pt x="254203" y="194081"/>
                </a:lnTo>
                <a:lnTo>
                  <a:pt x="263984" y="208443"/>
                </a:lnTo>
                <a:lnTo>
                  <a:pt x="276837" y="225309"/>
                </a:lnTo>
                <a:lnTo>
                  <a:pt x="291515" y="242582"/>
                </a:lnTo>
                <a:lnTo>
                  <a:pt x="306768" y="258165"/>
                </a:lnTo>
                <a:lnTo>
                  <a:pt x="339178" y="228638"/>
                </a:lnTo>
                <a:lnTo>
                  <a:pt x="317453" y="207004"/>
                </a:lnTo>
                <a:lnTo>
                  <a:pt x="307353" y="194081"/>
                </a:lnTo>
                <a:close/>
              </a:path>
              <a:path w="339725" h="312420">
                <a:moveTo>
                  <a:pt x="116293" y="98297"/>
                </a:moveTo>
                <a:lnTo>
                  <a:pt x="72364" y="98297"/>
                </a:lnTo>
                <a:lnTo>
                  <a:pt x="67962" y="118682"/>
                </a:lnTo>
                <a:lnTo>
                  <a:pt x="62514" y="137680"/>
                </a:lnTo>
                <a:lnTo>
                  <a:pt x="46443" y="174624"/>
                </a:lnTo>
                <a:lnTo>
                  <a:pt x="19711" y="213693"/>
                </a:lnTo>
                <a:lnTo>
                  <a:pt x="0" y="233311"/>
                </a:lnTo>
                <a:lnTo>
                  <a:pt x="38887" y="255282"/>
                </a:lnTo>
                <a:lnTo>
                  <a:pt x="50524" y="242256"/>
                </a:lnTo>
                <a:lnTo>
                  <a:pt x="60442" y="229671"/>
                </a:lnTo>
                <a:lnTo>
                  <a:pt x="69212" y="216751"/>
                </a:lnTo>
                <a:lnTo>
                  <a:pt x="77406" y="202717"/>
                </a:lnTo>
                <a:lnTo>
                  <a:pt x="116293" y="202717"/>
                </a:lnTo>
                <a:lnTo>
                  <a:pt x="116293" y="168871"/>
                </a:lnTo>
                <a:lnTo>
                  <a:pt x="162449" y="168871"/>
                </a:lnTo>
                <a:lnTo>
                  <a:pt x="166344" y="164541"/>
                </a:lnTo>
                <a:lnTo>
                  <a:pt x="151994" y="150902"/>
                </a:lnTo>
                <a:lnTo>
                  <a:pt x="137947" y="134529"/>
                </a:lnTo>
                <a:lnTo>
                  <a:pt x="125585" y="116601"/>
                </a:lnTo>
                <a:lnTo>
                  <a:pt x="116293" y="98297"/>
                </a:lnTo>
                <a:close/>
              </a:path>
              <a:path w="339725" h="312420">
                <a:moveTo>
                  <a:pt x="162449" y="168871"/>
                </a:moveTo>
                <a:lnTo>
                  <a:pt x="116293" y="168871"/>
                </a:lnTo>
                <a:lnTo>
                  <a:pt x="120371" y="174162"/>
                </a:lnTo>
                <a:lnTo>
                  <a:pt x="125930" y="180705"/>
                </a:lnTo>
                <a:lnTo>
                  <a:pt x="132703" y="187452"/>
                </a:lnTo>
                <a:lnTo>
                  <a:pt x="140423" y="193357"/>
                </a:lnTo>
                <a:lnTo>
                  <a:pt x="162449" y="168871"/>
                </a:lnTo>
                <a:close/>
              </a:path>
              <a:path w="339725" h="312420">
                <a:moveTo>
                  <a:pt x="163461" y="58331"/>
                </a:moveTo>
                <a:lnTo>
                  <a:pt x="15481" y="58331"/>
                </a:lnTo>
                <a:lnTo>
                  <a:pt x="15481" y="98297"/>
                </a:lnTo>
                <a:lnTo>
                  <a:pt x="163461" y="98297"/>
                </a:lnTo>
                <a:lnTo>
                  <a:pt x="163461" y="58331"/>
                </a:lnTo>
                <a:close/>
              </a:path>
              <a:path w="339725" h="312420">
                <a:moveTo>
                  <a:pt x="323697" y="58331"/>
                </a:moveTo>
                <a:lnTo>
                  <a:pt x="173189" y="58331"/>
                </a:lnTo>
                <a:lnTo>
                  <a:pt x="173189" y="98297"/>
                </a:lnTo>
                <a:lnTo>
                  <a:pt x="323697" y="98297"/>
                </a:lnTo>
                <a:lnTo>
                  <a:pt x="323697" y="58331"/>
                </a:lnTo>
                <a:close/>
              </a:path>
              <a:path w="339725" h="312420">
                <a:moveTo>
                  <a:pt x="77406" y="0"/>
                </a:moveTo>
                <a:lnTo>
                  <a:pt x="77406" y="58331"/>
                </a:lnTo>
                <a:lnTo>
                  <a:pt x="116293" y="58331"/>
                </a:lnTo>
                <a:lnTo>
                  <a:pt x="116293" y="14757"/>
                </a:lnTo>
                <a:lnTo>
                  <a:pt x="117373" y="14046"/>
                </a:lnTo>
                <a:lnTo>
                  <a:pt x="122415" y="10083"/>
                </a:lnTo>
                <a:lnTo>
                  <a:pt x="123863" y="9004"/>
                </a:lnTo>
                <a:lnTo>
                  <a:pt x="124218" y="8280"/>
                </a:lnTo>
                <a:lnTo>
                  <a:pt x="124218" y="3606"/>
                </a:lnTo>
                <a:lnTo>
                  <a:pt x="120256" y="2882"/>
                </a:lnTo>
                <a:lnTo>
                  <a:pt x="77406" y="0"/>
                </a:lnTo>
                <a:close/>
              </a:path>
              <a:path w="339725" h="312420">
                <a:moveTo>
                  <a:pt x="214591" y="723"/>
                </a:moveTo>
                <a:lnTo>
                  <a:pt x="214591" y="58331"/>
                </a:lnTo>
                <a:lnTo>
                  <a:pt x="254203" y="58331"/>
                </a:lnTo>
                <a:lnTo>
                  <a:pt x="254203" y="15125"/>
                </a:lnTo>
                <a:lnTo>
                  <a:pt x="254914" y="14046"/>
                </a:lnTo>
                <a:lnTo>
                  <a:pt x="258165" y="11887"/>
                </a:lnTo>
                <a:lnTo>
                  <a:pt x="261759" y="9728"/>
                </a:lnTo>
                <a:lnTo>
                  <a:pt x="261759" y="4330"/>
                </a:lnTo>
                <a:lnTo>
                  <a:pt x="258165" y="3606"/>
                </a:lnTo>
                <a:lnTo>
                  <a:pt x="214591" y="7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bject 13"/>
          <p:cNvSpPr/>
          <p:nvPr/>
        </p:nvSpPr>
        <p:spPr>
          <a:xfrm>
            <a:off x="5305320" y="249120"/>
            <a:ext cx="320760" cy="303480"/>
          </a:xfrm>
          <a:custGeom>
            <a:avLst/>
            <a:gdLst/>
            <a:ahLst/>
            <a:rect l="l" t="t" r="r" b="b"/>
            <a:pathLst>
              <a:path w="321310" h="302259">
                <a:moveTo>
                  <a:pt x="174624" y="181470"/>
                </a:moveTo>
                <a:lnTo>
                  <a:pt x="174694" y="274002"/>
                </a:lnTo>
                <a:lnTo>
                  <a:pt x="205587" y="301726"/>
                </a:lnTo>
                <a:lnTo>
                  <a:pt x="249516" y="301726"/>
                </a:lnTo>
                <a:lnTo>
                  <a:pt x="259633" y="299880"/>
                </a:lnTo>
                <a:lnTo>
                  <a:pt x="268060" y="292904"/>
                </a:lnTo>
                <a:lnTo>
                  <a:pt x="275946" y="278639"/>
                </a:lnTo>
                <a:lnTo>
                  <a:pt x="280447" y="266077"/>
                </a:lnTo>
                <a:lnTo>
                  <a:pt x="216039" y="266077"/>
                </a:lnTo>
                <a:lnTo>
                  <a:pt x="213880" y="263563"/>
                </a:lnTo>
                <a:lnTo>
                  <a:pt x="213880" y="195503"/>
                </a:lnTo>
                <a:lnTo>
                  <a:pt x="219633" y="190461"/>
                </a:lnTo>
                <a:lnTo>
                  <a:pt x="219989" y="189026"/>
                </a:lnTo>
                <a:lnTo>
                  <a:pt x="241397" y="189026"/>
                </a:lnTo>
                <a:lnTo>
                  <a:pt x="245758" y="183260"/>
                </a:lnTo>
                <a:lnTo>
                  <a:pt x="213512" y="183260"/>
                </a:lnTo>
                <a:lnTo>
                  <a:pt x="212077" y="182905"/>
                </a:lnTo>
                <a:lnTo>
                  <a:pt x="174624" y="181470"/>
                </a:lnTo>
                <a:close/>
              </a:path>
              <a:path w="321310" h="302259">
                <a:moveTo>
                  <a:pt x="116649" y="187947"/>
                </a:moveTo>
                <a:lnTo>
                  <a:pt x="8280" y="187947"/>
                </a:lnTo>
                <a:lnTo>
                  <a:pt x="8280" y="301370"/>
                </a:lnTo>
                <a:lnTo>
                  <a:pt x="42481" y="301370"/>
                </a:lnTo>
                <a:lnTo>
                  <a:pt x="42481" y="286600"/>
                </a:lnTo>
                <a:lnTo>
                  <a:pt x="116649" y="286600"/>
                </a:lnTo>
                <a:lnTo>
                  <a:pt x="116649" y="274002"/>
                </a:lnTo>
                <a:lnTo>
                  <a:pt x="149782" y="274002"/>
                </a:lnTo>
                <a:lnTo>
                  <a:pt x="154717" y="262483"/>
                </a:lnTo>
                <a:lnTo>
                  <a:pt x="116649" y="262483"/>
                </a:lnTo>
                <a:lnTo>
                  <a:pt x="116649" y="253479"/>
                </a:lnTo>
                <a:lnTo>
                  <a:pt x="42481" y="253479"/>
                </a:lnTo>
                <a:lnTo>
                  <a:pt x="42481" y="220713"/>
                </a:lnTo>
                <a:lnTo>
                  <a:pt x="116649" y="220713"/>
                </a:lnTo>
                <a:lnTo>
                  <a:pt x="116649" y="187947"/>
                </a:lnTo>
                <a:close/>
              </a:path>
              <a:path w="321310" h="302259">
                <a:moveTo>
                  <a:pt x="116649" y="286600"/>
                </a:moveTo>
                <a:lnTo>
                  <a:pt x="82092" y="286600"/>
                </a:lnTo>
                <a:lnTo>
                  <a:pt x="82092" y="297040"/>
                </a:lnTo>
                <a:lnTo>
                  <a:pt x="116649" y="297040"/>
                </a:lnTo>
                <a:lnTo>
                  <a:pt x="116649" y="286600"/>
                </a:lnTo>
                <a:close/>
              </a:path>
              <a:path w="321310" h="302259">
                <a:moveTo>
                  <a:pt x="149782" y="274002"/>
                </a:moveTo>
                <a:lnTo>
                  <a:pt x="116649" y="274002"/>
                </a:lnTo>
                <a:lnTo>
                  <a:pt x="146545" y="281558"/>
                </a:lnTo>
                <a:lnTo>
                  <a:pt x="149782" y="274002"/>
                </a:lnTo>
                <a:close/>
              </a:path>
              <a:path w="321310" h="302259">
                <a:moveTo>
                  <a:pt x="247357" y="232232"/>
                </a:moveTo>
                <a:lnTo>
                  <a:pt x="236181" y="266077"/>
                </a:lnTo>
                <a:lnTo>
                  <a:pt x="280447" y="266077"/>
                </a:lnTo>
                <a:lnTo>
                  <a:pt x="284441" y="254927"/>
                </a:lnTo>
                <a:lnTo>
                  <a:pt x="247357" y="232232"/>
                </a:lnTo>
                <a:close/>
              </a:path>
              <a:path w="321310" h="302259">
                <a:moveTo>
                  <a:pt x="284441" y="181825"/>
                </a:moveTo>
                <a:lnTo>
                  <a:pt x="255638" y="198754"/>
                </a:lnTo>
                <a:lnTo>
                  <a:pt x="263429" y="210654"/>
                </a:lnTo>
                <a:lnTo>
                  <a:pt x="272602" y="226202"/>
                </a:lnTo>
                <a:lnTo>
                  <a:pt x="282113" y="244317"/>
                </a:lnTo>
                <a:lnTo>
                  <a:pt x="290918" y="263918"/>
                </a:lnTo>
                <a:lnTo>
                  <a:pt x="321170" y="243039"/>
                </a:lnTo>
                <a:lnTo>
                  <a:pt x="313554" y="226788"/>
                </a:lnTo>
                <a:lnTo>
                  <a:pt x="304287" y="210270"/>
                </a:lnTo>
                <a:lnTo>
                  <a:pt x="294279" y="194833"/>
                </a:lnTo>
                <a:lnTo>
                  <a:pt x="284441" y="181825"/>
                </a:lnTo>
                <a:close/>
              </a:path>
              <a:path w="321310" h="302259">
                <a:moveTo>
                  <a:pt x="138252" y="195872"/>
                </a:moveTo>
                <a:lnTo>
                  <a:pt x="132703" y="217822"/>
                </a:lnTo>
                <a:lnTo>
                  <a:pt x="125776" y="238870"/>
                </a:lnTo>
                <a:lnTo>
                  <a:pt x="119976" y="254299"/>
                </a:lnTo>
                <a:lnTo>
                  <a:pt x="116649" y="262483"/>
                </a:lnTo>
                <a:lnTo>
                  <a:pt x="154717" y="262483"/>
                </a:lnTo>
                <a:lnTo>
                  <a:pt x="155844" y="259852"/>
                </a:lnTo>
                <a:lnTo>
                  <a:pt x="162648" y="238621"/>
                </a:lnTo>
                <a:lnTo>
                  <a:pt x="166890" y="222117"/>
                </a:lnTo>
                <a:lnTo>
                  <a:pt x="168503" y="214591"/>
                </a:lnTo>
                <a:lnTo>
                  <a:pt x="170306" y="213867"/>
                </a:lnTo>
                <a:lnTo>
                  <a:pt x="173901" y="212788"/>
                </a:lnTo>
                <a:lnTo>
                  <a:pt x="173901" y="207390"/>
                </a:lnTo>
                <a:lnTo>
                  <a:pt x="172110" y="206311"/>
                </a:lnTo>
                <a:lnTo>
                  <a:pt x="169938" y="205587"/>
                </a:lnTo>
                <a:lnTo>
                  <a:pt x="138252" y="195872"/>
                </a:lnTo>
                <a:close/>
              </a:path>
              <a:path w="321310" h="302259">
                <a:moveTo>
                  <a:pt x="116649" y="220713"/>
                </a:moveTo>
                <a:lnTo>
                  <a:pt x="81724" y="220713"/>
                </a:lnTo>
                <a:lnTo>
                  <a:pt x="81724" y="253479"/>
                </a:lnTo>
                <a:lnTo>
                  <a:pt x="116649" y="253479"/>
                </a:lnTo>
                <a:lnTo>
                  <a:pt x="116649" y="220713"/>
                </a:lnTo>
                <a:close/>
              </a:path>
              <a:path w="321310" h="302259">
                <a:moveTo>
                  <a:pt x="241397" y="189026"/>
                </a:moveTo>
                <a:lnTo>
                  <a:pt x="219989" y="189026"/>
                </a:lnTo>
                <a:lnTo>
                  <a:pt x="225399" y="193713"/>
                </a:lnTo>
                <a:lnTo>
                  <a:pt x="226110" y="194068"/>
                </a:lnTo>
                <a:lnTo>
                  <a:pt x="232956" y="200190"/>
                </a:lnTo>
                <a:lnTo>
                  <a:pt x="241397" y="189026"/>
                </a:lnTo>
                <a:close/>
              </a:path>
              <a:path w="321310" h="302259">
                <a:moveTo>
                  <a:pt x="209549" y="135737"/>
                </a:moveTo>
                <a:lnTo>
                  <a:pt x="186143" y="162026"/>
                </a:lnTo>
                <a:lnTo>
                  <a:pt x="190977" y="165446"/>
                </a:lnTo>
                <a:lnTo>
                  <a:pt x="196722" y="169676"/>
                </a:lnTo>
                <a:lnTo>
                  <a:pt x="204021" y="175390"/>
                </a:lnTo>
                <a:lnTo>
                  <a:pt x="213512" y="183260"/>
                </a:lnTo>
                <a:lnTo>
                  <a:pt x="245758" y="183260"/>
                </a:lnTo>
                <a:lnTo>
                  <a:pt x="254190" y="172110"/>
                </a:lnTo>
                <a:lnTo>
                  <a:pt x="249384" y="167115"/>
                </a:lnTo>
                <a:lnTo>
                  <a:pt x="244070" y="162158"/>
                </a:lnTo>
                <a:lnTo>
                  <a:pt x="238958" y="157674"/>
                </a:lnTo>
                <a:lnTo>
                  <a:pt x="234759" y="154101"/>
                </a:lnTo>
                <a:lnTo>
                  <a:pt x="248728" y="154101"/>
                </a:lnTo>
                <a:lnTo>
                  <a:pt x="261310" y="152392"/>
                </a:lnTo>
                <a:lnTo>
                  <a:pt x="264924" y="150863"/>
                </a:lnTo>
                <a:lnTo>
                  <a:pt x="230428" y="150863"/>
                </a:lnTo>
                <a:lnTo>
                  <a:pt x="222864" y="144904"/>
                </a:lnTo>
                <a:lnTo>
                  <a:pt x="217155" y="140733"/>
                </a:lnTo>
                <a:lnTo>
                  <a:pt x="212864" y="137845"/>
                </a:lnTo>
                <a:lnTo>
                  <a:pt x="209549" y="135737"/>
                </a:lnTo>
                <a:close/>
              </a:path>
              <a:path w="321310" h="302259">
                <a:moveTo>
                  <a:pt x="108750" y="140423"/>
                </a:moveTo>
                <a:lnTo>
                  <a:pt x="13322" y="140423"/>
                </a:lnTo>
                <a:lnTo>
                  <a:pt x="13322" y="170306"/>
                </a:lnTo>
                <a:lnTo>
                  <a:pt x="108750" y="170306"/>
                </a:lnTo>
                <a:lnTo>
                  <a:pt x="108750" y="140423"/>
                </a:lnTo>
                <a:close/>
              </a:path>
              <a:path w="321310" h="302259">
                <a:moveTo>
                  <a:pt x="148704" y="54013"/>
                </a:moveTo>
                <a:lnTo>
                  <a:pt x="130695" y="85331"/>
                </a:lnTo>
                <a:lnTo>
                  <a:pt x="139267" y="88825"/>
                </a:lnTo>
                <a:lnTo>
                  <a:pt x="146584" y="91946"/>
                </a:lnTo>
                <a:lnTo>
                  <a:pt x="153428" y="94998"/>
                </a:lnTo>
                <a:lnTo>
                  <a:pt x="160578" y="98285"/>
                </a:lnTo>
                <a:lnTo>
                  <a:pt x="154610" y="106610"/>
                </a:lnTo>
                <a:lnTo>
                  <a:pt x="147396" y="114631"/>
                </a:lnTo>
                <a:lnTo>
                  <a:pt x="137143" y="123665"/>
                </a:lnTo>
                <a:lnTo>
                  <a:pt x="122059" y="135026"/>
                </a:lnTo>
                <a:lnTo>
                  <a:pt x="150863" y="160578"/>
                </a:lnTo>
                <a:lnTo>
                  <a:pt x="164595" y="149284"/>
                </a:lnTo>
                <a:lnTo>
                  <a:pt x="175660" y="138528"/>
                </a:lnTo>
                <a:lnTo>
                  <a:pt x="185038" y="127367"/>
                </a:lnTo>
                <a:lnTo>
                  <a:pt x="193713" y="114858"/>
                </a:lnTo>
                <a:lnTo>
                  <a:pt x="223091" y="114858"/>
                </a:lnTo>
                <a:lnTo>
                  <a:pt x="236181" y="93611"/>
                </a:lnTo>
                <a:lnTo>
                  <a:pt x="227417" y="88434"/>
                </a:lnTo>
                <a:lnTo>
                  <a:pt x="220446" y="84548"/>
                </a:lnTo>
                <a:lnTo>
                  <a:pt x="210261" y="79209"/>
                </a:lnTo>
                <a:lnTo>
                  <a:pt x="213063" y="69317"/>
                </a:lnTo>
                <a:lnTo>
                  <a:pt x="214199" y="64084"/>
                </a:lnTo>
                <a:lnTo>
                  <a:pt x="176060" y="64084"/>
                </a:lnTo>
                <a:lnTo>
                  <a:pt x="165406" y="59829"/>
                </a:lnTo>
                <a:lnTo>
                  <a:pt x="157791" y="57024"/>
                </a:lnTo>
                <a:lnTo>
                  <a:pt x="152471" y="55231"/>
                </a:lnTo>
                <a:lnTo>
                  <a:pt x="148704" y="54013"/>
                </a:lnTo>
                <a:close/>
              </a:path>
              <a:path w="321310" h="302259">
                <a:moveTo>
                  <a:pt x="248728" y="154101"/>
                </a:moveTo>
                <a:lnTo>
                  <a:pt x="234759" y="154101"/>
                </a:lnTo>
                <a:lnTo>
                  <a:pt x="248303" y="154159"/>
                </a:lnTo>
                <a:lnTo>
                  <a:pt x="248728" y="154101"/>
                </a:lnTo>
                <a:close/>
              </a:path>
              <a:path w="321310" h="302259">
                <a:moveTo>
                  <a:pt x="288796" y="118097"/>
                </a:moveTo>
                <a:lnTo>
                  <a:pt x="221424" y="118097"/>
                </a:lnTo>
                <a:lnTo>
                  <a:pt x="230428" y="150863"/>
                </a:lnTo>
                <a:lnTo>
                  <a:pt x="264924" y="150863"/>
                </a:lnTo>
                <a:lnTo>
                  <a:pt x="272833" y="147517"/>
                </a:lnTo>
                <a:lnTo>
                  <a:pt x="281927" y="138252"/>
                </a:lnTo>
                <a:lnTo>
                  <a:pt x="288796" y="118097"/>
                </a:lnTo>
                <a:close/>
              </a:path>
              <a:path w="321310" h="302259">
                <a:moveTo>
                  <a:pt x="223091" y="114858"/>
                </a:moveTo>
                <a:lnTo>
                  <a:pt x="193713" y="114858"/>
                </a:lnTo>
                <a:lnTo>
                  <a:pt x="200913" y="118452"/>
                </a:lnTo>
                <a:lnTo>
                  <a:pt x="207035" y="122059"/>
                </a:lnTo>
                <a:lnTo>
                  <a:pt x="215671" y="127457"/>
                </a:lnTo>
                <a:lnTo>
                  <a:pt x="221424" y="118097"/>
                </a:lnTo>
                <a:lnTo>
                  <a:pt x="288796" y="118097"/>
                </a:lnTo>
                <a:lnTo>
                  <a:pt x="289411" y="116293"/>
                </a:lnTo>
                <a:lnTo>
                  <a:pt x="228269" y="116293"/>
                </a:lnTo>
                <a:lnTo>
                  <a:pt x="222872" y="115214"/>
                </a:lnTo>
                <a:lnTo>
                  <a:pt x="223091" y="114858"/>
                </a:lnTo>
                <a:close/>
              </a:path>
              <a:path w="321310" h="302259">
                <a:moveTo>
                  <a:pt x="108026" y="93979"/>
                </a:moveTo>
                <a:lnTo>
                  <a:pt x="13322" y="93979"/>
                </a:lnTo>
                <a:lnTo>
                  <a:pt x="13322" y="123507"/>
                </a:lnTo>
                <a:lnTo>
                  <a:pt x="108026" y="123507"/>
                </a:lnTo>
                <a:lnTo>
                  <a:pt x="108026" y="93979"/>
                </a:lnTo>
                <a:close/>
              </a:path>
              <a:path w="321310" h="302259">
                <a:moveTo>
                  <a:pt x="300278" y="3238"/>
                </a:moveTo>
                <a:lnTo>
                  <a:pt x="133210" y="3238"/>
                </a:lnTo>
                <a:lnTo>
                  <a:pt x="133210" y="38887"/>
                </a:lnTo>
                <a:lnTo>
                  <a:pt x="259600" y="38887"/>
                </a:lnTo>
                <a:lnTo>
                  <a:pt x="258481" y="55968"/>
                </a:lnTo>
                <a:lnTo>
                  <a:pt x="252755" y="101536"/>
                </a:lnTo>
                <a:lnTo>
                  <a:pt x="245554" y="116293"/>
                </a:lnTo>
                <a:lnTo>
                  <a:pt x="289411" y="116293"/>
                </a:lnTo>
                <a:lnTo>
                  <a:pt x="293654" y="103842"/>
                </a:lnTo>
                <a:lnTo>
                  <a:pt x="299070" y="59539"/>
                </a:lnTo>
                <a:lnTo>
                  <a:pt x="300502" y="20839"/>
                </a:lnTo>
                <a:lnTo>
                  <a:pt x="300278" y="3238"/>
                </a:lnTo>
                <a:close/>
              </a:path>
              <a:path w="321310" h="302259">
                <a:moveTo>
                  <a:pt x="122059" y="47523"/>
                </a:moveTo>
                <a:lnTo>
                  <a:pt x="0" y="47523"/>
                </a:lnTo>
                <a:lnTo>
                  <a:pt x="0" y="78841"/>
                </a:lnTo>
                <a:lnTo>
                  <a:pt x="122059" y="78841"/>
                </a:lnTo>
                <a:lnTo>
                  <a:pt x="122059" y="47523"/>
                </a:lnTo>
                <a:close/>
              </a:path>
              <a:path w="321310" h="302259">
                <a:moveTo>
                  <a:pt x="217474" y="38887"/>
                </a:moveTo>
                <a:lnTo>
                  <a:pt x="180390" y="38887"/>
                </a:lnTo>
                <a:lnTo>
                  <a:pt x="179764" y="44592"/>
                </a:lnTo>
                <a:lnTo>
                  <a:pt x="178901" y="50266"/>
                </a:lnTo>
                <a:lnTo>
                  <a:pt x="177597" y="57024"/>
                </a:lnTo>
                <a:lnTo>
                  <a:pt x="176060" y="64084"/>
                </a:lnTo>
                <a:lnTo>
                  <a:pt x="214199" y="64084"/>
                </a:lnTo>
                <a:lnTo>
                  <a:pt x="215087" y="59996"/>
                </a:lnTo>
                <a:lnTo>
                  <a:pt x="216501" y="50200"/>
                </a:lnTo>
                <a:lnTo>
                  <a:pt x="217474" y="38887"/>
                </a:lnTo>
                <a:close/>
              </a:path>
              <a:path w="321310" h="302259">
                <a:moveTo>
                  <a:pt x="105854" y="0"/>
                </a:moveTo>
                <a:lnTo>
                  <a:pt x="13322" y="0"/>
                </a:lnTo>
                <a:lnTo>
                  <a:pt x="13322" y="30606"/>
                </a:lnTo>
                <a:lnTo>
                  <a:pt x="105854" y="30606"/>
                </a:lnTo>
                <a:lnTo>
                  <a:pt x="10585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bject 14"/>
          <p:cNvSpPr/>
          <p:nvPr/>
        </p:nvSpPr>
        <p:spPr>
          <a:xfrm>
            <a:off x="5686560" y="249120"/>
            <a:ext cx="307800" cy="301680"/>
          </a:xfrm>
          <a:custGeom>
            <a:avLst/>
            <a:gdLst/>
            <a:ahLst/>
            <a:rect l="l" t="t" r="r" b="b"/>
            <a:pathLst>
              <a:path w="307975" h="302259">
                <a:moveTo>
                  <a:pt x="119887" y="180746"/>
                </a:moveTo>
                <a:lnTo>
                  <a:pt x="7556" y="180746"/>
                </a:lnTo>
                <a:lnTo>
                  <a:pt x="7556" y="302082"/>
                </a:lnTo>
                <a:lnTo>
                  <a:pt x="46075" y="302082"/>
                </a:lnTo>
                <a:lnTo>
                  <a:pt x="46075" y="284441"/>
                </a:lnTo>
                <a:lnTo>
                  <a:pt x="119887" y="284441"/>
                </a:lnTo>
                <a:lnTo>
                  <a:pt x="119887" y="250240"/>
                </a:lnTo>
                <a:lnTo>
                  <a:pt x="46088" y="250240"/>
                </a:lnTo>
                <a:lnTo>
                  <a:pt x="46088" y="212432"/>
                </a:lnTo>
                <a:lnTo>
                  <a:pt x="119887" y="212432"/>
                </a:lnTo>
                <a:lnTo>
                  <a:pt x="119887" y="180746"/>
                </a:lnTo>
                <a:close/>
              </a:path>
              <a:path w="307975" h="302259">
                <a:moveTo>
                  <a:pt x="119887" y="284441"/>
                </a:moveTo>
                <a:lnTo>
                  <a:pt x="81368" y="284441"/>
                </a:lnTo>
                <a:lnTo>
                  <a:pt x="81368" y="299199"/>
                </a:lnTo>
                <a:lnTo>
                  <a:pt x="119887" y="299199"/>
                </a:lnTo>
                <a:lnTo>
                  <a:pt x="119887" y="284441"/>
                </a:lnTo>
                <a:close/>
              </a:path>
              <a:path w="307975" h="302259">
                <a:moveTo>
                  <a:pt x="142214" y="76682"/>
                </a:moveTo>
                <a:lnTo>
                  <a:pt x="142214" y="257797"/>
                </a:lnTo>
                <a:lnTo>
                  <a:pt x="126733" y="257797"/>
                </a:lnTo>
                <a:lnTo>
                  <a:pt x="126733" y="294881"/>
                </a:lnTo>
                <a:lnTo>
                  <a:pt x="307847" y="294881"/>
                </a:lnTo>
                <a:lnTo>
                  <a:pt x="307847" y="257073"/>
                </a:lnTo>
                <a:lnTo>
                  <a:pt x="183260" y="257073"/>
                </a:lnTo>
                <a:lnTo>
                  <a:pt x="183260" y="92887"/>
                </a:lnTo>
                <a:lnTo>
                  <a:pt x="183984" y="92532"/>
                </a:lnTo>
                <a:lnTo>
                  <a:pt x="187578" y="90017"/>
                </a:lnTo>
                <a:lnTo>
                  <a:pt x="190106" y="87845"/>
                </a:lnTo>
                <a:lnTo>
                  <a:pt x="191554" y="86410"/>
                </a:lnTo>
                <a:lnTo>
                  <a:pt x="191554" y="80289"/>
                </a:lnTo>
                <a:lnTo>
                  <a:pt x="186143" y="78854"/>
                </a:lnTo>
                <a:lnTo>
                  <a:pt x="142214" y="76682"/>
                </a:lnTo>
                <a:close/>
              </a:path>
              <a:path w="307975" h="302259">
                <a:moveTo>
                  <a:pt x="245186" y="33845"/>
                </a:moveTo>
                <a:lnTo>
                  <a:pt x="202704" y="33845"/>
                </a:lnTo>
                <a:lnTo>
                  <a:pt x="202704" y="257073"/>
                </a:lnTo>
                <a:lnTo>
                  <a:pt x="245186" y="257073"/>
                </a:lnTo>
                <a:lnTo>
                  <a:pt x="245186" y="156984"/>
                </a:lnTo>
                <a:lnTo>
                  <a:pt x="298475" y="156984"/>
                </a:lnTo>
                <a:lnTo>
                  <a:pt x="298475" y="115214"/>
                </a:lnTo>
                <a:lnTo>
                  <a:pt x="245186" y="115214"/>
                </a:lnTo>
                <a:lnTo>
                  <a:pt x="245186" y="33845"/>
                </a:lnTo>
                <a:close/>
              </a:path>
              <a:path w="307975" h="302259">
                <a:moveTo>
                  <a:pt x="119887" y="212432"/>
                </a:moveTo>
                <a:lnTo>
                  <a:pt x="81368" y="212432"/>
                </a:lnTo>
                <a:lnTo>
                  <a:pt x="81368" y="250240"/>
                </a:lnTo>
                <a:lnTo>
                  <a:pt x="119887" y="250240"/>
                </a:lnTo>
                <a:lnTo>
                  <a:pt x="119887" y="212432"/>
                </a:lnTo>
                <a:close/>
              </a:path>
              <a:path w="307975" h="302259">
                <a:moveTo>
                  <a:pt x="112331" y="133934"/>
                </a:moveTo>
                <a:lnTo>
                  <a:pt x="12953" y="133934"/>
                </a:lnTo>
                <a:lnTo>
                  <a:pt x="12953" y="164896"/>
                </a:lnTo>
                <a:lnTo>
                  <a:pt x="112331" y="164896"/>
                </a:lnTo>
                <a:lnTo>
                  <a:pt x="112331" y="133934"/>
                </a:lnTo>
                <a:close/>
              </a:path>
              <a:path w="307975" h="302259">
                <a:moveTo>
                  <a:pt x="112687" y="91097"/>
                </a:moveTo>
                <a:lnTo>
                  <a:pt x="12953" y="91097"/>
                </a:lnTo>
                <a:lnTo>
                  <a:pt x="12953" y="121335"/>
                </a:lnTo>
                <a:lnTo>
                  <a:pt x="112687" y="121335"/>
                </a:lnTo>
                <a:lnTo>
                  <a:pt x="112687" y="91097"/>
                </a:lnTo>
                <a:close/>
              </a:path>
              <a:path w="307975" h="302259">
                <a:moveTo>
                  <a:pt x="126733" y="46443"/>
                </a:moveTo>
                <a:lnTo>
                  <a:pt x="0" y="46443"/>
                </a:lnTo>
                <a:lnTo>
                  <a:pt x="0" y="75603"/>
                </a:lnTo>
                <a:lnTo>
                  <a:pt x="126733" y="75603"/>
                </a:lnTo>
                <a:lnTo>
                  <a:pt x="126733" y="46443"/>
                </a:lnTo>
                <a:close/>
              </a:path>
              <a:path w="307975" h="302259">
                <a:moveTo>
                  <a:pt x="307479" y="355"/>
                </a:moveTo>
                <a:lnTo>
                  <a:pt x="132143" y="355"/>
                </a:lnTo>
                <a:lnTo>
                  <a:pt x="132143" y="33845"/>
                </a:lnTo>
                <a:lnTo>
                  <a:pt x="307479" y="33845"/>
                </a:lnTo>
                <a:lnTo>
                  <a:pt x="307479" y="355"/>
                </a:lnTo>
                <a:close/>
              </a:path>
              <a:path w="307975" h="302259">
                <a:moveTo>
                  <a:pt x="110883" y="0"/>
                </a:moveTo>
                <a:lnTo>
                  <a:pt x="12953" y="0"/>
                </a:lnTo>
                <a:lnTo>
                  <a:pt x="12953" y="31330"/>
                </a:lnTo>
                <a:lnTo>
                  <a:pt x="110883" y="31330"/>
                </a:lnTo>
                <a:lnTo>
                  <a:pt x="11088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bject 15"/>
          <p:cNvSpPr/>
          <p:nvPr/>
        </p:nvSpPr>
        <p:spPr>
          <a:xfrm>
            <a:off x="6059520" y="295200"/>
            <a:ext cx="280800" cy="225360"/>
          </a:xfrm>
          <a:custGeom>
            <a:avLst/>
            <a:gdLst/>
            <a:ahLst/>
            <a:rect l="l" t="t" r="r" b="b"/>
            <a:pathLst>
              <a:path w="280670" h="225425">
                <a:moveTo>
                  <a:pt x="250240" y="0"/>
                </a:moveTo>
                <a:lnTo>
                  <a:pt x="238366" y="7924"/>
                </a:lnTo>
                <a:lnTo>
                  <a:pt x="0" y="7924"/>
                </a:lnTo>
                <a:lnTo>
                  <a:pt x="0" y="48602"/>
                </a:lnTo>
                <a:lnTo>
                  <a:pt x="202704" y="48602"/>
                </a:lnTo>
                <a:lnTo>
                  <a:pt x="167512" y="85739"/>
                </a:lnTo>
                <a:lnTo>
                  <a:pt x="129616" y="124218"/>
                </a:lnTo>
                <a:lnTo>
                  <a:pt x="118821" y="113842"/>
                </a:lnTo>
                <a:lnTo>
                  <a:pt x="109140" y="104954"/>
                </a:lnTo>
                <a:lnTo>
                  <a:pt x="99798" y="96877"/>
                </a:lnTo>
                <a:lnTo>
                  <a:pt x="90017" y="88938"/>
                </a:lnTo>
                <a:lnTo>
                  <a:pt x="61925" y="117017"/>
                </a:lnTo>
                <a:lnTo>
                  <a:pt x="84302" y="136627"/>
                </a:lnTo>
                <a:lnTo>
                  <a:pt x="107834" y="161032"/>
                </a:lnTo>
                <a:lnTo>
                  <a:pt x="131096" y="190434"/>
                </a:lnTo>
                <a:lnTo>
                  <a:pt x="152666" y="225031"/>
                </a:lnTo>
                <a:lnTo>
                  <a:pt x="189026" y="195872"/>
                </a:lnTo>
                <a:lnTo>
                  <a:pt x="182276" y="185673"/>
                </a:lnTo>
                <a:lnTo>
                  <a:pt x="175526" y="176422"/>
                </a:lnTo>
                <a:lnTo>
                  <a:pt x="167967" y="166904"/>
                </a:lnTo>
                <a:lnTo>
                  <a:pt x="158788" y="155905"/>
                </a:lnTo>
                <a:lnTo>
                  <a:pt x="192731" y="120243"/>
                </a:lnTo>
                <a:lnTo>
                  <a:pt x="224543" y="87488"/>
                </a:lnTo>
                <a:lnTo>
                  <a:pt x="263563" y="48247"/>
                </a:lnTo>
                <a:lnTo>
                  <a:pt x="280123" y="34924"/>
                </a:lnTo>
                <a:lnTo>
                  <a:pt x="2502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ject 16"/>
          <p:cNvSpPr/>
          <p:nvPr/>
        </p:nvSpPr>
        <p:spPr>
          <a:xfrm>
            <a:off x="6392880" y="376200"/>
            <a:ext cx="257040" cy="46080"/>
          </a:xfrm>
          <a:custGeom>
            <a:avLst/>
            <a:gdLst/>
            <a:ahLst/>
            <a:rect l="l" t="t" r="r" b="b"/>
            <a:pathLst>
              <a:path w="256540" h="46354">
                <a:moveTo>
                  <a:pt x="255993" y="0"/>
                </a:moveTo>
                <a:lnTo>
                  <a:pt x="0" y="0"/>
                </a:lnTo>
                <a:lnTo>
                  <a:pt x="0" y="45732"/>
                </a:lnTo>
                <a:lnTo>
                  <a:pt x="255993" y="45732"/>
                </a:lnTo>
                <a:lnTo>
                  <a:pt x="25599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ject 17"/>
          <p:cNvSpPr/>
          <p:nvPr/>
        </p:nvSpPr>
        <p:spPr>
          <a:xfrm>
            <a:off x="6708600" y="249120"/>
            <a:ext cx="252720" cy="298440"/>
          </a:xfrm>
          <a:custGeom>
            <a:avLst/>
            <a:gdLst/>
            <a:ahLst/>
            <a:rect l="l" t="t" r="r" b="b"/>
            <a:pathLst>
              <a:path w="252729" h="298450">
                <a:moveTo>
                  <a:pt x="99364" y="0"/>
                </a:moveTo>
                <a:lnTo>
                  <a:pt x="85001" y="34014"/>
                </a:lnTo>
                <a:lnTo>
                  <a:pt x="63584" y="69813"/>
                </a:lnTo>
                <a:lnTo>
                  <a:pt x="35215" y="105272"/>
                </a:lnTo>
                <a:lnTo>
                  <a:pt x="0" y="138264"/>
                </a:lnTo>
                <a:lnTo>
                  <a:pt x="35636" y="162750"/>
                </a:lnTo>
                <a:lnTo>
                  <a:pt x="59943" y="137951"/>
                </a:lnTo>
                <a:lnTo>
                  <a:pt x="78887" y="116124"/>
                </a:lnTo>
                <a:lnTo>
                  <a:pt x="93309" y="97536"/>
                </a:lnTo>
                <a:lnTo>
                  <a:pt x="104051" y="82461"/>
                </a:lnTo>
                <a:lnTo>
                  <a:pt x="196227" y="82461"/>
                </a:lnTo>
                <a:lnTo>
                  <a:pt x="181910" y="121438"/>
                </a:lnTo>
                <a:lnTo>
                  <a:pt x="148704" y="177152"/>
                </a:lnTo>
                <a:lnTo>
                  <a:pt x="116155" y="214468"/>
                </a:lnTo>
                <a:lnTo>
                  <a:pt x="84653" y="241287"/>
                </a:lnTo>
                <a:lnTo>
                  <a:pt x="36004" y="271132"/>
                </a:lnTo>
                <a:lnTo>
                  <a:pt x="75247" y="298132"/>
                </a:lnTo>
                <a:lnTo>
                  <a:pt x="119033" y="267615"/>
                </a:lnTo>
                <a:lnTo>
                  <a:pt x="172821" y="212801"/>
                </a:lnTo>
                <a:lnTo>
                  <a:pt x="195895" y="179502"/>
                </a:lnTo>
                <a:lnTo>
                  <a:pt x="226383" y="118167"/>
                </a:lnTo>
                <a:lnTo>
                  <a:pt x="239801" y="83184"/>
                </a:lnTo>
                <a:lnTo>
                  <a:pt x="245186" y="78498"/>
                </a:lnTo>
                <a:lnTo>
                  <a:pt x="252387" y="73456"/>
                </a:lnTo>
                <a:lnTo>
                  <a:pt x="223227" y="39255"/>
                </a:lnTo>
                <a:lnTo>
                  <a:pt x="217462" y="42849"/>
                </a:lnTo>
                <a:lnTo>
                  <a:pt x="211708" y="46088"/>
                </a:lnTo>
                <a:lnTo>
                  <a:pt x="126733" y="46088"/>
                </a:lnTo>
                <a:lnTo>
                  <a:pt x="130327" y="39255"/>
                </a:lnTo>
                <a:lnTo>
                  <a:pt x="134645" y="32054"/>
                </a:lnTo>
                <a:lnTo>
                  <a:pt x="136817" y="26657"/>
                </a:lnTo>
                <a:lnTo>
                  <a:pt x="141858" y="25209"/>
                </a:lnTo>
                <a:lnTo>
                  <a:pt x="145808" y="24498"/>
                </a:lnTo>
                <a:lnTo>
                  <a:pt x="145808" y="18008"/>
                </a:lnTo>
                <a:lnTo>
                  <a:pt x="138620" y="14770"/>
                </a:lnTo>
                <a:lnTo>
                  <a:pt x="9936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ject 18"/>
          <p:cNvSpPr/>
          <p:nvPr/>
        </p:nvSpPr>
        <p:spPr>
          <a:xfrm>
            <a:off x="3852720" y="677880"/>
            <a:ext cx="336600" cy="311040"/>
          </a:xfrm>
          <a:custGeom>
            <a:avLst/>
            <a:gdLst/>
            <a:ahLst/>
            <a:rect l="l" t="t" r="r" b="b"/>
            <a:pathLst>
              <a:path w="337185" h="311150">
                <a:moveTo>
                  <a:pt x="174993" y="182181"/>
                </a:moveTo>
                <a:lnTo>
                  <a:pt x="146189" y="199466"/>
                </a:lnTo>
                <a:lnTo>
                  <a:pt x="152772" y="211142"/>
                </a:lnTo>
                <a:lnTo>
                  <a:pt x="159421" y="221337"/>
                </a:lnTo>
                <a:lnTo>
                  <a:pt x="166744" y="230857"/>
                </a:lnTo>
                <a:lnTo>
                  <a:pt x="175348" y="240512"/>
                </a:lnTo>
                <a:lnTo>
                  <a:pt x="162860" y="252433"/>
                </a:lnTo>
                <a:lnTo>
                  <a:pt x="148345" y="262431"/>
                </a:lnTo>
                <a:lnTo>
                  <a:pt x="128968" y="271550"/>
                </a:lnTo>
                <a:lnTo>
                  <a:pt x="101892" y="280835"/>
                </a:lnTo>
                <a:lnTo>
                  <a:pt x="129984" y="311086"/>
                </a:lnTo>
                <a:lnTo>
                  <a:pt x="156670" y="298618"/>
                </a:lnTo>
                <a:lnTo>
                  <a:pt x="176336" y="287770"/>
                </a:lnTo>
                <a:lnTo>
                  <a:pt x="191549" y="277059"/>
                </a:lnTo>
                <a:lnTo>
                  <a:pt x="204876" y="264998"/>
                </a:lnTo>
                <a:lnTo>
                  <a:pt x="319760" y="264998"/>
                </a:lnTo>
                <a:lnTo>
                  <a:pt x="295296" y="261935"/>
                </a:lnTo>
                <a:lnTo>
                  <a:pt x="263879" y="253474"/>
                </a:lnTo>
                <a:lnTo>
                  <a:pt x="240764" y="243663"/>
                </a:lnTo>
                <a:lnTo>
                  <a:pt x="223964" y="234391"/>
                </a:lnTo>
                <a:lnTo>
                  <a:pt x="227236" y="225070"/>
                </a:lnTo>
                <a:lnTo>
                  <a:pt x="230479" y="213553"/>
                </a:lnTo>
                <a:lnTo>
                  <a:pt x="231368" y="209181"/>
                </a:lnTo>
                <a:lnTo>
                  <a:pt x="193713" y="209181"/>
                </a:lnTo>
                <a:lnTo>
                  <a:pt x="186941" y="201474"/>
                </a:lnTo>
                <a:lnTo>
                  <a:pt x="181924" y="194743"/>
                </a:lnTo>
                <a:lnTo>
                  <a:pt x="178121" y="188480"/>
                </a:lnTo>
                <a:lnTo>
                  <a:pt x="174993" y="182181"/>
                </a:lnTo>
                <a:close/>
              </a:path>
              <a:path w="337185" h="311150">
                <a:moveTo>
                  <a:pt x="319760" y="264998"/>
                </a:moveTo>
                <a:lnTo>
                  <a:pt x="204876" y="264998"/>
                </a:lnTo>
                <a:lnTo>
                  <a:pt x="227726" y="278313"/>
                </a:lnTo>
                <a:lnTo>
                  <a:pt x="252129" y="289166"/>
                </a:lnTo>
                <a:lnTo>
                  <a:pt x="281528" y="298466"/>
                </a:lnTo>
                <a:lnTo>
                  <a:pt x="319366" y="307124"/>
                </a:lnTo>
                <a:lnTo>
                  <a:pt x="337007" y="267157"/>
                </a:lnTo>
                <a:lnTo>
                  <a:pt x="319760" y="264998"/>
                </a:lnTo>
                <a:close/>
              </a:path>
              <a:path w="337185" h="311150">
                <a:moveTo>
                  <a:pt x="90741" y="156616"/>
                </a:moveTo>
                <a:lnTo>
                  <a:pt x="51485" y="156616"/>
                </a:lnTo>
                <a:lnTo>
                  <a:pt x="51485" y="306768"/>
                </a:lnTo>
                <a:lnTo>
                  <a:pt x="90741" y="306768"/>
                </a:lnTo>
                <a:lnTo>
                  <a:pt x="90741" y="156616"/>
                </a:lnTo>
                <a:close/>
              </a:path>
              <a:path w="337185" h="311150">
                <a:moveTo>
                  <a:pt x="236194" y="178943"/>
                </a:moveTo>
                <a:lnTo>
                  <a:pt x="199834" y="178943"/>
                </a:lnTo>
                <a:lnTo>
                  <a:pt x="198928" y="185946"/>
                </a:lnTo>
                <a:lnTo>
                  <a:pt x="197716" y="193119"/>
                </a:lnTo>
                <a:lnTo>
                  <a:pt x="196034" y="200763"/>
                </a:lnTo>
                <a:lnTo>
                  <a:pt x="193713" y="209181"/>
                </a:lnTo>
                <a:lnTo>
                  <a:pt x="231368" y="209181"/>
                </a:lnTo>
                <a:lnTo>
                  <a:pt x="233522" y="198593"/>
                </a:lnTo>
                <a:lnTo>
                  <a:pt x="236194" y="178943"/>
                </a:lnTo>
                <a:close/>
              </a:path>
              <a:path w="337185" h="311150">
                <a:moveTo>
                  <a:pt x="74536" y="0"/>
                </a:moveTo>
                <a:lnTo>
                  <a:pt x="64409" y="37980"/>
                </a:lnTo>
                <a:lnTo>
                  <a:pt x="45377" y="85686"/>
                </a:lnTo>
                <a:lnTo>
                  <a:pt x="20797" y="130695"/>
                </a:lnTo>
                <a:lnTo>
                  <a:pt x="0" y="160578"/>
                </a:lnTo>
                <a:lnTo>
                  <a:pt x="35648" y="180378"/>
                </a:lnTo>
                <a:lnTo>
                  <a:pt x="39037" y="175804"/>
                </a:lnTo>
                <a:lnTo>
                  <a:pt x="42491" y="170792"/>
                </a:lnTo>
                <a:lnTo>
                  <a:pt x="46482" y="164633"/>
                </a:lnTo>
                <a:lnTo>
                  <a:pt x="51485" y="156616"/>
                </a:lnTo>
                <a:lnTo>
                  <a:pt x="90741" y="156616"/>
                </a:lnTo>
                <a:lnTo>
                  <a:pt x="90741" y="97929"/>
                </a:lnTo>
                <a:lnTo>
                  <a:pt x="95770" y="91808"/>
                </a:lnTo>
                <a:lnTo>
                  <a:pt x="95770" y="88214"/>
                </a:lnTo>
                <a:lnTo>
                  <a:pt x="91821" y="85686"/>
                </a:lnTo>
                <a:lnTo>
                  <a:pt x="87858" y="83527"/>
                </a:lnTo>
                <a:lnTo>
                  <a:pt x="92433" y="72492"/>
                </a:lnTo>
                <a:lnTo>
                  <a:pt x="97483" y="59769"/>
                </a:lnTo>
                <a:lnTo>
                  <a:pt x="102940" y="45155"/>
                </a:lnTo>
                <a:lnTo>
                  <a:pt x="108737" y="28448"/>
                </a:lnTo>
                <a:lnTo>
                  <a:pt x="110185" y="24117"/>
                </a:lnTo>
                <a:lnTo>
                  <a:pt x="110896" y="22313"/>
                </a:lnTo>
                <a:lnTo>
                  <a:pt x="116293" y="20523"/>
                </a:lnTo>
                <a:lnTo>
                  <a:pt x="119545" y="19075"/>
                </a:lnTo>
                <a:lnTo>
                  <a:pt x="121335" y="17995"/>
                </a:lnTo>
                <a:lnTo>
                  <a:pt x="121335" y="11874"/>
                </a:lnTo>
                <a:lnTo>
                  <a:pt x="115582" y="9715"/>
                </a:lnTo>
                <a:lnTo>
                  <a:pt x="107657" y="7912"/>
                </a:lnTo>
                <a:lnTo>
                  <a:pt x="74536" y="0"/>
                </a:lnTo>
                <a:close/>
              </a:path>
              <a:path w="337185" h="311150">
                <a:moveTo>
                  <a:pt x="322249" y="77050"/>
                </a:moveTo>
                <a:lnTo>
                  <a:pt x="121335" y="77050"/>
                </a:lnTo>
                <a:lnTo>
                  <a:pt x="121335" y="178943"/>
                </a:lnTo>
                <a:lnTo>
                  <a:pt x="322249" y="178943"/>
                </a:lnTo>
                <a:lnTo>
                  <a:pt x="322249" y="147256"/>
                </a:lnTo>
                <a:lnTo>
                  <a:pt x="161302" y="147256"/>
                </a:lnTo>
                <a:lnTo>
                  <a:pt x="161302" y="108369"/>
                </a:lnTo>
                <a:lnTo>
                  <a:pt x="322249" y="108369"/>
                </a:lnTo>
                <a:lnTo>
                  <a:pt x="322249" y="77050"/>
                </a:lnTo>
                <a:close/>
              </a:path>
              <a:path w="337185" h="311150">
                <a:moveTo>
                  <a:pt x="237998" y="108369"/>
                </a:moveTo>
                <a:lnTo>
                  <a:pt x="199466" y="108369"/>
                </a:lnTo>
                <a:lnTo>
                  <a:pt x="199734" y="116774"/>
                </a:lnTo>
                <a:lnTo>
                  <a:pt x="199963" y="126869"/>
                </a:lnTo>
                <a:lnTo>
                  <a:pt x="200128" y="137637"/>
                </a:lnTo>
                <a:lnTo>
                  <a:pt x="200190" y="147256"/>
                </a:lnTo>
                <a:lnTo>
                  <a:pt x="238353" y="147256"/>
                </a:lnTo>
                <a:lnTo>
                  <a:pt x="238309" y="126869"/>
                </a:lnTo>
                <a:lnTo>
                  <a:pt x="237998" y="108369"/>
                </a:lnTo>
                <a:close/>
              </a:path>
              <a:path w="337185" h="311150">
                <a:moveTo>
                  <a:pt x="322249" y="108369"/>
                </a:moveTo>
                <a:lnTo>
                  <a:pt x="281927" y="108369"/>
                </a:lnTo>
                <a:lnTo>
                  <a:pt x="281927" y="147256"/>
                </a:lnTo>
                <a:lnTo>
                  <a:pt x="322249" y="147256"/>
                </a:lnTo>
                <a:lnTo>
                  <a:pt x="322249" y="108369"/>
                </a:lnTo>
                <a:close/>
              </a:path>
              <a:path w="337185" h="311150">
                <a:moveTo>
                  <a:pt x="237274" y="54368"/>
                </a:moveTo>
                <a:lnTo>
                  <a:pt x="198386" y="54368"/>
                </a:lnTo>
                <a:lnTo>
                  <a:pt x="198755" y="67322"/>
                </a:lnTo>
                <a:lnTo>
                  <a:pt x="198755" y="77050"/>
                </a:lnTo>
                <a:lnTo>
                  <a:pt x="237642" y="77050"/>
                </a:lnTo>
                <a:lnTo>
                  <a:pt x="237274" y="54368"/>
                </a:lnTo>
                <a:close/>
              </a:path>
              <a:path w="337185" h="311150">
                <a:moveTo>
                  <a:pt x="330530" y="23037"/>
                </a:moveTo>
                <a:lnTo>
                  <a:pt x="116662" y="23037"/>
                </a:lnTo>
                <a:lnTo>
                  <a:pt x="116662" y="54368"/>
                </a:lnTo>
                <a:lnTo>
                  <a:pt x="330530" y="54368"/>
                </a:lnTo>
                <a:lnTo>
                  <a:pt x="330530" y="23037"/>
                </a:lnTo>
                <a:close/>
              </a:path>
              <a:path w="337185" h="311150">
                <a:moveTo>
                  <a:pt x="197307" y="0"/>
                </a:moveTo>
                <a:lnTo>
                  <a:pt x="197976" y="17995"/>
                </a:lnTo>
                <a:lnTo>
                  <a:pt x="198031" y="23037"/>
                </a:lnTo>
                <a:lnTo>
                  <a:pt x="237274" y="23037"/>
                </a:lnTo>
                <a:lnTo>
                  <a:pt x="237274" y="15836"/>
                </a:lnTo>
                <a:lnTo>
                  <a:pt x="237998" y="14757"/>
                </a:lnTo>
                <a:lnTo>
                  <a:pt x="238721" y="14033"/>
                </a:lnTo>
                <a:lnTo>
                  <a:pt x="242316" y="10795"/>
                </a:lnTo>
                <a:lnTo>
                  <a:pt x="243395" y="8636"/>
                </a:lnTo>
                <a:lnTo>
                  <a:pt x="243395" y="4318"/>
                </a:lnTo>
                <a:lnTo>
                  <a:pt x="235839" y="3594"/>
                </a:lnTo>
                <a:lnTo>
                  <a:pt x="234759" y="3594"/>
                </a:lnTo>
                <a:lnTo>
                  <a:pt x="19730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ject 19"/>
          <p:cNvSpPr/>
          <p:nvPr/>
        </p:nvSpPr>
        <p:spPr>
          <a:xfrm>
            <a:off x="4246560" y="682560"/>
            <a:ext cx="281160" cy="303120"/>
          </a:xfrm>
          <a:custGeom>
            <a:avLst/>
            <a:gdLst/>
            <a:ahLst/>
            <a:rect l="l" t="t" r="r" b="b"/>
            <a:pathLst>
              <a:path w="280670" h="302259">
                <a:moveTo>
                  <a:pt x="203073" y="262470"/>
                </a:moveTo>
                <a:lnTo>
                  <a:pt x="222885" y="301726"/>
                </a:lnTo>
                <a:lnTo>
                  <a:pt x="255826" y="297449"/>
                </a:lnTo>
                <a:lnTo>
                  <a:pt x="272835" y="290471"/>
                </a:lnTo>
                <a:lnTo>
                  <a:pt x="279179" y="280659"/>
                </a:lnTo>
                <a:lnTo>
                  <a:pt x="280123" y="267881"/>
                </a:lnTo>
                <a:lnTo>
                  <a:pt x="280123" y="263918"/>
                </a:lnTo>
                <a:lnTo>
                  <a:pt x="214591" y="263918"/>
                </a:lnTo>
                <a:lnTo>
                  <a:pt x="208470" y="263550"/>
                </a:lnTo>
                <a:lnTo>
                  <a:pt x="203073" y="262470"/>
                </a:lnTo>
                <a:close/>
              </a:path>
              <a:path w="280670" h="302259">
                <a:moveTo>
                  <a:pt x="280123" y="0"/>
                </a:moveTo>
                <a:lnTo>
                  <a:pt x="24130" y="0"/>
                </a:lnTo>
                <a:lnTo>
                  <a:pt x="26226" y="28355"/>
                </a:lnTo>
                <a:lnTo>
                  <a:pt x="27681" y="56710"/>
                </a:lnTo>
                <a:lnTo>
                  <a:pt x="28528" y="85062"/>
                </a:lnTo>
                <a:lnTo>
                  <a:pt x="28803" y="113410"/>
                </a:lnTo>
                <a:lnTo>
                  <a:pt x="27644" y="172557"/>
                </a:lnTo>
                <a:lnTo>
                  <a:pt x="23312" y="217963"/>
                </a:lnTo>
                <a:lnTo>
                  <a:pt x="14525" y="254121"/>
                </a:lnTo>
                <a:lnTo>
                  <a:pt x="0" y="285521"/>
                </a:lnTo>
                <a:lnTo>
                  <a:pt x="37452" y="298843"/>
                </a:lnTo>
                <a:lnTo>
                  <a:pt x="49761" y="270699"/>
                </a:lnTo>
                <a:lnTo>
                  <a:pt x="58154" y="244113"/>
                </a:lnTo>
                <a:lnTo>
                  <a:pt x="63578" y="215097"/>
                </a:lnTo>
                <a:lnTo>
                  <a:pt x="66979" y="179666"/>
                </a:lnTo>
                <a:lnTo>
                  <a:pt x="280123" y="179666"/>
                </a:lnTo>
                <a:lnTo>
                  <a:pt x="280123" y="145821"/>
                </a:lnTo>
                <a:lnTo>
                  <a:pt x="68414" y="145821"/>
                </a:lnTo>
                <a:lnTo>
                  <a:pt x="68476" y="140605"/>
                </a:lnTo>
                <a:lnTo>
                  <a:pt x="68638" y="133802"/>
                </a:lnTo>
                <a:lnTo>
                  <a:pt x="68870" y="122477"/>
                </a:lnTo>
                <a:lnTo>
                  <a:pt x="69138" y="103695"/>
                </a:lnTo>
                <a:lnTo>
                  <a:pt x="280123" y="103695"/>
                </a:lnTo>
                <a:lnTo>
                  <a:pt x="280123" y="69850"/>
                </a:lnTo>
                <a:lnTo>
                  <a:pt x="68770" y="69850"/>
                </a:lnTo>
                <a:lnTo>
                  <a:pt x="68726" y="52249"/>
                </a:lnTo>
                <a:lnTo>
                  <a:pt x="68620" y="43973"/>
                </a:lnTo>
                <a:lnTo>
                  <a:pt x="68414" y="34925"/>
                </a:lnTo>
                <a:lnTo>
                  <a:pt x="280123" y="34925"/>
                </a:lnTo>
                <a:lnTo>
                  <a:pt x="280123" y="0"/>
                </a:lnTo>
                <a:close/>
              </a:path>
              <a:path w="280670" h="302259">
                <a:moveTo>
                  <a:pt x="174269" y="179666"/>
                </a:moveTo>
                <a:lnTo>
                  <a:pt x="133578" y="179666"/>
                </a:lnTo>
                <a:lnTo>
                  <a:pt x="133578" y="282282"/>
                </a:lnTo>
                <a:lnTo>
                  <a:pt x="174269" y="282282"/>
                </a:lnTo>
                <a:lnTo>
                  <a:pt x="174269" y="179666"/>
                </a:lnTo>
                <a:close/>
              </a:path>
              <a:path w="280670" h="302259">
                <a:moveTo>
                  <a:pt x="280123" y="179666"/>
                </a:moveTo>
                <a:lnTo>
                  <a:pt x="239077" y="179666"/>
                </a:lnTo>
                <a:lnTo>
                  <a:pt x="239077" y="261035"/>
                </a:lnTo>
                <a:lnTo>
                  <a:pt x="234403" y="263918"/>
                </a:lnTo>
                <a:lnTo>
                  <a:pt x="280123" y="263918"/>
                </a:lnTo>
                <a:lnTo>
                  <a:pt x="280123" y="179666"/>
                </a:lnTo>
                <a:close/>
              </a:path>
              <a:path w="280670" h="302259">
                <a:moveTo>
                  <a:pt x="174256" y="103695"/>
                </a:moveTo>
                <a:lnTo>
                  <a:pt x="133578" y="103695"/>
                </a:lnTo>
                <a:lnTo>
                  <a:pt x="133578" y="145821"/>
                </a:lnTo>
                <a:lnTo>
                  <a:pt x="174256" y="145821"/>
                </a:lnTo>
                <a:lnTo>
                  <a:pt x="174256" y="103695"/>
                </a:lnTo>
                <a:close/>
              </a:path>
              <a:path w="280670" h="302259">
                <a:moveTo>
                  <a:pt x="280123" y="103695"/>
                </a:moveTo>
                <a:lnTo>
                  <a:pt x="239077" y="103695"/>
                </a:lnTo>
                <a:lnTo>
                  <a:pt x="239077" y="145821"/>
                </a:lnTo>
                <a:lnTo>
                  <a:pt x="280123" y="145821"/>
                </a:lnTo>
                <a:lnTo>
                  <a:pt x="280123" y="103695"/>
                </a:lnTo>
                <a:close/>
              </a:path>
              <a:path w="280670" h="302259">
                <a:moveTo>
                  <a:pt x="174256" y="34925"/>
                </a:moveTo>
                <a:lnTo>
                  <a:pt x="133578" y="34925"/>
                </a:lnTo>
                <a:lnTo>
                  <a:pt x="133578" y="69850"/>
                </a:lnTo>
                <a:lnTo>
                  <a:pt x="174256" y="69850"/>
                </a:lnTo>
                <a:lnTo>
                  <a:pt x="174256" y="34925"/>
                </a:lnTo>
                <a:close/>
              </a:path>
              <a:path w="280670" h="302259">
                <a:moveTo>
                  <a:pt x="280123" y="34925"/>
                </a:moveTo>
                <a:lnTo>
                  <a:pt x="239077" y="34925"/>
                </a:lnTo>
                <a:lnTo>
                  <a:pt x="239077" y="69850"/>
                </a:lnTo>
                <a:lnTo>
                  <a:pt x="280123" y="69850"/>
                </a:lnTo>
                <a:lnTo>
                  <a:pt x="280123" y="349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bject 20"/>
          <p:cNvSpPr/>
          <p:nvPr/>
        </p:nvSpPr>
        <p:spPr>
          <a:xfrm>
            <a:off x="4616280" y="677880"/>
            <a:ext cx="309600" cy="297000"/>
          </a:xfrm>
          <a:custGeom>
            <a:avLst/>
            <a:gdLst/>
            <a:ahLst/>
            <a:rect l="l" t="t" r="r" b="b"/>
            <a:pathLst>
              <a:path w="310514" h="297815">
                <a:moveTo>
                  <a:pt x="125298" y="0"/>
                </a:moveTo>
                <a:lnTo>
                  <a:pt x="125298" y="257797"/>
                </a:lnTo>
                <a:lnTo>
                  <a:pt x="0" y="257797"/>
                </a:lnTo>
                <a:lnTo>
                  <a:pt x="0" y="297764"/>
                </a:lnTo>
                <a:lnTo>
                  <a:pt x="310007" y="297764"/>
                </a:lnTo>
                <a:lnTo>
                  <a:pt x="310007" y="257797"/>
                </a:lnTo>
                <a:lnTo>
                  <a:pt x="169951" y="257797"/>
                </a:lnTo>
                <a:lnTo>
                  <a:pt x="169951" y="147256"/>
                </a:lnTo>
                <a:lnTo>
                  <a:pt x="286600" y="147256"/>
                </a:lnTo>
                <a:lnTo>
                  <a:pt x="286600" y="105498"/>
                </a:lnTo>
                <a:lnTo>
                  <a:pt x="169951" y="105498"/>
                </a:lnTo>
                <a:lnTo>
                  <a:pt x="169951" y="15481"/>
                </a:lnTo>
                <a:lnTo>
                  <a:pt x="173189" y="14046"/>
                </a:lnTo>
                <a:lnTo>
                  <a:pt x="179311" y="10795"/>
                </a:lnTo>
                <a:lnTo>
                  <a:pt x="179311" y="5041"/>
                </a:lnTo>
                <a:lnTo>
                  <a:pt x="176072" y="3962"/>
                </a:lnTo>
                <a:lnTo>
                  <a:pt x="173913" y="3962"/>
                </a:lnTo>
                <a:lnTo>
                  <a:pt x="12529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bject 21"/>
          <p:cNvSpPr/>
          <p:nvPr/>
        </p:nvSpPr>
        <p:spPr>
          <a:xfrm>
            <a:off x="4995720" y="698400"/>
            <a:ext cx="293760" cy="271440"/>
          </a:xfrm>
          <a:custGeom>
            <a:avLst/>
            <a:gdLst/>
            <a:ahLst/>
            <a:rect l="l" t="t" r="r" b="b"/>
            <a:pathLst>
              <a:path w="292735" h="271144">
                <a:moveTo>
                  <a:pt x="252825" y="36728"/>
                </a:moveTo>
                <a:lnTo>
                  <a:pt x="162750" y="36728"/>
                </a:lnTo>
                <a:lnTo>
                  <a:pt x="174738" y="37914"/>
                </a:lnTo>
                <a:lnTo>
                  <a:pt x="189836" y="41090"/>
                </a:lnTo>
                <a:lnTo>
                  <a:pt x="223951" y="60845"/>
                </a:lnTo>
                <a:lnTo>
                  <a:pt x="248658" y="108342"/>
                </a:lnTo>
                <a:lnTo>
                  <a:pt x="249872" y="123863"/>
                </a:lnTo>
                <a:lnTo>
                  <a:pt x="248912" y="138093"/>
                </a:lnTo>
                <a:lnTo>
                  <a:pt x="237270" y="175601"/>
                </a:lnTo>
                <a:lnTo>
                  <a:pt x="206840" y="211956"/>
                </a:lnTo>
                <a:lnTo>
                  <a:pt x="173018" y="229734"/>
                </a:lnTo>
                <a:lnTo>
                  <a:pt x="159143" y="234035"/>
                </a:lnTo>
                <a:lnTo>
                  <a:pt x="185788" y="271119"/>
                </a:lnTo>
                <a:lnTo>
                  <a:pt x="224897" y="251448"/>
                </a:lnTo>
                <a:lnTo>
                  <a:pt x="269684" y="207746"/>
                </a:lnTo>
                <a:lnTo>
                  <a:pt x="290996" y="153623"/>
                </a:lnTo>
                <a:lnTo>
                  <a:pt x="292722" y="131051"/>
                </a:lnTo>
                <a:lnTo>
                  <a:pt x="285981" y="86590"/>
                </a:lnTo>
                <a:lnTo>
                  <a:pt x="267142" y="50236"/>
                </a:lnTo>
                <a:lnTo>
                  <a:pt x="252825" y="36728"/>
                </a:lnTo>
                <a:close/>
              </a:path>
              <a:path w="292735" h="271144">
                <a:moveTo>
                  <a:pt x="158788" y="0"/>
                </a:moveTo>
                <a:lnTo>
                  <a:pt x="106600" y="8203"/>
                </a:lnTo>
                <a:lnTo>
                  <a:pt x="62761" y="30717"/>
                </a:lnTo>
                <a:lnTo>
                  <a:pt x="29138" y="64396"/>
                </a:lnTo>
                <a:lnTo>
                  <a:pt x="7595" y="106094"/>
                </a:lnTo>
                <a:lnTo>
                  <a:pt x="0" y="152666"/>
                </a:lnTo>
                <a:lnTo>
                  <a:pt x="9427" y="194985"/>
                </a:lnTo>
                <a:lnTo>
                  <a:pt x="31141" y="225256"/>
                </a:lnTo>
                <a:lnTo>
                  <a:pt x="55287" y="243445"/>
                </a:lnTo>
                <a:lnTo>
                  <a:pt x="72009" y="249516"/>
                </a:lnTo>
                <a:lnTo>
                  <a:pt x="85593" y="244441"/>
                </a:lnTo>
                <a:lnTo>
                  <a:pt x="118097" y="196951"/>
                </a:lnTo>
                <a:lnTo>
                  <a:pt x="63004" y="193344"/>
                </a:lnTo>
                <a:lnTo>
                  <a:pt x="56672" y="190525"/>
                </a:lnTo>
                <a:lnTo>
                  <a:pt x="49056" y="182137"/>
                </a:lnTo>
                <a:lnTo>
                  <a:pt x="42655" y="168280"/>
                </a:lnTo>
                <a:lnTo>
                  <a:pt x="39966" y="149059"/>
                </a:lnTo>
                <a:lnTo>
                  <a:pt x="41997" y="130744"/>
                </a:lnTo>
                <a:lnTo>
                  <a:pt x="59560" y="88855"/>
                </a:lnTo>
                <a:lnTo>
                  <a:pt x="88659" y="58439"/>
                </a:lnTo>
                <a:lnTo>
                  <a:pt x="119900" y="43205"/>
                </a:lnTo>
                <a:lnTo>
                  <a:pt x="161610" y="43205"/>
                </a:lnTo>
                <a:lnTo>
                  <a:pt x="162750" y="36728"/>
                </a:lnTo>
                <a:lnTo>
                  <a:pt x="252825" y="36728"/>
                </a:lnTo>
                <a:lnTo>
                  <a:pt x="238280" y="23006"/>
                </a:lnTo>
                <a:lnTo>
                  <a:pt x="201470" y="5921"/>
                </a:lnTo>
                <a:lnTo>
                  <a:pt x="158788" y="0"/>
                </a:lnTo>
                <a:close/>
              </a:path>
              <a:path w="292735" h="271144">
                <a:moveTo>
                  <a:pt x="161610" y="43205"/>
                </a:moveTo>
                <a:lnTo>
                  <a:pt x="119900" y="43205"/>
                </a:lnTo>
                <a:lnTo>
                  <a:pt x="110607" y="90362"/>
                </a:lnTo>
                <a:lnTo>
                  <a:pt x="95777" y="139339"/>
                </a:lnTo>
                <a:lnTo>
                  <a:pt x="78784" y="177784"/>
                </a:lnTo>
                <a:lnTo>
                  <a:pt x="63004" y="193344"/>
                </a:lnTo>
                <a:lnTo>
                  <a:pt x="119711" y="193344"/>
                </a:lnTo>
                <a:lnTo>
                  <a:pt x="128462" y="173786"/>
                </a:lnTo>
                <a:lnTo>
                  <a:pt x="140552" y="139923"/>
                </a:lnTo>
                <a:lnTo>
                  <a:pt x="152578" y="94519"/>
                </a:lnTo>
                <a:lnTo>
                  <a:pt x="161610" y="432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ject 22"/>
          <p:cNvSpPr/>
          <p:nvPr/>
        </p:nvSpPr>
        <p:spPr>
          <a:xfrm>
            <a:off x="5349960" y="673200"/>
            <a:ext cx="320760" cy="314280"/>
          </a:xfrm>
          <a:custGeom>
            <a:avLst/>
            <a:gdLst/>
            <a:ahLst/>
            <a:rect l="l" t="t" r="r" b="b"/>
            <a:pathLst>
              <a:path w="320675" h="314325">
                <a:moveTo>
                  <a:pt x="68414" y="177152"/>
                </a:moveTo>
                <a:lnTo>
                  <a:pt x="49895" y="217412"/>
                </a:lnTo>
                <a:lnTo>
                  <a:pt x="32358" y="248662"/>
                </a:lnTo>
                <a:lnTo>
                  <a:pt x="16913" y="271878"/>
                </a:lnTo>
                <a:lnTo>
                  <a:pt x="4673" y="288036"/>
                </a:lnTo>
                <a:lnTo>
                  <a:pt x="29883" y="306400"/>
                </a:lnTo>
                <a:lnTo>
                  <a:pt x="33121" y="308927"/>
                </a:lnTo>
                <a:lnTo>
                  <a:pt x="41046" y="313956"/>
                </a:lnTo>
                <a:lnTo>
                  <a:pt x="47891" y="313956"/>
                </a:lnTo>
                <a:lnTo>
                  <a:pt x="49682" y="311086"/>
                </a:lnTo>
                <a:lnTo>
                  <a:pt x="49593" y="306400"/>
                </a:lnTo>
                <a:lnTo>
                  <a:pt x="48971" y="301358"/>
                </a:lnTo>
                <a:lnTo>
                  <a:pt x="48971" y="298488"/>
                </a:lnTo>
                <a:lnTo>
                  <a:pt x="71786" y="258967"/>
                </a:lnTo>
                <a:lnTo>
                  <a:pt x="100456" y="203428"/>
                </a:lnTo>
                <a:lnTo>
                  <a:pt x="68414" y="177152"/>
                </a:lnTo>
                <a:close/>
              </a:path>
              <a:path w="320675" h="314325">
                <a:moveTo>
                  <a:pt x="320446" y="266077"/>
                </a:moveTo>
                <a:lnTo>
                  <a:pt x="97574" y="266077"/>
                </a:lnTo>
                <a:lnTo>
                  <a:pt x="97574" y="304965"/>
                </a:lnTo>
                <a:lnTo>
                  <a:pt x="320446" y="304965"/>
                </a:lnTo>
                <a:lnTo>
                  <a:pt x="320446" y="266077"/>
                </a:lnTo>
                <a:close/>
              </a:path>
              <a:path w="320675" h="314325">
                <a:moveTo>
                  <a:pt x="232956" y="193344"/>
                </a:moveTo>
                <a:lnTo>
                  <a:pt x="186512" y="193344"/>
                </a:lnTo>
                <a:lnTo>
                  <a:pt x="186512" y="266077"/>
                </a:lnTo>
                <a:lnTo>
                  <a:pt x="232956" y="266077"/>
                </a:lnTo>
                <a:lnTo>
                  <a:pt x="232956" y="193344"/>
                </a:lnTo>
                <a:close/>
              </a:path>
              <a:path w="320675" h="314325">
                <a:moveTo>
                  <a:pt x="295605" y="151942"/>
                </a:moveTo>
                <a:lnTo>
                  <a:pt x="121335" y="151942"/>
                </a:lnTo>
                <a:lnTo>
                  <a:pt x="121335" y="193344"/>
                </a:lnTo>
                <a:lnTo>
                  <a:pt x="295605" y="193344"/>
                </a:lnTo>
                <a:lnTo>
                  <a:pt x="295605" y="151942"/>
                </a:lnTo>
                <a:close/>
              </a:path>
              <a:path w="320675" h="314325">
                <a:moveTo>
                  <a:pt x="18364" y="85331"/>
                </a:moveTo>
                <a:lnTo>
                  <a:pt x="0" y="122059"/>
                </a:lnTo>
                <a:lnTo>
                  <a:pt x="19304" y="130372"/>
                </a:lnTo>
                <a:lnTo>
                  <a:pt x="35332" y="138349"/>
                </a:lnTo>
                <a:lnTo>
                  <a:pt x="49268" y="146460"/>
                </a:lnTo>
                <a:lnTo>
                  <a:pt x="62293" y="155181"/>
                </a:lnTo>
                <a:lnTo>
                  <a:pt x="81737" y="120611"/>
                </a:lnTo>
                <a:lnTo>
                  <a:pt x="67225" y="109578"/>
                </a:lnTo>
                <a:lnTo>
                  <a:pt x="52341" y="100404"/>
                </a:lnTo>
                <a:lnTo>
                  <a:pt x="36311" y="92513"/>
                </a:lnTo>
                <a:lnTo>
                  <a:pt x="18364" y="85331"/>
                </a:lnTo>
                <a:close/>
              </a:path>
              <a:path w="320675" h="314325">
                <a:moveTo>
                  <a:pt x="232956" y="95046"/>
                </a:moveTo>
                <a:lnTo>
                  <a:pt x="186512" y="95046"/>
                </a:lnTo>
                <a:lnTo>
                  <a:pt x="186512" y="151942"/>
                </a:lnTo>
                <a:lnTo>
                  <a:pt x="232956" y="151942"/>
                </a:lnTo>
                <a:lnTo>
                  <a:pt x="232956" y="95046"/>
                </a:lnTo>
                <a:close/>
              </a:path>
              <a:path w="320675" h="314325">
                <a:moveTo>
                  <a:pt x="317563" y="54724"/>
                </a:moveTo>
                <a:lnTo>
                  <a:pt x="108737" y="54724"/>
                </a:lnTo>
                <a:lnTo>
                  <a:pt x="108737" y="95046"/>
                </a:lnTo>
                <a:lnTo>
                  <a:pt x="317563" y="95046"/>
                </a:lnTo>
                <a:lnTo>
                  <a:pt x="317563" y="54724"/>
                </a:lnTo>
                <a:close/>
              </a:path>
              <a:path w="320675" h="314325">
                <a:moveTo>
                  <a:pt x="54000" y="355"/>
                </a:moveTo>
                <a:lnTo>
                  <a:pt x="33489" y="34925"/>
                </a:lnTo>
                <a:lnTo>
                  <a:pt x="49849" y="42580"/>
                </a:lnTo>
                <a:lnTo>
                  <a:pt x="63912" y="50271"/>
                </a:lnTo>
                <a:lnTo>
                  <a:pt x="76623" y="58569"/>
                </a:lnTo>
                <a:lnTo>
                  <a:pt x="88925" y="68046"/>
                </a:lnTo>
                <a:lnTo>
                  <a:pt x="111607" y="34925"/>
                </a:lnTo>
                <a:lnTo>
                  <a:pt x="98863" y="24510"/>
                </a:lnTo>
                <a:lnTo>
                  <a:pt x="85509" y="15616"/>
                </a:lnTo>
                <a:lnTo>
                  <a:pt x="70802" y="7734"/>
                </a:lnTo>
                <a:lnTo>
                  <a:pt x="54000" y="355"/>
                </a:lnTo>
                <a:close/>
              </a:path>
              <a:path w="320675" h="314325">
                <a:moveTo>
                  <a:pt x="194792" y="0"/>
                </a:moveTo>
                <a:lnTo>
                  <a:pt x="162382" y="24841"/>
                </a:lnTo>
                <a:lnTo>
                  <a:pt x="170963" y="31737"/>
                </a:lnTo>
                <a:lnTo>
                  <a:pt x="178633" y="38701"/>
                </a:lnTo>
                <a:lnTo>
                  <a:pt x="185829" y="46206"/>
                </a:lnTo>
                <a:lnTo>
                  <a:pt x="192989" y="54724"/>
                </a:lnTo>
                <a:lnTo>
                  <a:pt x="221437" y="54724"/>
                </a:lnTo>
                <a:lnTo>
                  <a:pt x="236918" y="41757"/>
                </a:lnTo>
                <a:lnTo>
                  <a:pt x="229018" y="31237"/>
                </a:lnTo>
                <a:lnTo>
                  <a:pt x="219903" y="21016"/>
                </a:lnTo>
                <a:lnTo>
                  <a:pt x="208764" y="10726"/>
                </a:lnTo>
                <a:lnTo>
                  <a:pt x="19479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ject 23"/>
          <p:cNvSpPr/>
          <p:nvPr/>
        </p:nvSpPr>
        <p:spPr>
          <a:xfrm>
            <a:off x="5740560" y="677880"/>
            <a:ext cx="311040" cy="307800"/>
          </a:xfrm>
          <a:custGeom>
            <a:avLst/>
            <a:gdLst/>
            <a:ahLst/>
            <a:rect l="l" t="t" r="r" b="b"/>
            <a:pathLst>
              <a:path w="312420" h="307975">
                <a:moveTo>
                  <a:pt x="90385" y="230428"/>
                </a:moveTo>
                <a:lnTo>
                  <a:pt x="90418" y="283572"/>
                </a:lnTo>
                <a:lnTo>
                  <a:pt x="125310" y="307848"/>
                </a:lnTo>
                <a:lnTo>
                  <a:pt x="206324" y="307848"/>
                </a:lnTo>
                <a:lnTo>
                  <a:pt x="224173" y="302198"/>
                </a:lnTo>
                <a:lnTo>
                  <a:pt x="234399" y="289121"/>
                </a:lnTo>
                <a:lnTo>
                  <a:pt x="238777" y="275793"/>
                </a:lnTo>
                <a:lnTo>
                  <a:pt x="125666" y="275793"/>
                </a:lnTo>
                <a:lnTo>
                  <a:pt x="123507" y="270764"/>
                </a:lnTo>
                <a:lnTo>
                  <a:pt x="123507" y="242316"/>
                </a:lnTo>
                <a:lnTo>
                  <a:pt x="124929" y="240868"/>
                </a:lnTo>
                <a:lnTo>
                  <a:pt x="128904" y="236918"/>
                </a:lnTo>
                <a:lnTo>
                  <a:pt x="128904" y="234035"/>
                </a:lnTo>
                <a:lnTo>
                  <a:pt x="126733" y="232232"/>
                </a:lnTo>
                <a:lnTo>
                  <a:pt x="121335" y="231876"/>
                </a:lnTo>
                <a:lnTo>
                  <a:pt x="90385" y="230428"/>
                </a:lnTo>
                <a:close/>
              </a:path>
              <a:path w="312420" h="307975">
                <a:moveTo>
                  <a:pt x="43929" y="230797"/>
                </a:moveTo>
                <a:lnTo>
                  <a:pt x="35509" y="244981"/>
                </a:lnTo>
                <a:lnTo>
                  <a:pt x="25380" y="259842"/>
                </a:lnTo>
                <a:lnTo>
                  <a:pt x="14611" y="274031"/>
                </a:lnTo>
                <a:lnTo>
                  <a:pt x="3962" y="286600"/>
                </a:lnTo>
                <a:lnTo>
                  <a:pt x="33134" y="304965"/>
                </a:lnTo>
                <a:lnTo>
                  <a:pt x="58196" y="270226"/>
                </a:lnTo>
                <a:lnTo>
                  <a:pt x="66979" y="256349"/>
                </a:lnTo>
                <a:lnTo>
                  <a:pt x="67335" y="256349"/>
                </a:lnTo>
                <a:lnTo>
                  <a:pt x="71297" y="255638"/>
                </a:lnTo>
                <a:lnTo>
                  <a:pt x="72377" y="255638"/>
                </a:lnTo>
                <a:lnTo>
                  <a:pt x="75971" y="255270"/>
                </a:lnTo>
                <a:lnTo>
                  <a:pt x="75971" y="249872"/>
                </a:lnTo>
                <a:lnTo>
                  <a:pt x="72377" y="247357"/>
                </a:lnTo>
                <a:lnTo>
                  <a:pt x="70218" y="246265"/>
                </a:lnTo>
                <a:lnTo>
                  <a:pt x="43929" y="230797"/>
                </a:lnTo>
                <a:close/>
              </a:path>
              <a:path w="312420" h="307975">
                <a:moveTo>
                  <a:pt x="269684" y="232232"/>
                </a:moveTo>
                <a:lnTo>
                  <a:pt x="241249" y="248437"/>
                </a:lnTo>
                <a:lnTo>
                  <a:pt x="250493" y="258574"/>
                </a:lnTo>
                <a:lnTo>
                  <a:pt x="259870" y="269857"/>
                </a:lnTo>
                <a:lnTo>
                  <a:pt x="270195" y="283572"/>
                </a:lnTo>
                <a:lnTo>
                  <a:pt x="282282" y="301002"/>
                </a:lnTo>
                <a:lnTo>
                  <a:pt x="308940" y="281190"/>
                </a:lnTo>
                <a:lnTo>
                  <a:pt x="299313" y="267416"/>
                </a:lnTo>
                <a:lnTo>
                  <a:pt x="289988" y="255230"/>
                </a:lnTo>
                <a:lnTo>
                  <a:pt x="280325" y="243784"/>
                </a:lnTo>
                <a:lnTo>
                  <a:pt x="269684" y="232232"/>
                </a:lnTo>
                <a:close/>
              </a:path>
              <a:path w="312420" h="307975">
                <a:moveTo>
                  <a:pt x="208470" y="249148"/>
                </a:moveTo>
                <a:lnTo>
                  <a:pt x="207757" y="259842"/>
                </a:lnTo>
                <a:lnTo>
                  <a:pt x="205459" y="268276"/>
                </a:lnTo>
                <a:lnTo>
                  <a:pt x="201339" y="273807"/>
                </a:lnTo>
                <a:lnTo>
                  <a:pt x="195160" y="275793"/>
                </a:lnTo>
                <a:lnTo>
                  <a:pt x="238777" y="275793"/>
                </a:lnTo>
                <a:lnTo>
                  <a:pt x="239226" y="274425"/>
                </a:lnTo>
                <a:lnTo>
                  <a:pt x="240880" y="263918"/>
                </a:lnTo>
                <a:lnTo>
                  <a:pt x="208470" y="249148"/>
                </a:lnTo>
                <a:close/>
              </a:path>
              <a:path w="312420" h="307975">
                <a:moveTo>
                  <a:pt x="172834" y="222872"/>
                </a:moveTo>
                <a:lnTo>
                  <a:pt x="154470" y="222872"/>
                </a:lnTo>
                <a:lnTo>
                  <a:pt x="141858" y="233667"/>
                </a:lnTo>
                <a:lnTo>
                  <a:pt x="149400" y="241420"/>
                </a:lnTo>
                <a:lnTo>
                  <a:pt x="155732" y="248437"/>
                </a:lnTo>
                <a:lnTo>
                  <a:pt x="161511" y="255441"/>
                </a:lnTo>
                <a:lnTo>
                  <a:pt x="167424" y="263194"/>
                </a:lnTo>
                <a:lnTo>
                  <a:pt x="195160" y="247357"/>
                </a:lnTo>
                <a:lnTo>
                  <a:pt x="191968" y="243078"/>
                </a:lnTo>
                <a:lnTo>
                  <a:pt x="187769" y="237953"/>
                </a:lnTo>
                <a:lnTo>
                  <a:pt x="181684" y="231409"/>
                </a:lnTo>
                <a:lnTo>
                  <a:pt x="172834" y="222872"/>
                </a:lnTo>
                <a:close/>
              </a:path>
              <a:path w="312420" h="307975">
                <a:moveTo>
                  <a:pt x="263207" y="116293"/>
                </a:moveTo>
                <a:lnTo>
                  <a:pt x="50050" y="116293"/>
                </a:lnTo>
                <a:lnTo>
                  <a:pt x="50050" y="222872"/>
                </a:lnTo>
                <a:lnTo>
                  <a:pt x="263207" y="222872"/>
                </a:lnTo>
                <a:lnTo>
                  <a:pt x="263207" y="196227"/>
                </a:lnTo>
                <a:lnTo>
                  <a:pt x="89661" y="196227"/>
                </a:lnTo>
                <a:lnTo>
                  <a:pt x="89661" y="179298"/>
                </a:lnTo>
                <a:lnTo>
                  <a:pt x="263207" y="179298"/>
                </a:lnTo>
                <a:lnTo>
                  <a:pt x="263207" y="155905"/>
                </a:lnTo>
                <a:lnTo>
                  <a:pt x="89661" y="155905"/>
                </a:lnTo>
                <a:lnTo>
                  <a:pt x="89661" y="139344"/>
                </a:lnTo>
                <a:lnTo>
                  <a:pt x="263207" y="139344"/>
                </a:lnTo>
                <a:lnTo>
                  <a:pt x="263207" y="116293"/>
                </a:lnTo>
                <a:close/>
              </a:path>
              <a:path w="312420" h="307975">
                <a:moveTo>
                  <a:pt x="263207" y="179298"/>
                </a:moveTo>
                <a:lnTo>
                  <a:pt x="222516" y="179298"/>
                </a:lnTo>
                <a:lnTo>
                  <a:pt x="222516" y="196227"/>
                </a:lnTo>
                <a:lnTo>
                  <a:pt x="263207" y="196227"/>
                </a:lnTo>
                <a:lnTo>
                  <a:pt x="263207" y="179298"/>
                </a:lnTo>
                <a:close/>
              </a:path>
              <a:path w="312420" h="307975">
                <a:moveTo>
                  <a:pt x="263207" y="139344"/>
                </a:moveTo>
                <a:lnTo>
                  <a:pt x="222516" y="139344"/>
                </a:lnTo>
                <a:lnTo>
                  <a:pt x="222516" y="155905"/>
                </a:lnTo>
                <a:lnTo>
                  <a:pt x="263207" y="155905"/>
                </a:lnTo>
                <a:lnTo>
                  <a:pt x="263207" y="139344"/>
                </a:lnTo>
                <a:close/>
              </a:path>
              <a:path w="312420" h="307975">
                <a:moveTo>
                  <a:pt x="312178" y="70205"/>
                </a:moveTo>
                <a:lnTo>
                  <a:pt x="0" y="70205"/>
                </a:lnTo>
                <a:lnTo>
                  <a:pt x="0" y="101523"/>
                </a:lnTo>
                <a:lnTo>
                  <a:pt x="312178" y="101523"/>
                </a:lnTo>
                <a:lnTo>
                  <a:pt x="312178" y="70205"/>
                </a:lnTo>
                <a:close/>
              </a:path>
              <a:path w="312420" h="307975">
                <a:moveTo>
                  <a:pt x="115569" y="48958"/>
                </a:moveTo>
                <a:lnTo>
                  <a:pt x="71653" y="48958"/>
                </a:lnTo>
                <a:lnTo>
                  <a:pt x="74167" y="53644"/>
                </a:lnTo>
                <a:lnTo>
                  <a:pt x="77419" y="59766"/>
                </a:lnTo>
                <a:lnTo>
                  <a:pt x="81013" y="70205"/>
                </a:lnTo>
                <a:lnTo>
                  <a:pt x="126733" y="70205"/>
                </a:lnTo>
                <a:lnTo>
                  <a:pt x="124586" y="65163"/>
                </a:lnTo>
                <a:lnTo>
                  <a:pt x="120980" y="57607"/>
                </a:lnTo>
                <a:lnTo>
                  <a:pt x="115569" y="48958"/>
                </a:lnTo>
                <a:close/>
              </a:path>
              <a:path w="312420" h="307975">
                <a:moveTo>
                  <a:pt x="238721" y="48958"/>
                </a:moveTo>
                <a:lnTo>
                  <a:pt x="193357" y="48958"/>
                </a:lnTo>
                <a:lnTo>
                  <a:pt x="190474" y="57238"/>
                </a:lnTo>
                <a:lnTo>
                  <a:pt x="188315" y="61925"/>
                </a:lnTo>
                <a:lnTo>
                  <a:pt x="184353" y="70205"/>
                </a:lnTo>
                <a:lnTo>
                  <a:pt x="228638" y="70205"/>
                </a:lnTo>
                <a:lnTo>
                  <a:pt x="233679" y="61556"/>
                </a:lnTo>
                <a:lnTo>
                  <a:pt x="235470" y="56883"/>
                </a:lnTo>
                <a:lnTo>
                  <a:pt x="238721" y="48958"/>
                </a:lnTo>
                <a:close/>
              </a:path>
              <a:path w="312420" h="307975">
                <a:moveTo>
                  <a:pt x="289852" y="19443"/>
                </a:moveTo>
                <a:lnTo>
                  <a:pt x="20535" y="19443"/>
                </a:lnTo>
                <a:lnTo>
                  <a:pt x="20535" y="48958"/>
                </a:lnTo>
                <a:lnTo>
                  <a:pt x="289852" y="48958"/>
                </a:lnTo>
                <a:lnTo>
                  <a:pt x="289852" y="19443"/>
                </a:lnTo>
                <a:close/>
              </a:path>
              <a:path w="312420" h="307975">
                <a:moveTo>
                  <a:pt x="133222" y="0"/>
                </a:moveTo>
                <a:lnTo>
                  <a:pt x="133222" y="19443"/>
                </a:lnTo>
                <a:lnTo>
                  <a:pt x="177152" y="19443"/>
                </a:lnTo>
                <a:lnTo>
                  <a:pt x="177152" y="11874"/>
                </a:lnTo>
                <a:lnTo>
                  <a:pt x="177507" y="11150"/>
                </a:lnTo>
                <a:lnTo>
                  <a:pt x="179666" y="9715"/>
                </a:lnTo>
                <a:lnTo>
                  <a:pt x="181114" y="8991"/>
                </a:lnTo>
                <a:lnTo>
                  <a:pt x="183273" y="7556"/>
                </a:lnTo>
                <a:lnTo>
                  <a:pt x="183273" y="4673"/>
                </a:lnTo>
                <a:lnTo>
                  <a:pt x="181114" y="2870"/>
                </a:lnTo>
                <a:lnTo>
                  <a:pt x="176072" y="2514"/>
                </a:lnTo>
                <a:lnTo>
                  <a:pt x="1332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ject 24"/>
          <p:cNvSpPr/>
          <p:nvPr/>
        </p:nvSpPr>
        <p:spPr>
          <a:xfrm>
            <a:off x="6126120" y="671400"/>
            <a:ext cx="303120" cy="317520"/>
          </a:xfrm>
          <a:custGeom>
            <a:avLst/>
            <a:gdLst/>
            <a:ahLst/>
            <a:rect l="l" t="t" r="r" b="b"/>
            <a:pathLst>
              <a:path w="303529" h="317500">
                <a:moveTo>
                  <a:pt x="93967" y="277952"/>
                </a:moveTo>
                <a:lnTo>
                  <a:pt x="111963" y="317207"/>
                </a:lnTo>
                <a:lnTo>
                  <a:pt x="142518" y="315206"/>
                </a:lnTo>
                <a:lnTo>
                  <a:pt x="160581" y="309595"/>
                </a:lnTo>
                <a:lnTo>
                  <a:pt x="169191" y="300139"/>
                </a:lnTo>
                <a:lnTo>
                  <a:pt x="171386" y="286600"/>
                </a:lnTo>
                <a:lnTo>
                  <a:pt x="171386" y="279755"/>
                </a:lnTo>
                <a:lnTo>
                  <a:pt x="119532" y="279755"/>
                </a:lnTo>
                <a:lnTo>
                  <a:pt x="114273" y="279575"/>
                </a:lnTo>
                <a:lnTo>
                  <a:pt x="107969" y="279125"/>
                </a:lnTo>
                <a:lnTo>
                  <a:pt x="93967" y="277952"/>
                </a:lnTo>
                <a:close/>
              </a:path>
              <a:path w="303529" h="317500">
                <a:moveTo>
                  <a:pt x="171386" y="260680"/>
                </a:moveTo>
                <a:lnTo>
                  <a:pt x="130695" y="260680"/>
                </a:lnTo>
                <a:lnTo>
                  <a:pt x="130695" y="277952"/>
                </a:lnTo>
                <a:lnTo>
                  <a:pt x="125298" y="279755"/>
                </a:lnTo>
                <a:lnTo>
                  <a:pt x="171386" y="279755"/>
                </a:lnTo>
                <a:lnTo>
                  <a:pt x="171386" y="260680"/>
                </a:lnTo>
                <a:close/>
              </a:path>
              <a:path w="303529" h="317500">
                <a:moveTo>
                  <a:pt x="282994" y="217106"/>
                </a:moveTo>
                <a:lnTo>
                  <a:pt x="245186" y="217106"/>
                </a:lnTo>
                <a:lnTo>
                  <a:pt x="245186" y="232587"/>
                </a:lnTo>
                <a:lnTo>
                  <a:pt x="20878" y="232587"/>
                </a:lnTo>
                <a:lnTo>
                  <a:pt x="20878" y="260680"/>
                </a:lnTo>
                <a:lnTo>
                  <a:pt x="245186" y="260680"/>
                </a:lnTo>
                <a:lnTo>
                  <a:pt x="245186" y="270395"/>
                </a:lnTo>
                <a:lnTo>
                  <a:pt x="282994" y="270395"/>
                </a:lnTo>
                <a:lnTo>
                  <a:pt x="282994" y="217106"/>
                </a:lnTo>
                <a:close/>
              </a:path>
              <a:path w="303529" h="317500">
                <a:moveTo>
                  <a:pt x="171373" y="217106"/>
                </a:moveTo>
                <a:lnTo>
                  <a:pt x="130695" y="217106"/>
                </a:lnTo>
                <a:lnTo>
                  <a:pt x="130695" y="232587"/>
                </a:lnTo>
                <a:lnTo>
                  <a:pt x="171373" y="232587"/>
                </a:lnTo>
                <a:lnTo>
                  <a:pt x="171373" y="217106"/>
                </a:lnTo>
                <a:close/>
              </a:path>
              <a:path w="303529" h="317500">
                <a:moveTo>
                  <a:pt x="303161" y="189026"/>
                </a:moveTo>
                <a:lnTo>
                  <a:pt x="0" y="189026"/>
                </a:lnTo>
                <a:lnTo>
                  <a:pt x="0" y="217106"/>
                </a:lnTo>
                <a:lnTo>
                  <a:pt x="303161" y="217106"/>
                </a:lnTo>
                <a:lnTo>
                  <a:pt x="303161" y="189026"/>
                </a:lnTo>
                <a:close/>
              </a:path>
              <a:path w="303529" h="317500">
                <a:moveTo>
                  <a:pt x="171373" y="175336"/>
                </a:moveTo>
                <a:lnTo>
                  <a:pt x="130695" y="175336"/>
                </a:lnTo>
                <a:lnTo>
                  <a:pt x="130695" y="189026"/>
                </a:lnTo>
                <a:lnTo>
                  <a:pt x="282994" y="189026"/>
                </a:lnTo>
                <a:lnTo>
                  <a:pt x="171373" y="189014"/>
                </a:lnTo>
                <a:lnTo>
                  <a:pt x="171373" y="175336"/>
                </a:lnTo>
                <a:close/>
              </a:path>
              <a:path w="303529" h="317500">
                <a:moveTo>
                  <a:pt x="282994" y="147256"/>
                </a:moveTo>
                <a:lnTo>
                  <a:pt x="20878" y="147256"/>
                </a:lnTo>
                <a:lnTo>
                  <a:pt x="20878" y="175336"/>
                </a:lnTo>
                <a:lnTo>
                  <a:pt x="245186" y="175336"/>
                </a:lnTo>
                <a:lnTo>
                  <a:pt x="245186" y="189014"/>
                </a:lnTo>
                <a:lnTo>
                  <a:pt x="282994" y="189014"/>
                </a:lnTo>
                <a:lnTo>
                  <a:pt x="282994" y="147256"/>
                </a:lnTo>
                <a:close/>
              </a:path>
              <a:path w="303529" h="317500">
                <a:moveTo>
                  <a:pt x="171386" y="133578"/>
                </a:moveTo>
                <a:lnTo>
                  <a:pt x="130695" y="133578"/>
                </a:lnTo>
                <a:lnTo>
                  <a:pt x="130695" y="147256"/>
                </a:lnTo>
                <a:lnTo>
                  <a:pt x="171386" y="147256"/>
                </a:lnTo>
                <a:lnTo>
                  <a:pt x="171386" y="133578"/>
                </a:lnTo>
                <a:close/>
              </a:path>
              <a:path w="303529" h="317500">
                <a:moveTo>
                  <a:pt x="259587" y="67322"/>
                </a:moveTo>
                <a:lnTo>
                  <a:pt x="42113" y="67322"/>
                </a:lnTo>
                <a:lnTo>
                  <a:pt x="42113" y="133578"/>
                </a:lnTo>
                <a:lnTo>
                  <a:pt x="259587" y="133578"/>
                </a:lnTo>
                <a:lnTo>
                  <a:pt x="259587" y="109080"/>
                </a:lnTo>
                <a:lnTo>
                  <a:pt x="78854" y="109080"/>
                </a:lnTo>
                <a:lnTo>
                  <a:pt x="78854" y="91808"/>
                </a:lnTo>
                <a:lnTo>
                  <a:pt x="259587" y="91808"/>
                </a:lnTo>
                <a:lnTo>
                  <a:pt x="259587" y="67322"/>
                </a:lnTo>
                <a:close/>
              </a:path>
              <a:path w="303529" h="317500">
                <a:moveTo>
                  <a:pt x="171386" y="91808"/>
                </a:moveTo>
                <a:lnTo>
                  <a:pt x="130695" y="91808"/>
                </a:lnTo>
                <a:lnTo>
                  <a:pt x="130695" y="109080"/>
                </a:lnTo>
                <a:lnTo>
                  <a:pt x="171386" y="109080"/>
                </a:lnTo>
                <a:lnTo>
                  <a:pt x="171386" y="91808"/>
                </a:lnTo>
                <a:close/>
              </a:path>
              <a:path w="303529" h="317500">
                <a:moveTo>
                  <a:pt x="259587" y="91808"/>
                </a:moveTo>
                <a:lnTo>
                  <a:pt x="222504" y="91808"/>
                </a:lnTo>
                <a:lnTo>
                  <a:pt x="222504" y="109080"/>
                </a:lnTo>
                <a:lnTo>
                  <a:pt x="259587" y="109080"/>
                </a:lnTo>
                <a:lnTo>
                  <a:pt x="259587" y="91808"/>
                </a:lnTo>
                <a:close/>
              </a:path>
              <a:path w="303529" h="317500">
                <a:moveTo>
                  <a:pt x="171386" y="54724"/>
                </a:moveTo>
                <a:lnTo>
                  <a:pt x="130695" y="54724"/>
                </a:lnTo>
                <a:lnTo>
                  <a:pt x="130695" y="67322"/>
                </a:lnTo>
                <a:lnTo>
                  <a:pt x="171386" y="67322"/>
                </a:lnTo>
                <a:lnTo>
                  <a:pt x="171386" y="54724"/>
                </a:lnTo>
                <a:close/>
              </a:path>
              <a:path w="303529" h="317500">
                <a:moveTo>
                  <a:pt x="301726" y="23761"/>
                </a:moveTo>
                <a:lnTo>
                  <a:pt x="0" y="23761"/>
                </a:lnTo>
                <a:lnTo>
                  <a:pt x="0" y="54724"/>
                </a:lnTo>
                <a:lnTo>
                  <a:pt x="301726" y="54724"/>
                </a:lnTo>
                <a:lnTo>
                  <a:pt x="301726" y="23761"/>
                </a:lnTo>
                <a:close/>
              </a:path>
              <a:path w="303529" h="317500">
                <a:moveTo>
                  <a:pt x="130695" y="0"/>
                </a:moveTo>
                <a:lnTo>
                  <a:pt x="130695" y="23761"/>
                </a:lnTo>
                <a:lnTo>
                  <a:pt x="171386" y="23761"/>
                </a:lnTo>
                <a:lnTo>
                  <a:pt x="171386" y="15112"/>
                </a:lnTo>
                <a:lnTo>
                  <a:pt x="172808" y="14033"/>
                </a:lnTo>
                <a:lnTo>
                  <a:pt x="173545" y="13677"/>
                </a:lnTo>
                <a:lnTo>
                  <a:pt x="176784" y="11163"/>
                </a:lnTo>
                <a:lnTo>
                  <a:pt x="177495" y="10795"/>
                </a:lnTo>
                <a:lnTo>
                  <a:pt x="177495" y="6476"/>
                </a:lnTo>
                <a:lnTo>
                  <a:pt x="174980" y="5753"/>
                </a:lnTo>
                <a:lnTo>
                  <a:pt x="173189" y="5397"/>
                </a:lnTo>
                <a:lnTo>
                  <a:pt x="13069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ject 25"/>
          <p:cNvSpPr/>
          <p:nvPr/>
        </p:nvSpPr>
        <p:spPr>
          <a:xfrm>
            <a:off x="6496200" y="682560"/>
            <a:ext cx="323640" cy="306360"/>
          </a:xfrm>
          <a:custGeom>
            <a:avLst/>
            <a:gdLst/>
            <a:ahLst/>
            <a:rect l="l" t="t" r="r" b="b"/>
            <a:pathLst>
              <a:path w="323850" h="306069">
                <a:moveTo>
                  <a:pt x="190461" y="241236"/>
                </a:moveTo>
                <a:lnTo>
                  <a:pt x="168490" y="241236"/>
                </a:lnTo>
                <a:lnTo>
                  <a:pt x="154851" y="253425"/>
                </a:lnTo>
                <a:lnTo>
                  <a:pt x="140365" y="263383"/>
                </a:lnTo>
                <a:lnTo>
                  <a:pt x="124190" y="271720"/>
                </a:lnTo>
                <a:lnTo>
                  <a:pt x="105486" y="279044"/>
                </a:lnTo>
                <a:lnTo>
                  <a:pt x="133565" y="305689"/>
                </a:lnTo>
                <a:lnTo>
                  <a:pt x="151531" y="296982"/>
                </a:lnTo>
                <a:lnTo>
                  <a:pt x="167332" y="287326"/>
                </a:lnTo>
                <a:lnTo>
                  <a:pt x="181375" y="277130"/>
                </a:lnTo>
                <a:lnTo>
                  <a:pt x="198031" y="263563"/>
                </a:lnTo>
                <a:lnTo>
                  <a:pt x="198742" y="263563"/>
                </a:lnTo>
                <a:lnTo>
                  <a:pt x="204139" y="262839"/>
                </a:lnTo>
                <a:lnTo>
                  <a:pt x="204508" y="262839"/>
                </a:lnTo>
                <a:lnTo>
                  <a:pt x="207746" y="262115"/>
                </a:lnTo>
                <a:lnTo>
                  <a:pt x="207746" y="258889"/>
                </a:lnTo>
                <a:lnTo>
                  <a:pt x="207391" y="257797"/>
                </a:lnTo>
                <a:lnTo>
                  <a:pt x="190461" y="241236"/>
                </a:lnTo>
                <a:close/>
              </a:path>
              <a:path w="323850" h="306069">
                <a:moveTo>
                  <a:pt x="254558" y="241236"/>
                </a:moveTo>
                <a:lnTo>
                  <a:pt x="250583" y="241236"/>
                </a:lnTo>
                <a:lnTo>
                  <a:pt x="228993" y="262115"/>
                </a:lnTo>
                <a:lnTo>
                  <a:pt x="246642" y="276577"/>
                </a:lnTo>
                <a:lnTo>
                  <a:pt x="264363" y="287594"/>
                </a:lnTo>
                <a:lnTo>
                  <a:pt x="281950" y="296044"/>
                </a:lnTo>
                <a:lnTo>
                  <a:pt x="299199" y="302806"/>
                </a:lnTo>
                <a:lnTo>
                  <a:pt x="323329" y="274358"/>
                </a:lnTo>
                <a:lnTo>
                  <a:pt x="298710" y="266302"/>
                </a:lnTo>
                <a:lnTo>
                  <a:pt x="279761" y="257668"/>
                </a:lnTo>
                <a:lnTo>
                  <a:pt x="265404" y="249099"/>
                </a:lnTo>
                <a:lnTo>
                  <a:pt x="254558" y="241236"/>
                </a:lnTo>
                <a:close/>
              </a:path>
              <a:path w="323850" h="306069">
                <a:moveTo>
                  <a:pt x="299567" y="63373"/>
                </a:moveTo>
                <a:lnTo>
                  <a:pt x="140779" y="63373"/>
                </a:lnTo>
                <a:lnTo>
                  <a:pt x="140779" y="241236"/>
                </a:lnTo>
                <a:lnTo>
                  <a:pt x="299567" y="241236"/>
                </a:lnTo>
                <a:lnTo>
                  <a:pt x="299567" y="209194"/>
                </a:lnTo>
                <a:lnTo>
                  <a:pt x="180733" y="209194"/>
                </a:lnTo>
                <a:lnTo>
                  <a:pt x="180733" y="188302"/>
                </a:lnTo>
                <a:lnTo>
                  <a:pt x="299567" y="188302"/>
                </a:lnTo>
                <a:lnTo>
                  <a:pt x="299567" y="160959"/>
                </a:lnTo>
                <a:lnTo>
                  <a:pt x="180733" y="160959"/>
                </a:lnTo>
                <a:lnTo>
                  <a:pt x="180733" y="141147"/>
                </a:lnTo>
                <a:lnTo>
                  <a:pt x="299567" y="141147"/>
                </a:lnTo>
                <a:lnTo>
                  <a:pt x="299567" y="113779"/>
                </a:lnTo>
                <a:lnTo>
                  <a:pt x="180733" y="113779"/>
                </a:lnTo>
                <a:lnTo>
                  <a:pt x="180733" y="94335"/>
                </a:lnTo>
                <a:lnTo>
                  <a:pt x="299567" y="94335"/>
                </a:lnTo>
                <a:lnTo>
                  <a:pt x="299567" y="63373"/>
                </a:lnTo>
                <a:close/>
              </a:path>
              <a:path w="323850" h="306069">
                <a:moveTo>
                  <a:pt x="86398" y="57607"/>
                </a:moveTo>
                <a:lnTo>
                  <a:pt x="45364" y="57607"/>
                </a:lnTo>
                <a:lnTo>
                  <a:pt x="45364" y="186512"/>
                </a:lnTo>
                <a:lnTo>
                  <a:pt x="22944" y="190919"/>
                </a:lnTo>
                <a:lnTo>
                  <a:pt x="11436" y="192991"/>
                </a:lnTo>
                <a:lnTo>
                  <a:pt x="0" y="194792"/>
                </a:lnTo>
                <a:lnTo>
                  <a:pt x="6832" y="234759"/>
                </a:lnTo>
                <a:lnTo>
                  <a:pt x="6832" y="236194"/>
                </a:lnTo>
                <a:lnTo>
                  <a:pt x="7543" y="237642"/>
                </a:lnTo>
                <a:lnTo>
                  <a:pt x="11506" y="237642"/>
                </a:lnTo>
                <a:lnTo>
                  <a:pt x="16916" y="232232"/>
                </a:lnTo>
                <a:lnTo>
                  <a:pt x="19075" y="231521"/>
                </a:lnTo>
                <a:lnTo>
                  <a:pt x="59655" y="222051"/>
                </a:lnTo>
                <a:lnTo>
                  <a:pt x="111694" y="207340"/>
                </a:lnTo>
                <a:lnTo>
                  <a:pt x="127457" y="202349"/>
                </a:lnTo>
                <a:lnTo>
                  <a:pt x="127457" y="177507"/>
                </a:lnTo>
                <a:lnTo>
                  <a:pt x="86398" y="177507"/>
                </a:lnTo>
                <a:lnTo>
                  <a:pt x="86398" y="57607"/>
                </a:lnTo>
                <a:close/>
              </a:path>
              <a:path w="323850" h="306069">
                <a:moveTo>
                  <a:pt x="299567" y="188302"/>
                </a:moveTo>
                <a:lnTo>
                  <a:pt x="259588" y="188302"/>
                </a:lnTo>
                <a:lnTo>
                  <a:pt x="259588" y="209194"/>
                </a:lnTo>
                <a:lnTo>
                  <a:pt x="299567" y="209194"/>
                </a:lnTo>
                <a:lnTo>
                  <a:pt x="299567" y="188302"/>
                </a:lnTo>
                <a:close/>
              </a:path>
              <a:path w="323850" h="306069">
                <a:moveTo>
                  <a:pt x="127457" y="166344"/>
                </a:moveTo>
                <a:lnTo>
                  <a:pt x="116230" y="169812"/>
                </a:lnTo>
                <a:lnTo>
                  <a:pt x="104632" y="173007"/>
                </a:lnTo>
                <a:lnTo>
                  <a:pt x="94181" y="175661"/>
                </a:lnTo>
                <a:lnTo>
                  <a:pt x="86398" y="177507"/>
                </a:lnTo>
                <a:lnTo>
                  <a:pt x="127457" y="177507"/>
                </a:lnTo>
                <a:lnTo>
                  <a:pt x="127457" y="166344"/>
                </a:lnTo>
                <a:close/>
              </a:path>
              <a:path w="323850" h="306069">
                <a:moveTo>
                  <a:pt x="299567" y="141147"/>
                </a:moveTo>
                <a:lnTo>
                  <a:pt x="259588" y="141147"/>
                </a:lnTo>
                <a:lnTo>
                  <a:pt x="259588" y="160959"/>
                </a:lnTo>
                <a:lnTo>
                  <a:pt x="299567" y="160959"/>
                </a:lnTo>
                <a:lnTo>
                  <a:pt x="299567" y="141147"/>
                </a:lnTo>
                <a:close/>
              </a:path>
              <a:path w="323850" h="306069">
                <a:moveTo>
                  <a:pt x="299567" y="94335"/>
                </a:moveTo>
                <a:lnTo>
                  <a:pt x="259588" y="94335"/>
                </a:lnTo>
                <a:lnTo>
                  <a:pt x="259588" y="113779"/>
                </a:lnTo>
                <a:lnTo>
                  <a:pt x="299567" y="113779"/>
                </a:lnTo>
                <a:lnTo>
                  <a:pt x="299567" y="94335"/>
                </a:lnTo>
                <a:close/>
              </a:path>
              <a:path w="323850" h="306069">
                <a:moveTo>
                  <a:pt x="239077" y="32410"/>
                </a:moveTo>
                <a:lnTo>
                  <a:pt x="195148" y="32410"/>
                </a:lnTo>
                <a:lnTo>
                  <a:pt x="193019" y="40993"/>
                </a:lnTo>
                <a:lnTo>
                  <a:pt x="190863" y="48429"/>
                </a:lnTo>
                <a:lnTo>
                  <a:pt x="188509" y="55597"/>
                </a:lnTo>
                <a:lnTo>
                  <a:pt x="185788" y="63373"/>
                </a:lnTo>
                <a:lnTo>
                  <a:pt x="226466" y="63373"/>
                </a:lnTo>
                <a:lnTo>
                  <a:pt x="231624" y="52153"/>
                </a:lnTo>
                <a:lnTo>
                  <a:pt x="235062" y="43838"/>
                </a:lnTo>
                <a:lnTo>
                  <a:pt x="237355" y="37550"/>
                </a:lnTo>
                <a:lnTo>
                  <a:pt x="239077" y="32410"/>
                </a:lnTo>
                <a:close/>
              </a:path>
              <a:path w="323850" h="306069">
                <a:moveTo>
                  <a:pt x="317919" y="0"/>
                </a:moveTo>
                <a:lnTo>
                  <a:pt x="121691" y="0"/>
                </a:lnTo>
                <a:lnTo>
                  <a:pt x="121691" y="22682"/>
                </a:lnTo>
                <a:lnTo>
                  <a:pt x="6832" y="22682"/>
                </a:lnTo>
                <a:lnTo>
                  <a:pt x="6832" y="57607"/>
                </a:lnTo>
                <a:lnTo>
                  <a:pt x="129247" y="57607"/>
                </a:lnTo>
                <a:lnTo>
                  <a:pt x="129247" y="32410"/>
                </a:lnTo>
                <a:lnTo>
                  <a:pt x="317919" y="32410"/>
                </a:lnTo>
                <a:lnTo>
                  <a:pt x="3179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bject 26"/>
          <p:cNvSpPr/>
          <p:nvPr/>
        </p:nvSpPr>
        <p:spPr>
          <a:xfrm>
            <a:off x="1789200" y="4365720"/>
            <a:ext cx="334800" cy="334800"/>
          </a:xfrm>
          <a:custGeom>
            <a:avLst/>
            <a:gdLst/>
            <a:ahLst/>
            <a:rect l="l" t="t" r="r" b="b"/>
            <a:pathLst>
              <a:path w="335280" h="335279">
                <a:moveTo>
                  <a:pt x="167436" y="0"/>
                </a:moveTo>
                <a:lnTo>
                  <a:pt x="122904" y="5975"/>
                </a:lnTo>
                <a:lnTo>
                  <a:pt x="82901" y="22843"/>
                </a:lnTo>
                <a:lnTo>
                  <a:pt x="49018" y="49012"/>
                </a:lnTo>
                <a:lnTo>
                  <a:pt x="22846" y="82892"/>
                </a:lnTo>
                <a:lnTo>
                  <a:pt x="5976" y="122893"/>
                </a:lnTo>
                <a:lnTo>
                  <a:pt x="0" y="167424"/>
                </a:lnTo>
                <a:lnTo>
                  <a:pt x="5976" y="211956"/>
                </a:lnTo>
                <a:lnTo>
                  <a:pt x="22846" y="251959"/>
                </a:lnTo>
                <a:lnTo>
                  <a:pt x="49018" y="285842"/>
                </a:lnTo>
                <a:lnTo>
                  <a:pt x="82901" y="312014"/>
                </a:lnTo>
                <a:lnTo>
                  <a:pt x="122904" y="328884"/>
                </a:lnTo>
                <a:lnTo>
                  <a:pt x="167436" y="334860"/>
                </a:lnTo>
                <a:lnTo>
                  <a:pt x="211720" y="328934"/>
                </a:lnTo>
                <a:lnTo>
                  <a:pt x="224198" y="323697"/>
                </a:lnTo>
                <a:lnTo>
                  <a:pt x="167436" y="323697"/>
                </a:lnTo>
                <a:lnTo>
                  <a:pt x="117997" y="315741"/>
                </a:lnTo>
                <a:lnTo>
                  <a:pt x="75093" y="293579"/>
                </a:lnTo>
                <a:lnTo>
                  <a:pt x="41281" y="259767"/>
                </a:lnTo>
                <a:lnTo>
                  <a:pt x="19119" y="216863"/>
                </a:lnTo>
                <a:lnTo>
                  <a:pt x="11163" y="167424"/>
                </a:lnTo>
                <a:lnTo>
                  <a:pt x="19050" y="118269"/>
                </a:lnTo>
                <a:lnTo>
                  <a:pt x="41076" y="75403"/>
                </a:lnTo>
                <a:lnTo>
                  <a:pt x="74786" y="41489"/>
                </a:lnTo>
                <a:lnTo>
                  <a:pt x="117724" y="19188"/>
                </a:lnTo>
                <a:lnTo>
                  <a:pt x="167436" y="11163"/>
                </a:lnTo>
                <a:lnTo>
                  <a:pt x="224269" y="11163"/>
                </a:lnTo>
                <a:lnTo>
                  <a:pt x="211967" y="5975"/>
                </a:lnTo>
                <a:lnTo>
                  <a:pt x="167436" y="0"/>
                </a:lnTo>
                <a:close/>
              </a:path>
              <a:path w="335280" h="335279">
                <a:moveTo>
                  <a:pt x="224269" y="11163"/>
                </a:moveTo>
                <a:lnTo>
                  <a:pt x="167436" y="11163"/>
                </a:lnTo>
                <a:lnTo>
                  <a:pt x="216869" y="19118"/>
                </a:lnTo>
                <a:lnTo>
                  <a:pt x="259770" y="41280"/>
                </a:lnTo>
                <a:lnTo>
                  <a:pt x="293580" y="75090"/>
                </a:lnTo>
                <a:lnTo>
                  <a:pt x="315741" y="117991"/>
                </a:lnTo>
                <a:lnTo>
                  <a:pt x="323697" y="167424"/>
                </a:lnTo>
                <a:lnTo>
                  <a:pt x="315741" y="216863"/>
                </a:lnTo>
                <a:lnTo>
                  <a:pt x="293580" y="259767"/>
                </a:lnTo>
                <a:lnTo>
                  <a:pt x="259770" y="293579"/>
                </a:lnTo>
                <a:lnTo>
                  <a:pt x="216869" y="315741"/>
                </a:lnTo>
                <a:lnTo>
                  <a:pt x="167436" y="323697"/>
                </a:lnTo>
                <a:lnTo>
                  <a:pt x="224198" y="323697"/>
                </a:lnTo>
                <a:lnTo>
                  <a:pt x="285581" y="286113"/>
                </a:lnTo>
                <a:lnTo>
                  <a:pt x="311859" y="252280"/>
                </a:lnTo>
                <a:lnTo>
                  <a:pt x="328835" y="212207"/>
                </a:lnTo>
                <a:lnTo>
                  <a:pt x="334860" y="167424"/>
                </a:lnTo>
                <a:lnTo>
                  <a:pt x="328884" y="122893"/>
                </a:lnTo>
                <a:lnTo>
                  <a:pt x="312017" y="82892"/>
                </a:lnTo>
                <a:lnTo>
                  <a:pt x="285848" y="49012"/>
                </a:lnTo>
                <a:lnTo>
                  <a:pt x="251968" y="22843"/>
                </a:lnTo>
                <a:lnTo>
                  <a:pt x="224269" y="11163"/>
                </a:lnTo>
                <a:close/>
              </a:path>
              <a:path w="335280" h="335279">
                <a:moveTo>
                  <a:pt x="183273" y="96494"/>
                </a:moveTo>
                <a:lnTo>
                  <a:pt x="159512" y="96494"/>
                </a:lnTo>
                <a:lnTo>
                  <a:pt x="159512" y="259956"/>
                </a:lnTo>
                <a:lnTo>
                  <a:pt x="183273" y="259956"/>
                </a:lnTo>
                <a:lnTo>
                  <a:pt x="183273" y="96494"/>
                </a:lnTo>
                <a:close/>
              </a:path>
              <a:path w="335280" h="335279">
                <a:moveTo>
                  <a:pt x="183273" y="74891"/>
                </a:moveTo>
                <a:lnTo>
                  <a:pt x="160947" y="74891"/>
                </a:lnTo>
                <a:lnTo>
                  <a:pt x="123507" y="94335"/>
                </a:lnTo>
                <a:lnTo>
                  <a:pt x="128181" y="113055"/>
                </a:lnTo>
                <a:lnTo>
                  <a:pt x="159156" y="96494"/>
                </a:lnTo>
                <a:lnTo>
                  <a:pt x="183273" y="96494"/>
                </a:lnTo>
                <a:lnTo>
                  <a:pt x="183273" y="74891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bject 27"/>
          <p:cNvSpPr/>
          <p:nvPr/>
        </p:nvSpPr>
        <p:spPr>
          <a:xfrm>
            <a:off x="1789200" y="6021360"/>
            <a:ext cx="334800" cy="335160"/>
          </a:xfrm>
          <a:custGeom>
            <a:avLst/>
            <a:gdLst/>
            <a:ahLst/>
            <a:rect l="l" t="t" r="r" b="b"/>
            <a:pathLst>
              <a:path w="335280" h="335279">
                <a:moveTo>
                  <a:pt x="167424" y="0"/>
                </a:moveTo>
                <a:lnTo>
                  <a:pt x="122893" y="5975"/>
                </a:lnTo>
                <a:lnTo>
                  <a:pt x="82892" y="22843"/>
                </a:lnTo>
                <a:lnTo>
                  <a:pt x="49012" y="49012"/>
                </a:lnTo>
                <a:lnTo>
                  <a:pt x="22843" y="82892"/>
                </a:lnTo>
                <a:lnTo>
                  <a:pt x="5975" y="122893"/>
                </a:lnTo>
                <a:lnTo>
                  <a:pt x="0" y="167424"/>
                </a:lnTo>
                <a:lnTo>
                  <a:pt x="5975" y="211955"/>
                </a:lnTo>
                <a:lnTo>
                  <a:pt x="22843" y="251955"/>
                </a:lnTo>
                <a:lnTo>
                  <a:pt x="49012" y="285835"/>
                </a:lnTo>
                <a:lnTo>
                  <a:pt x="82892" y="312004"/>
                </a:lnTo>
                <a:lnTo>
                  <a:pt x="122893" y="328872"/>
                </a:lnTo>
                <a:lnTo>
                  <a:pt x="167424" y="334848"/>
                </a:lnTo>
                <a:lnTo>
                  <a:pt x="211708" y="328921"/>
                </a:lnTo>
                <a:lnTo>
                  <a:pt x="224185" y="323684"/>
                </a:lnTo>
                <a:lnTo>
                  <a:pt x="167424" y="323684"/>
                </a:lnTo>
                <a:lnTo>
                  <a:pt x="117991" y="315729"/>
                </a:lnTo>
                <a:lnTo>
                  <a:pt x="75090" y="293567"/>
                </a:lnTo>
                <a:lnTo>
                  <a:pt x="41280" y="259757"/>
                </a:lnTo>
                <a:lnTo>
                  <a:pt x="19118" y="216856"/>
                </a:lnTo>
                <a:lnTo>
                  <a:pt x="11163" y="167424"/>
                </a:lnTo>
                <a:lnTo>
                  <a:pt x="19048" y="118269"/>
                </a:lnTo>
                <a:lnTo>
                  <a:pt x="41068" y="75403"/>
                </a:lnTo>
                <a:lnTo>
                  <a:pt x="74772" y="41489"/>
                </a:lnTo>
                <a:lnTo>
                  <a:pt x="117708" y="19188"/>
                </a:lnTo>
                <a:lnTo>
                  <a:pt x="167424" y="11163"/>
                </a:lnTo>
                <a:lnTo>
                  <a:pt x="224256" y="11163"/>
                </a:lnTo>
                <a:lnTo>
                  <a:pt x="211955" y="5975"/>
                </a:lnTo>
                <a:lnTo>
                  <a:pt x="167424" y="0"/>
                </a:lnTo>
                <a:close/>
              </a:path>
              <a:path w="335280" h="335279">
                <a:moveTo>
                  <a:pt x="224256" y="11163"/>
                </a:moveTo>
                <a:lnTo>
                  <a:pt x="167424" y="11163"/>
                </a:lnTo>
                <a:lnTo>
                  <a:pt x="216856" y="19118"/>
                </a:lnTo>
                <a:lnTo>
                  <a:pt x="259757" y="41280"/>
                </a:lnTo>
                <a:lnTo>
                  <a:pt x="293567" y="75090"/>
                </a:lnTo>
                <a:lnTo>
                  <a:pt x="315729" y="117991"/>
                </a:lnTo>
                <a:lnTo>
                  <a:pt x="323684" y="167424"/>
                </a:lnTo>
                <a:lnTo>
                  <a:pt x="315729" y="216856"/>
                </a:lnTo>
                <a:lnTo>
                  <a:pt x="293567" y="259757"/>
                </a:lnTo>
                <a:lnTo>
                  <a:pt x="259757" y="293567"/>
                </a:lnTo>
                <a:lnTo>
                  <a:pt x="216856" y="315729"/>
                </a:lnTo>
                <a:lnTo>
                  <a:pt x="167424" y="323684"/>
                </a:lnTo>
                <a:lnTo>
                  <a:pt x="224185" y="323684"/>
                </a:lnTo>
                <a:lnTo>
                  <a:pt x="285569" y="286102"/>
                </a:lnTo>
                <a:lnTo>
                  <a:pt x="311846" y="252271"/>
                </a:lnTo>
                <a:lnTo>
                  <a:pt x="328822" y="212202"/>
                </a:lnTo>
                <a:lnTo>
                  <a:pt x="334848" y="167424"/>
                </a:lnTo>
                <a:lnTo>
                  <a:pt x="328872" y="122893"/>
                </a:lnTo>
                <a:lnTo>
                  <a:pt x="312004" y="82892"/>
                </a:lnTo>
                <a:lnTo>
                  <a:pt x="285835" y="49012"/>
                </a:lnTo>
                <a:lnTo>
                  <a:pt x="251955" y="22843"/>
                </a:lnTo>
                <a:lnTo>
                  <a:pt x="224256" y="11163"/>
                </a:lnTo>
                <a:close/>
              </a:path>
              <a:path w="335280" h="335279">
                <a:moveTo>
                  <a:pt x="114134" y="230073"/>
                </a:moveTo>
                <a:lnTo>
                  <a:pt x="141428" y="259883"/>
                </a:lnTo>
                <a:lnTo>
                  <a:pt x="157695" y="261035"/>
                </a:lnTo>
                <a:lnTo>
                  <a:pt x="186095" y="256371"/>
                </a:lnTo>
                <a:lnTo>
                  <a:pt x="208553" y="243436"/>
                </a:lnTo>
                <a:lnTo>
                  <a:pt x="210208" y="241236"/>
                </a:lnTo>
                <a:lnTo>
                  <a:pt x="157695" y="241236"/>
                </a:lnTo>
                <a:lnTo>
                  <a:pt x="144051" y="240201"/>
                </a:lnTo>
                <a:lnTo>
                  <a:pt x="131995" y="237545"/>
                </a:lnTo>
                <a:lnTo>
                  <a:pt x="121900" y="233944"/>
                </a:lnTo>
                <a:lnTo>
                  <a:pt x="114134" y="230073"/>
                </a:lnTo>
                <a:close/>
              </a:path>
              <a:path w="335280" h="335279">
                <a:moveTo>
                  <a:pt x="211681" y="160947"/>
                </a:moveTo>
                <a:lnTo>
                  <a:pt x="148704" y="160947"/>
                </a:lnTo>
                <a:lnTo>
                  <a:pt x="174166" y="164080"/>
                </a:lnTo>
                <a:lnTo>
                  <a:pt x="191227" y="172781"/>
                </a:lnTo>
                <a:lnTo>
                  <a:pt x="200796" y="186005"/>
                </a:lnTo>
                <a:lnTo>
                  <a:pt x="203784" y="202704"/>
                </a:lnTo>
                <a:lnTo>
                  <a:pt x="200229" y="217533"/>
                </a:lnTo>
                <a:lnTo>
                  <a:pt x="190465" y="229800"/>
                </a:lnTo>
                <a:lnTo>
                  <a:pt x="175837" y="238151"/>
                </a:lnTo>
                <a:lnTo>
                  <a:pt x="157695" y="241236"/>
                </a:lnTo>
                <a:lnTo>
                  <a:pt x="210208" y="241236"/>
                </a:lnTo>
                <a:lnTo>
                  <a:pt x="223314" y="223820"/>
                </a:lnTo>
                <a:lnTo>
                  <a:pt x="228625" y="199110"/>
                </a:lnTo>
                <a:lnTo>
                  <a:pt x="222943" y="174214"/>
                </a:lnTo>
                <a:lnTo>
                  <a:pt x="211681" y="160947"/>
                </a:lnTo>
                <a:close/>
              </a:path>
              <a:path w="335280" h="335279">
                <a:moveTo>
                  <a:pt x="223951" y="76682"/>
                </a:moveTo>
                <a:lnTo>
                  <a:pt x="130327" y="76682"/>
                </a:lnTo>
                <a:lnTo>
                  <a:pt x="119532" y="163461"/>
                </a:lnTo>
                <a:lnTo>
                  <a:pt x="125662" y="162613"/>
                </a:lnTo>
                <a:lnTo>
                  <a:pt x="132632" y="161799"/>
                </a:lnTo>
                <a:lnTo>
                  <a:pt x="140345" y="161188"/>
                </a:lnTo>
                <a:lnTo>
                  <a:pt x="148704" y="160947"/>
                </a:lnTo>
                <a:lnTo>
                  <a:pt x="211681" y="160947"/>
                </a:lnTo>
                <a:lnTo>
                  <a:pt x="207743" y="156306"/>
                </a:lnTo>
                <a:lnTo>
                  <a:pt x="185795" y="145487"/>
                </a:lnTo>
                <a:lnTo>
                  <a:pt x="172752" y="143662"/>
                </a:lnTo>
                <a:lnTo>
                  <a:pt x="141846" y="143662"/>
                </a:lnTo>
                <a:lnTo>
                  <a:pt x="148704" y="96850"/>
                </a:lnTo>
                <a:lnTo>
                  <a:pt x="223951" y="96850"/>
                </a:lnTo>
                <a:lnTo>
                  <a:pt x="223951" y="76682"/>
                </a:lnTo>
                <a:close/>
              </a:path>
              <a:path w="335280" h="335279">
                <a:moveTo>
                  <a:pt x="159867" y="141859"/>
                </a:moveTo>
                <a:lnTo>
                  <a:pt x="152653" y="141859"/>
                </a:lnTo>
                <a:lnTo>
                  <a:pt x="146900" y="142582"/>
                </a:lnTo>
                <a:lnTo>
                  <a:pt x="141846" y="143662"/>
                </a:lnTo>
                <a:lnTo>
                  <a:pt x="172752" y="143662"/>
                </a:lnTo>
                <a:lnTo>
                  <a:pt x="159867" y="141859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bject 28"/>
          <p:cNvSpPr/>
          <p:nvPr/>
        </p:nvSpPr>
        <p:spPr>
          <a:xfrm>
            <a:off x="6827760" y="6021360"/>
            <a:ext cx="335160" cy="335160"/>
          </a:xfrm>
          <a:custGeom>
            <a:avLst/>
            <a:gdLst/>
            <a:ahLst/>
            <a:rect l="l" t="t" r="r" b="b"/>
            <a:pathLst>
              <a:path w="335279" h="335279">
                <a:moveTo>
                  <a:pt x="167436" y="0"/>
                </a:moveTo>
                <a:lnTo>
                  <a:pt x="122904" y="5975"/>
                </a:lnTo>
                <a:lnTo>
                  <a:pt x="82901" y="22843"/>
                </a:lnTo>
                <a:lnTo>
                  <a:pt x="49018" y="49012"/>
                </a:lnTo>
                <a:lnTo>
                  <a:pt x="22846" y="82892"/>
                </a:lnTo>
                <a:lnTo>
                  <a:pt x="5976" y="122893"/>
                </a:lnTo>
                <a:lnTo>
                  <a:pt x="0" y="167424"/>
                </a:lnTo>
                <a:lnTo>
                  <a:pt x="5976" y="211955"/>
                </a:lnTo>
                <a:lnTo>
                  <a:pt x="22846" y="251955"/>
                </a:lnTo>
                <a:lnTo>
                  <a:pt x="49018" y="285835"/>
                </a:lnTo>
                <a:lnTo>
                  <a:pt x="82901" y="312004"/>
                </a:lnTo>
                <a:lnTo>
                  <a:pt x="122904" y="328872"/>
                </a:lnTo>
                <a:lnTo>
                  <a:pt x="167436" y="334848"/>
                </a:lnTo>
                <a:lnTo>
                  <a:pt x="211716" y="328922"/>
                </a:lnTo>
                <a:lnTo>
                  <a:pt x="224197" y="323684"/>
                </a:lnTo>
                <a:lnTo>
                  <a:pt x="167436" y="323684"/>
                </a:lnTo>
                <a:lnTo>
                  <a:pt x="117997" y="315729"/>
                </a:lnTo>
                <a:lnTo>
                  <a:pt x="75093" y="293567"/>
                </a:lnTo>
                <a:lnTo>
                  <a:pt x="41281" y="259757"/>
                </a:lnTo>
                <a:lnTo>
                  <a:pt x="19119" y="216856"/>
                </a:lnTo>
                <a:lnTo>
                  <a:pt x="11163" y="167424"/>
                </a:lnTo>
                <a:lnTo>
                  <a:pt x="19050" y="118269"/>
                </a:lnTo>
                <a:lnTo>
                  <a:pt x="41076" y="75403"/>
                </a:lnTo>
                <a:lnTo>
                  <a:pt x="74786" y="41489"/>
                </a:lnTo>
                <a:lnTo>
                  <a:pt x="117724" y="19188"/>
                </a:lnTo>
                <a:lnTo>
                  <a:pt x="167436" y="11163"/>
                </a:lnTo>
                <a:lnTo>
                  <a:pt x="224269" y="11163"/>
                </a:lnTo>
                <a:lnTo>
                  <a:pt x="211967" y="5975"/>
                </a:lnTo>
                <a:lnTo>
                  <a:pt x="167436" y="0"/>
                </a:lnTo>
                <a:close/>
              </a:path>
              <a:path w="335279" h="335279">
                <a:moveTo>
                  <a:pt x="224269" y="11163"/>
                </a:moveTo>
                <a:lnTo>
                  <a:pt x="167436" y="11163"/>
                </a:lnTo>
                <a:lnTo>
                  <a:pt x="216869" y="19118"/>
                </a:lnTo>
                <a:lnTo>
                  <a:pt x="259770" y="41280"/>
                </a:lnTo>
                <a:lnTo>
                  <a:pt x="293580" y="75090"/>
                </a:lnTo>
                <a:lnTo>
                  <a:pt x="315741" y="117991"/>
                </a:lnTo>
                <a:lnTo>
                  <a:pt x="323697" y="167424"/>
                </a:lnTo>
                <a:lnTo>
                  <a:pt x="315741" y="216856"/>
                </a:lnTo>
                <a:lnTo>
                  <a:pt x="293580" y="259757"/>
                </a:lnTo>
                <a:lnTo>
                  <a:pt x="259770" y="293567"/>
                </a:lnTo>
                <a:lnTo>
                  <a:pt x="216869" y="315729"/>
                </a:lnTo>
                <a:lnTo>
                  <a:pt x="167436" y="323684"/>
                </a:lnTo>
                <a:lnTo>
                  <a:pt x="224197" y="323684"/>
                </a:lnTo>
                <a:lnTo>
                  <a:pt x="285576" y="286107"/>
                </a:lnTo>
                <a:lnTo>
                  <a:pt x="311856" y="252277"/>
                </a:lnTo>
                <a:lnTo>
                  <a:pt x="328834" y="212206"/>
                </a:lnTo>
                <a:lnTo>
                  <a:pt x="334860" y="167424"/>
                </a:lnTo>
                <a:lnTo>
                  <a:pt x="328884" y="122893"/>
                </a:lnTo>
                <a:lnTo>
                  <a:pt x="312017" y="82892"/>
                </a:lnTo>
                <a:lnTo>
                  <a:pt x="285848" y="49012"/>
                </a:lnTo>
                <a:lnTo>
                  <a:pt x="251968" y="22843"/>
                </a:lnTo>
                <a:lnTo>
                  <a:pt x="224269" y="11163"/>
                </a:lnTo>
                <a:close/>
              </a:path>
              <a:path w="335279" h="335279">
                <a:moveTo>
                  <a:pt x="209008" y="73735"/>
                </a:moveTo>
                <a:lnTo>
                  <a:pt x="152258" y="86194"/>
                </a:lnTo>
                <a:lnTo>
                  <a:pt x="106886" y="141525"/>
                </a:lnTo>
                <a:lnTo>
                  <a:pt x="100469" y="182892"/>
                </a:lnTo>
                <a:lnTo>
                  <a:pt x="105536" y="217433"/>
                </a:lnTo>
                <a:lnTo>
                  <a:pt x="119410" y="241814"/>
                </a:lnTo>
                <a:lnTo>
                  <a:pt x="140101" y="256269"/>
                </a:lnTo>
                <a:lnTo>
                  <a:pt x="165620" y="261035"/>
                </a:lnTo>
                <a:lnTo>
                  <a:pt x="194087" y="255448"/>
                </a:lnTo>
                <a:lnTo>
                  <a:pt x="211628" y="243395"/>
                </a:lnTo>
                <a:lnTo>
                  <a:pt x="168516" y="243395"/>
                </a:lnTo>
                <a:lnTo>
                  <a:pt x="145889" y="237528"/>
                </a:lnTo>
                <a:lnTo>
                  <a:pt x="132278" y="223189"/>
                </a:lnTo>
                <a:lnTo>
                  <a:pt x="125623" y="205269"/>
                </a:lnTo>
                <a:lnTo>
                  <a:pt x="123863" y="188658"/>
                </a:lnTo>
                <a:lnTo>
                  <a:pt x="127919" y="175643"/>
                </a:lnTo>
                <a:lnTo>
                  <a:pt x="138490" y="165261"/>
                </a:lnTo>
                <a:lnTo>
                  <a:pt x="149262" y="160223"/>
                </a:lnTo>
                <a:lnTo>
                  <a:pt x="125310" y="160223"/>
                </a:lnTo>
                <a:lnTo>
                  <a:pt x="152449" y="110531"/>
                </a:lnTo>
                <a:lnTo>
                  <a:pt x="191198" y="95415"/>
                </a:lnTo>
                <a:lnTo>
                  <a:pt x="203085" y="93980"/>
                </a:lnTo>
                <a:lnTo>
                  <a:pt x="214604" y="93980"/>
                </a:lnTo>
                <a:lnTo>
                  <a:pt x="214604" y="73812"/>
                </a:lnTo>
                <a:lnTo>
                  <a:pt x="209008" y="73735"/>
                </a:lnTo>
                <a:close/>
              </a:path>
              <a:path w="335279" h="335279">
                <a:moveTo>
                  <a:pt x="218662" y="155905"/>
                </a:moveTo>
                <a:lnTo>
                  <a:pt x="169595" y="155905"/>
                </a:lnTo>
                <a:lnTo>
                  <a:pt x="186531" y="159313"/>
                </a:lnTo>
                <a:lnTo>
                  <a:pt x="199250" y="168325"/>
                </a:lnTo>
                <a:lnTo>
                  <a:pt x="207311" y="181119"/>
                </a:lnTo>
                <a:lnTo>
                  <a:pt x="210273" y="195872"/>
                </a:lnTo>
                <a:lnTo>
                  <a:pt x="207546" y="212866"/>
                </a:lnTo>
                <a:lnTo>
                  <a:pt x="199520" y="228139"/>
                </a:lnTo>
                <a:lnTo>
                  <a:pt x="186431" y="239159"/>
                </a:lnTo>
                <a:lnTo>
                  <a:pt x="168516" y="243395"/>
                </a:lnTo>
                <a:lnTo>
                  <a:pt x="211628" y="243395"/>
                </a:lnTo>
                <a:lnTo>
                  <a:pt x="215630" y="240645"/>
                </a:lnTo>
                <a:lnTo>
                  <a:pt x="229271" y="219566"/>
                </a:lnTo>
                <a:lnTo>
                  <a:pt x="234035" y="195148"/>
                </a:lnTo>
                <a:lnTo>
                  <a:pt x="230189" y="174164"/>
                </a:lnTo>
                <a:lnTo>
                  <a:pt x="218919" y="156083"/>
                </a:lnTo>
                <a:lnTo>
                  <a:pt x="218662" y="155905"/>
                </a:lnTo>
                <a:close/>
              </a:path>
              <a:path w="335279" h="335279">
                <a:moveTo>
                  <a:pt x="175704" y="138620"/>
                </a:moveTo>
                <a:lnTo>
                  <a:pt x="161723" y="139813"/>
                </a:lnTo>
                <a:lnTo>
                  <a:pt x="148618" y="143570"/>
                </a:lnTo>
                <a:lnTo>
                  <a:pt x="136728" y="150161"/>
                </a:lnTo>
                <a:lnTo>
                  <a:pt x="126390" y="159854"/>
                </a:lnTo>
                <a:lnTo>
                  <a:pt x="125310" y="160223"/>
                </a:lnTo>
                <a:lnTo>
                  <a:pt x="149262" y="160223"/>
                </a:lnTo>
                <a:lnTo>
                  <a:pt x="153181" y="158390"/>
                </a:lnTo>
                <a:lnTo>
                  <a:pt x="169595" y="155905"/>
                </a:lnTo>
                <a:lnTo>
                  <a:pt x="218662" y="155905"/>
                </a:lnTo>
                <a:lnTo>
                  <a:pt x="200624" y="143402"/>
                </a:lnTo>
                <a:lnTo>
                  <a:pt x="175704" y="138620"/>
                </a:lnTo>
                <a:close/>
              </a:path>
              <a:path w="335279" h="335279">
                <a:moveTo>
                  <a:pt x="214604" y="93980"/>
                </a:moveTo>
                <a:lnTo>
                  <a:pt x="212445" y="93980"/>
                </a:lnTo>
                <a:lnTo>
                  <a:pt x="214604" y="94335"/>
                </a:lnTo>
                <a:lnTo>
                  <a:pt x="214604" y="93980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bject 29"/>
          <p:cNvSpPr/>
          <p:nvPr/>
        </p:nvSpPr>
        <p:spPr>
          <a:xfrm>
            <a:off x="1789200" y="6850080"/>
            <a:ext cx="334800" cy="334800"/>
          </a:xfrm>
          <a:custGeom>
            <a:avLst/>
            <a:gdLst/>
            <a:ahLst/>
            <a:rect l="l" t="t" r="r" b="b"/>
            <a:pathLst>
              <a:path w="335280" h="335279">
                <a:moveTo>
                  <a:pt x="167424" y="0"/>
                </a:moveTo>
                <a:lnTo>
                  <a:pt x="122893" y="5975"/>
                </a:lnTo>
                <a:lnTo>
                  <a:pt x="82892" y="22840"/>
                </a:lnTo>
                <a:lnTo>
                  <a:pt x="49012" y="49007"/>
                </a:lnTo>
                <a:lnTo>
                  <a:pt x="22843" y="82886"/>
                </a:lnTo>
                <a:lnTo>
                  <a:pt x="5975" y="122888"/>
                </a:lnTo>
                <a:lnTo>
                  <a:pt x="0" y="167424"/>
                </a:lnTo>
                <a:lnTo>
                  <a:pt x="5975" y="211955"/>
                </a:lnTo>
                <a:lnTo>
                  <a:pt x="22843" y="251955"/>
                </a:lnTo>
                <a:lnTo>
                  <a:pt x="49012" y="285835"/>
                </a:lnTo>
                <a:lnTo>
                  <a:pt x="82892" y="312004"/>
                </a:lnTo>
                <a:lnTo>
                  <a:pt x="122893" y="328872"/>
                </a:lnTo>
                <a:lnTo>
                  <a:pt x="167424" y="334848"/>
                </a:lnTo>
                <a:lnTo>
                  <a:pt x="211708" y="328921"/>
                </a:lnTo>
                <a:lnTo>
                  <a:pt x="224185" y="323684"/>
                </a:lnTo>
                <a:lnTo>
                  <a:pt x="167424" y="323684"/>
                </a:lnTo>
                <a:lnTo>
                  <a:pt x="117991" y="315729"/>
                </a:lnTo>
                <a:lnTo>
                  <a:pt x="75090" y="293567"/>
                </a:lnTo>
                <a:lnTo>
                  <a:pt x="41280" y="259757"/>
                </a:lnTo>
                <a:lnTo>
                  <a:pt x="19118" y="216856"/>
                </a:lnTo>
                <a:lnTo>
                  <a:pt x="11163" y="167424"/>
                </a:lnTo>
                <a:lnTo>
                  <a:pt x="19049" y="118264"/>
                </a:lnTo>
                <a:lnTo>
                  <a:pt x="41072" y="75398"/>
                </a:lnTo>
                <a:lnTo>
                  <a:pt x="74778" y="41485"/>
                </a:lnTo>
                <a:lnTo>
                  <a:pt x="117713" y="19187"/>
                </a:lnTo>
                <a:lnTo>
                  <a:pt x="167424" y="11163"/>
                </a:lnTo>
                <a:lnTo>
                  <a:pt x="224260" y="11163"/>
                </a:lnTo>
                <a:lnTo>
                  <a:pt x="211955" y="5975"/>
                </a:lnTo>
                <a:lnTo>
                  <a:pt x="167424" y="0"/>
                </a:lnTo>
                <a:close/>
              </a:path>
              <a:path w="335280" h="335279">
                <a:moveTo>
                  <a:pt x="224260" y="11163"/>
                </a:moveTo>
                <a:lnTo>
                  <a:pt x="167424" y="11163"/>
                </a:lnTo>
                <a:lnTo>
                  <a:pt x="216856" y="19118"/>
                </a:lnTo>
                <a:lnTo>
                  <a:pt x="259757" y="41280"/>
                </a:lnTo>
                <a:lnTo>
                  <a:pt x="293567" y="75090"/>
                </a:lnTo>
                <a:lnTo>
                  <a:pt x="315729" y="117991"/>
                </a:lnTo>
                <a:lnTo>
                  <a:pt x="323684" y="167424"/>
                </a:lnTo>
                <a:lnTo>
                  <a:pt x="315729" y="216856"/>
                </a:lnTo>
                <a:lnTo>
                  <a:pt x="293567" y="259757"/>
                </a:lnTo>
                <a:lnTo>
                  <a:pt x="259757" y="293567"/>
                </a:lnTo>
                <a:lnTo>
                  <a:pt x="216856" y="315729"/>
                </a:lnTo>
                <a:lnTo>
                  <a:pt x="167424" y="323684"/>
                </a:lnTo>
                <a:lnTo>
                  <a:pt x="224185" y="323684"/>
                </a:lnTo>
                <a:lnTo>
                  <a:pt x="285569" y="286102"/>
                </a:lnTo>
                <a:lnTo>
                  <a:pt x="311846" y="252271"/>
                </a:lnTo>
                <a:lnTo>
                  <a:pt x="328822" y="212202"/>
                </a:lnTo>
                <a:lnTo>
                  <a:pt x="334848" y="167424"/>
                </a:lnTo>
                <a:lnTo>
                  <a:pt x="328872" y="122888"/>
                </a:lnTo>
                <a:lnTo>
                  <a:pt x="312004" y="82886"/>
                </a:lnTo>
                <a:lnTo>
                  <a:pt x="285835" y="49007"/>
                </a:lnTo>
                <a:lnTo>
                  <a:pt x="251955" y="22840"/>
                </a:lnTo>
                <a:lnTo>
                  <a:pt x="224260" y="11163"/>
                </a:lnTo>
                <a:close/>
              </a:path>
              <a:path w="335280" h="335279">
                <a:moveTo>
                  <a:pt x="230073" y="76682"/>
                </a:moveTo>
                <a:lnTo>
                  <a:pt x="106921" y="76682"/>
                </a:lnTo>
                <a:lnTo>
                  <a:pt x="106921" y="96850"/>
                </a:lnTo>
                <a:lnTo>
                  <a:pt x="205219" y="96850"/>
                </a:lnTo>
                <a:lnTo>
                  <a:pt x="205219" y="97574"/>
                </a:lnTo>
                <a:lnTo>
                  <a:pt x="116293" y="259956"/>
                </a:lnTo>
                <a:lnTo>
                  <a:pt x="141490" y="259956"/>
                </a:lnTo>
                <a:lnTo>
                  <a:pt x="230073" y="94335"/>
                </a:lnTo>
                <a:lnTo>
                  <a:pt x="230073" y="76682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bject 30"/>
          <p:cNvSpPr/>
          <p:nvPr/>
        </p:nvSpPr>
        <p:spPr>
          <a:xfrm>
            <a:off x="6827760" y="6850080"/>
            <a:ext cx="335160" cy="334800"/>
          </a:xfrm>
          <a:custGeom>
            <a:avLst/>
            <a:gdLst/>
            <a:ahLst/>
            <a:rect l="l" t="t" r="r" b="b"/>
            <a:pathLst>
              <a:path w="335279" h="335279">
                <a:moveTo>
                  <a:pt x="167436" y="0"/>
                </a:moveTo>
                <a:lnTo>
                  <a:pt x="122904" y="5974"/>
                </a:lnTo>
                <a:lnTo>
                  <a:pt x="82901" y="22840"/>
                </a:lnTo>
                <a:lnTo>
                  <a:pt x="49018" y="49006"/>
                </a:lnTo>
                <a:lnTo>
                  <a:pt x="22846" y="82883"/>
                </a:lnTo>
                <a:lnTo>
                  <a:pt x="5976" y="122881"/>
                </a:lnTo>
                <a:lnTo>
                  <a:pt x="0" y="167411"/>
                </a:lnTo>
                <a:lnTo>
                  <a:pt x="5976" y="211943"/>
                </a:lnTo>
                <a:lnTo>
                  <a:pt x="22846" y="251946"/>
                </a:lnTo>
                <a:lnTo>
                  <a:pt x="49018" y="285829"/>
                </a:lnTo>
                <a:lnTo>
                  <a:pt x="82901" y="312001"/>
                </a:lnTo>
                <a:lnTo>
                  <a:pt x="122904" y="328871"/>
                </a:lnTo>
                <a:lnTo>
                  <a:pt x="167436" y="334848"/>
                </a:lnTo>
                <a:lnTo>
                  <a:pt x="211716" y="328921"/>
                </a:lnTo>
                <a:lnTo>
                  <a:pt x="224193" y="323684"/>
                </a:lnTo>
                <a:lnTo>
                  <a:pt x="167436" y="323684"/>
                </a:lnTo>
                <a:lnTo>
                  <a:pt x="117997" y="315729"/>
                </a:lnTo>
                <a:lnTo>
                  <a:pt x="75093" y="293566"/>
                </a:lnTo>
                <a:lnTo>
                  <a:pt x="41281" y="259754"/>
                </a:lnTo>
                <a:lnTo>
                  <a:pt x="19119" y="216850"/>
                </a:lnTo>
                <a:lnTo>
                  <a:pt x="11163" y="167411"/>
                </a:lnTo>
                <a:lnTo>
                  <a:pt x="19050" y="118257"/>
                </a:lnTo>
                <a:lnTo>
                  <a:pt x="41076" y="75395"/>
                </a:lnTo>
                <a:lnTo>
                  <a:pt x="74786" y="41484"/>
                </a:lnTo>
                <a:lnTo>
                  <a:pt x="117724" y="19187"/>
                </a:lnTo>
                <a:lnTo>
                  <a:pt x="167436" y="11163"/>
                </a:lnTo>
                <a:lnTo>
                  <a:pt x="224273" y="11163"/>
                </a:lnTo>
                <a:lnTo>
                  <a:pt x="211967" y="5974"/>
                </a:lnTo>
                <a:lnTo>
                  <a:pt x="167436" y="0"/>
                </a:lnTo>
                <a:close/>
              </a:path>
              <a:path w="335279" h="335279">
                <a:moveTo>
                  <a:pt x="224273" y="11163"/>
                </a:moveTo>
                <a:lnTo>
                  <a:pt x="167436" y="11163"/>
                </a:lnTo>
                <a:lnTo>
                  <a:pt x="216869" y="19118"/>
                </a:lnTo>
                <a:lnTo>
                  <a:pt x="259770" y="41279"/>
                </a:lnTo>
                <a:lnTo>
                  <a:pt x="293580" y="75088"/>
                </a:lnTo>
                <a:lnTo>
                  <a:pt x="315741" y="117984"/>
                </a:lnTo>
                <a:lnTo>
                  <a:pt x="323697" y="167411"/>
                </a:lnTo>
                <a:lnTo>
                  <a:pt x="315741" y="216850"/>
                </a:lnTo>
                <a:lnTo>
                  <a:pt x="293580" y="259754"/>
                </a:lnTo>
                <a:lnTo>
                  <a:pt x="259770" y="293566"/>
                </a:lnTo>
                <a:lnTo>
                  <a:pt x="216869" y="315729"/>
                </a:lnTo>
                <a:lnTo>
                  <a:pt x="167436" y="323684"/>
                </a:lnTo>
                <a:lnTo>
                  <a:pt x="224193" y="323684"/>
                </a:lnTo>
                <a:lnTo>
                  <a:pt x="285576" y="286100"/>
                </a:lnTo>
                <a:lnTo>
                  <a:pt x="311856" y="252268"/>
                </a:lnTo>
                <a:lnTo>
                  <a:pt x="328834" y="212194"/>
                </a:lnTo>
                <a:lnTo>
                  <a:pt x="334860" y="167411"/>
                </a:lnTo>
                <a:lnTo>
                  <a:pt x="328884" y="122881"/>
                </a:lnTo>
                <a:lnTo>
                  <a:pt x="312017" y="82883"/>
                </a:lnTo>
                <a:lnTo>
                  <a:pt x="285848" y="49006"/>
                </a:lnTo>
                <a:lnTo>
                  <a:pt x="251968" y="22840"/>
                </a:lnTo>
                <a:lnTo>
                  <a:pt x="224273" y="11163"/>
                </a:lnTo>
                <a:close/>
              </a:path>
              <a:path w="335279" h="335279">
                <a:moveTo>
                  <a:pt x="169240" y="73799"/>
                </a:moveTo>
                <a:lnTo>
                  <a:pt x="144523" y="77450"/>
                </a:lnTo>
                <a:lnTo>
                  <a:pt x="124902" y="87617"/>
                </a:lnTo>
                <a:lnTo>
                  <a:pt x="111966" y="103117"/>
                </a:lnTo>
                <a:lnTo>
                  <a:pt x="107302" y="122770"/>
                </a:lnTo>
                <a:lnTo>
                  <a:pt x="108911" y="134075"/>
                </a:lnTo>
                <a:lnTo>
                  <a:pt x="114234" y="144872"/>
                </a:lnTo>
                <a:lnTo>
                  <a:pt x="124013" y="154521"/>
                </a:lnTo>
                <a:lnTo>
                  <a:pt x="138988" y="162382"/>
                </a:lnTo>
                <a:lnTo>
                  <a:pt x="138988" y="163461"/>
                </a:lnTo>
                <a:lnTo>
                  <a:pt x="121821" y="171992"/>
                </a:lnTo>
                <a:lnTo>
                  <a:pt x="109686" y="182854"/>
                </a:lnTo>
                <a:lnTo>
                  <a:pt x="102480" y="195812"/>
                </a:lnTo>
                <a:lnTo>
                  <a:pt x="100101" y="210629"/>
                </a:lnTo>
                <a:lnTo>
                  <a:pt x="105400" y="232021"/>
                </a:lnTo>
                <a:lnTo>
                  <a:pt x="119813" y="247842"/>
                </a:lnTo>
                <a:lnTo>
                  <a:pt x="141115" y="257655"/>
                </a:lnTo>
                <a:lnTo>
                  <a:pt x="167081" y="261023"/>
                </a:lnTo>
                <a:lnTo>
                  <a:pt x="192482" y="257496"/>
                </a:lnTo>
                <a:lnTo>
                  <a:pt x="213966" y="247119"/>
                </a:lnTo>
                <a:lnTo>
                  <a:pt x="216613" y="244106"/>
                </a:lnTo>
                <a:lnTo>
                  <a:pt x="167436" y="244106"/>
                </a:lnTo>
                <a:lnTo>
                  <a:pt x="148926" y="241130"/>
                </a:lnTo>
                <a:lnTo>
                  <a:pt x="135248" y="233259"/>
                </a:lnTo>
                <a:lnTo>
                  <a:pt x="126771" y="222080"/>
                </a:lnTo>
                <a:lnTo>
                  <a:pt x="123863" y="209181"/>
                </a:lnTo>
                <a:lnTo>
                  <a:pt x="123935" y="207022"/>
                </a:lnTo>
                <a:lnTo>
                  <a:pt x="126434" y="194395"/>
                </a:lnTo>
                <a:lnTo>
                  <a:pt x="133900" y="183664"/>
                </a:lnTo>
                <a:lnTo>
                  <a:pt x="145889" y="175433"/>
                </a:lnTo>
                <a:lnTo>
                  <a:pt x="162026" y="169938"/>
                </a:lnTo>
                <a:lnTo>
                  <a:pt x="212957" y="169938"/>
                </a:lnTo>
                <a:lnTo>
                  <a:pt x="212070" y="169198"/>
                </a:lnTo>
                <a:lnTo>
                  <a:pt x="194437" y="161658"/>
                </a:lnTo>
                <a:lnTo>
                  <a:pt x="194437" y="160578"/>
                </a:lnTo>
                <a:lnTo>
                  <a:pt x="204332" y="155168"/>
                </a:lnTo>
                <a:lnTo>
                  <a:pt x="172110" y="155168"/>
                </a:lnTo>
                <a:lnTo>
                  <a:pt x="154193" y="150354"/>
                </a:lnTo>
                <a:lnTo>
                  <a:pt x="141100" y="143341"/>
                </a:lnTo>
                <a:lnTo>
                  <a:pt x="133069" y="133962"/>
                </a:lnTo>
                <a:lnTo>
                  <a:pt x="130340" y="122046"/>
                </a:lnTo>
                <a:lnTo>
                  <a:pt x="132765" y="110014"/>
                </a:lnTo>
                <a:lnTo>
                  <a:pt x="140019" y="100037"/>
                </a:lnTo>
                <a:lnTo>
                  <a:pt x="152066" y="93232"/>
                </a:lnTo>
                <a:lnTo>
                  <a:pt x="168871" y="90716"/>
                </a:lnTo>
                <a:lnTo>
                  <a:pt x="215263" y="90716"/>
                </a:lnTo>
                <a:lnTo>
                  <a:pt x="212034" y="86717"/>
                </a:lnTo>
                <a:lnTo>
                  <a:pt x="193691" y="77237"/>
                </a:lnTo>
                <a:lnTo>
                  <a:pt x="169240" y="73799"/>
                </a:lnTo>
                <a:close/>
              </a:path>
              <a:path w="335279" h="335279">
                <a:moveTo>
                  <a:pt x="212957" y="169938"/>
                </a:moveTo>
                <a:lnTo>
                  <a:pt x="162026" y="169938"/>
                </a:lnTo>
                <a:lnTo>
                  <a:pt x="182746" y="175174"/>
                </a:lnTo>
                <a:lnTo>
                  <a:pt x="198127" y="183213"/>
                </a:lnTo>
                <a:lnTo>
                  <a:pt x="207701" y="194695"/>
                </a:lnTo>
                <a:lnTo>
                  <a:pt x="210997" y="210261"/>
                </a:lnTo>
                <a:lnTo>
                  <a:pt x="208341" y="222230"/>
                </a:lnTo>
                <a:lnTo>
                  <a:pt x="200285" y="233122"/>
                </a:lnTo>
                <a:lnTo>
                  <a:pt x="186694" y="241045"/>
                </a:lnTo>
                <a:lnTo>
                  <a:pt x="167436" y="244106"/>
                </a:lnTo>
                <a:lnTo>
                  <a:pt x="216613" y="244106"/>
                </a:lnTo>
                <a:lnTo>
                  <a:pt x="228835" y="230194"/>
                </a:lnTo>
                <a:lnTo>
                  <a:pt x="234391" y="207022"/>
                </a:lnTo>
                <a:lnTo>
                  <a:pt x="231945" y="192388"/>
                </a:lnTo>
                <a:lnTo>
                  <a:pt x="224539" y="179611"/>
                </a:lnTo>
                <a:lnTo>
                  <a:pt x="212957" y="169938"/>
                </a:lnTo>
                <a:close/>
              </a:path>
              <a:path w="335279" h="335279">
                <a:moveTo>
                  <a:pt x="215263" y="90716"/>
                </a:moveTo>
                <a:lnTo>
                  <a:pt x="168871" y="90716"/>
                </a:lnTo>
                <a:lnTo>
                  <a:pt x="186093" y="93671"/>
                </a:lnTo>
                <a:lnTo>
                  <a:pt x="197310" y="101117"/>
                </a:lnTo>
                <a:lnTo>
                  <a:pt x="203397" y="110925"/>
                </a:lnTo>
                <a:lnTo>
                  <a:pt x="205232" y="120967"/>
                </a:lnTo>
                <a:lnTo>
                  <a:pt x="202691" y="133608"/>
                </a:lnTo>
                <a:lnTo>
                  <a:pt x="195695" y="143478"/>
                </a:lnTo>
                <a:lnTo>
                  <a:pt x="185188" y="150642"/>
                </a:lnTo>
                <a:lnTo>
                  <a:pt x="172110" y="155168"/>
                </a:lnTo>
                <a:lnTo>
                  <a:pt x="204332" y="155168"/>
                </a:lnTo>
                <a:lnTo>
                  <a:pt x="211002" y="151521"/>
                </a:lnTo>
                <a:lnTo>
                  <a:pt x="221122" y="140774"/>
                </a:lnTo>
                <a:lnTo>
                  <a:pt x="226180" y="129487"/>
                </a:lnTo>
                <a:lnTo>
                  <a:pt x="227558" y="118808"/>
                </a:lnTo>
                <a:lnTo>
                  <a:pt x="223559" y="100990"/>
                </a:lnTo>
                <a:lnTo>
                  <a:pt x="215263" y="90716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bject 31"/>
          <p:cNvSpPr/>
          <p:nvPr/>
        </p:nvSpPr>
        <p:spPr>
          <a:xfrm>
            <a:off x="6827760" y="4368960"/>
            <a:ext cx="335160" cy="334800"/>
          </a:xfrm>
          <a:custGeom>
            <a:avLst/>
            <a:gdLst/>
            <a:ahLst/>
            <a:rect l="l" t="t" r="r" b="b"/>
            <a:pathLst>
              <a:path w="335279" h="335279">
                <a:moveTo>
                  <a:pt x="167436" y="0"/>
                </a:moveTo>
                <a:lnTo>
                  <a:pt x="122904" y="5974"/>
                </a:lnTo>
                <a:lnTo>
                  <a:pt x="82901" y="22840"/>
                </a:lnTo>
                <a:lnTo>
                  <a:pt x="49018" y="49006"/>
                </a:lnTo>
                <a:lnTo>
                  <a:pt x="22846" y="82883"/>
                </a:lnTo>
                <a:lnTo>
                  <a:pt x="5976" y="122881"/>
                </a:lnTo>
                <a:lnTo>
                  <a:pt x="0" y="167411"/>
                </a:lnTo>
                <a:lnTo>
                  <a:pt x="5976" y="211947"/>
                </a:lnTo>
                <a:lnTo>
                  <a:pt x="22846" y="251952"/>
                </a:lnTo>
                <a:lnTo>
                  <a:pt x="49018" y="285834"/>
                </a:lnTo>
                <a:lnTo>
                  <a:pt x="82901" y="312004"/>
                </a:lnTo>
                <a:lnTo>
                  <a:pt x="122904" y="328872"/>
                </a:lnTo>
                <a:lnTo>
                  <a:pt x="167436" y="334848"/>
                </a:lnTo>
                <a:lnTo>
                  <a:pt x="211716" y="328921"/>
                </a:lnTo>
                <a:lnTo>
                  <a:pt x="224193" y="323684"/>
                </a:lnTo>
                <a:lnTo>
                  <a:pt x="167436" y="323684"/>
                </a:lnTo>
                <a:lnTo>
                  <a:pt x="117997" y="315729"/>
                </a:lnTo>
                <a:lnTo>
                  <a:pt x="75093" y="293566"/>
                </a:lnTo>
                <a:lnTo>
                  <a:pt x="41281" y="259754"/>
                </a:lnTo>
                <a:lnTo>
                  <a:pt x="19119" y="216850"/>
                </a:lnTo>
                <a:lnTo>
                  <a:pt x="11163" y="167411"/>
                </a:lnTo>
                <a:lnTo>
                  <a:pt x="19050" y="118257"/>
                </a:lnTo>
                <a:lnTo>
                  <a:pt x="41076" y="75395"/>
                </a:lnTo>
                <a:lnTo>
                  <a:pt x="74786" y="41484"/>
                </a:lnTo>
                <a:lnTo>
                  <a:pt x="117724" y="19187"/>
                </a:lnTo>
                <a:lnTo>
                  <a:pt x="167436" y="11163"/>
                </a:lnTo>
                <a:lnTo>
                  <a:pt x="224273" y="11163"/>
                </a:lnTo>
                <a:lnTo>
                  <a:pt x="211967" y="5974"/>
                </a:lnTo>
                <a:lnTo>
                  <a:pt x="167436" y="0"/>
                </a:lnTo>
                <a:close/>
              </a:path>
              <a:path w="335279" h="335279">
                <a:moveTo>
                  <a:pt x="224273" y="11163"/>
                </a:moveTo>
                <a:lnTo>
                  <a:pt x="167436" y="11163"/>
                </a:lnTo>
                <a:lnTo>
                  <a:pt x="216869" y="19118"/>
                </a:lnTo>
                <a:lnTo>
                  <a:pt x="259770" y="41279"/>
                </a:lnTo>
                <a:lnTo>
                  <a:pt x="293580" y="75088"/>
                </a:lnTo>
                <a:lnTo>
                  <a:pt x="315741" y="117984"/>
                </a:lnTo>
                <a:lnTo>
                  <a:pt x="323697" y="167411"/>
                </a:lnTo>
                <a:lnTo>
                  <a:pt x="315741" y="216850"/>
                </a:lnTo>
                <a:lnTo>
                  <a:pt x="293580" y="259754"/>
                </a:lnTo>
                <a:lnTo>
                  <a:pt x="259770" y="293566"/>
                </a:lnTo>
                <a:lnTo>
                  <a:pt x="216869" y="315729"/>
                </a:lnTo>
                <a:lnTo>
                  <a:pt x="167436" y="323684"/>
                </a:lnTo>
                <a:lnTo>
                  <a:pt x="224193" y="323684"/>
                </a:lnTo>
                <a:lnTo>
                  <a:pt x="285576" y="286100"/>
                </a:lnTo>
                <a:lnTo>
                  <a:pt x="311856" y="252268"/>
                </a:lnTo>
                <a:lnTo>
                  <a:pt x="328834" y="212194"/>
                </a:lnTo>
                <a:lnTo>
                  <a:pt x="334860" y="167411"/>
                </a:lnTo>
                <a:lnTo>
                  <a:pt x="328884" y="122881"/>
                </a:lnTo>
                <a:lnTo>
                  <a:pt x="312017" y="82883"/>
                </a:lnTo>
                <a:lnTo>
                  <a:pt x="285848" y="49006"/>
                </a:lnTo>
                <a:lnTo>
                  <a:pt x="251968" y="22840"/>
                </a:lnTo>
                <a:lnTo>
                  <a:pt x="224273" y="11163"/>
                </a:lnTo>
                <a:close/>
              </a:path>
              <a:path w="335279" h="335279">
                <a:moveTo>
                  <a:pt x="213317" y="93967"/>
                </a:moveTo>
                <a:lnTo>
                  <a:pt x="160235" y="93967"/>
                </a:lnTo>
                <a:lnTo>
                  <a:pt x="180017" y="97382"/>
                </a:lnTo>
                <a:lnTo>
                  <a:pt x="192641" y="106165"/>
                </a:lnTo>
                <a:lnTo>
                  <a:pt x="199248" y="117984"/>
                </a:lnTo>
                <a:lnTo>
                  <a:pt x="199345" y="118257"/>
                </a:lnTo>
                <a:lnTo>
                  <a:pt x="201282" y="131051"/>
                </a:lnTo>
                <a:lnTo>
                  <a:pt x="197503" y="148573"/>
                </a:lnTo>
                <a:lnTo>
                  <a:pt x="185080" y="167511"/>
                </a:lnTo>
                <a:lnTo>
                  <a:pt x="161584" y="191714"/>
                </a:lnTo>
                <a:lnTo>
                  <a:pt x="104419" y="243039"/>
                </a:lnTo>
                <a:lnTo>
                  <a:pt x="104419" y="258152"/>
                </a:lnTo>
                <a:lnTo>
                  <a:pt x="230441" y="258152"/>
                </a:lnTo>
                <a:lnTo>
                  <a:pt x="230441" y="237985"/>
                </a:lnTo>
                <a:lnTo>
                  <a:pt x="138264" y="237985"/>
                </a:lnTo>
                <a:lnTo>
                  <a:pt x="138264" y="237261"/>
                </a:lnTo>
                <a:lnTo>
                  <a:pt x="183624" y="198224"/>
                </a:lnTo>
                <a:lnTo>
                  <a:pt x="220745" y="151287"/>
                </a:lnTo>
                <a:lnTo>
                  <a:pt x="225399" y="126733"/>
                </a:lnTo>
                <a:lnTo>
                  <a:pt x="222382" y="109498"/>
                </a:lnTo>
                <a:lnTo>
                  <a:pt x="213317" y="93967"/>
                </a:lnTo>
                <a:close/>
              </a:path>
              <a:path w="335279" h="335279">
                <a:moveTo>
                  <a:pt x="165265" y="73799"/>
                </a:moveTo>
                <a:lnTo>
                  <a:pt x="149859" y="75129"/>
                </a:lnTo>
                <a:lnTo>
                  <a:pt x="135161" y="79025"/>
                </a:lnTo>
                <a:lnTo>
                  <a:pt x="121475" y="85351"/>
                </a:lnTo>
                <a:lnTo>
                  <a:pt x="109105" y="93967"/>
                </a:lnTo>
                <a:lnTo>
                  <a:pt x="116662" y="110883"/>
                </a:lnTo>
                <a:lnTo>
                  <a:pt x="125444" y="104747"/>
                </a:lnTo>
                <a:lnTo>
                  <a:pt x="135882" y="99320"/>
                </a:lnTo>
                <a:lnTo>
                  <a:pt x="147603" y="95446"/>
                </a:lnTo>
                <a:lnTo>
                  <a:pt x="160235" y="93967"/>
                </a:lnTo>
                <a:lnTo>
                  <a:pt x="213317" y="93967"/>
                </a:lnTo>
                <a:lnTo>
                  <a:pt x="212343" y="92298"/>
                </a:lnTo>
                <a:lnTo>
                  <a:pt x="193799" y="79082"/>
                </a:lnTo>
                <a:lnTo>
                  <a:pt x="165265" y="73799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bject 32"/>
          <p:cNvSpPr/>
          <p:nvPr/>
        </p:nvSpPr>
        <p:spPr>
          <a:xfrm>
            <a:off x="1789200" y="5214960"/>
            <a:ext cx="334800" cy="334800"/>
          </a:xfrm>
          <a:custGeom>
            <a:avLst/>
            <a:gdLst/>
            <a:ahLst/>
            <a:rect l="l" t="t" r="r" b="b"/>
            <a:pathLst>
              <a:path w="335280" h="335279">
                <a:moveTo>
                  <a:pt x="167436" y="0"/>
                </a:moveTo>
                <a:lnTo>
                  <a:pt x="122904" y="5975"/>
                </a:lnTo>
                <a:lnTo>
                  <a:pt x="82901" y="22843"/>
                </a:lnTo>
                <a:lnTo>
                  <a:pt x="49018" y="49012"/>
                </a:lnTo>
                <a:lnTo>
                  <a:pt x="22846" y="82892"/>
                </a:lnTo>
                <a:lnTo>
                  <a:pt x="5976" y="122893"/>
                </a:lnTo>
                <a:lnTo>
                  <a:pt x="0" y="167424"/>
                </a:lnTo>
                <a:lnTo>
                  <a:pt x="5976" y="211955"/>
                </a:lnTo>
                <a:lnTo>
                  <a:pt x="22846" y="251955"/>
                </a:lnTo>
                <a:lnTo>
                  <a:pt x="49018" y="285835"/>
                </a:lnTo>
                <a:lnTo>
                  <a:pt x="82901" y="312004"/>
                </a:lnTo>
                <a:lnTo>
                  <a:pt x="122904" y="328872"/>
                </a:lnTo>
                <a:lnTo>
                  <a:pt x="167436" y="334848"/>
                </a:lnTo>
                <a:lnTo>
                  <a:pt x="211716" y="328921"/>
                </a:lnTo>
                <a:lnTo>
                  <a:pt x="224193" y="323684"/>
                </a:lnTo>
                <a:lnTo>
                  <a:pt x="167436" y="323684"/>
                </a:lnTo>
                <a:lnTo>
                  <a:pt x="117997" y="315729"/>
                </a:lnTo>
                <a:lnTo>
                  <a:pt x="75093" y="293567"/>
                </a:lnTo>
                <a:lnTo>
                  <a:pt x="41281" y="259757"/>
                </a:lnTo>
                <a:lnTo>
                  <a:pt x="19119" y="216856"/>
                </a:lnTo>
                <a:lnTo>
                  <a:pt x="11163" y="167424"/>
                </a:lnTo>
                <a:lnTo>
                  <a:pt x="19050" y="118269"/>
                </a:lnTo>
                <a:lnTo>
                  <a:pt x="41076" y="75403"/>
                </a:lnTo>
                <a:lnTo>
                  <a:pt x="74786" y="41489"/>
                </a:lnTo>
                <a:lnTo>
                  <a:pt x="117724" y="19188"/>
                </a:lnTo>
                <a:lnTo>
                  <a:pt x="167436" y="11163"/>
                </a:lnTo>
                <a:lnTo>
                  <a:pt x="224269" y="11163"/>
                </a:lnTo>
                <a:lnTo>
                  <a:pt x="211967" y="5975"/>
                </a:lnTo>
                <a:lnTo>
                  <a:pt x="167436" y="0"/>
                </a:lnTo>
                <a:close/>
              </a:path>
              <a:path w="335280" h="335279">
                <a:moveTo>
                  <a:pt x="224269" y="11163"/>
                </a:moveTo>
                <a:lnTo>
                  <a:pt x="167436" y="11163"/>
                </a:lnTo>
                <a:lnTo>
                  <a:pt x="216869" y="19118"/>
                </a:lnTo>
                <a:lnTo>
                  <a:pt x="259770" y="41280"/>
                </a:lnTo>
                <a:lnTo>
                  <a:pt x="293590" y="75111"/>
                </a:lnTo>
                <a:lnTo>
                  <a:pt x="315741" y="117991"/>
                </a:lnTo>
                <a:lnTo>
                  <a:pt x="323697" y="167424"/>
                </a:lnTo>
                <a:lnTo>
                  <a:pt x="315741" y="216856"/>
                </a:lnTo>
                <a:lnTo>
                  <a:pt x="293578" y="259759"/>
                </a:lnTo>
                <a:lnTo>
                  <a:pt x="259770" y="293567"/>
                </a:lnTo>
                <a:lnTo>
                  <a:pt x="216869" y="315729"/>
                </a:lnTo>
                <a:lnTo>
                  <a:pt x="167436" y="323684"/>
                </a:lnTo>
                <a:lnTo>
                  <a:pt x="224193" y="323684"/>
                </a:lnTo>
                <a:lnTo>
                  <a:pt x="285576" y="286102"/>
                </a:lnTo>
                <a:lnTo>
                  <a:pt x="311856" y="252271"/>
                </a:lnTo>
                <a:lnTo>
                  <a:pt x="328834" y="212202"/>
                </a:lnTo>
                <a:lnTo>
                  <a:pt x="334860" y="167424"/>
                </a:lnTo>
                <a:lnTo>
                  <a:pt x="328884" y="122893"/>
                </a:lnTo>
                <a:lnTo>
                  <a:pt x="312017" y="82892"/>
                </a:lnTo>
                <a:lnTo>
                  <a:pt x="285848" y="49012"/>
                </a:lnTo>
                <a:lnTo>
                  <a:pt x="251968" y="22843"/>
                </a:lnTo>
                <a:lnTo>
                  <a:pt x="224269" y="11163"/>
                </a:lnTo>
                <a:close/>
              </a:path>
              <a:path w="335280" h="335279">
                <a:moveTo>
                  <a:pt x="112344" y="228625"/>
                </a:moveTo>
                <a:lnTo>
                  <a:pt x="140348" y="259759"/>
                </a:lnTo>
                <a:lnTo>
                  <a:pt x="156997" y="261035"/>
                </a:lnTo>
                <a:lnTo>
                  <a:pt x="188995" y="256237"/>
                </a:lnTo>
                <a:lnTo>
                  <a:pt x="211310" y="243709"/>
                </a:lnTo>
                <a:lnTo>
                  <a:pt x="213162" y="241236"/>
                </a:lnTo>
                <a:lnTo>
                  <a:pt x="157353" y="241236"/>
                </a:lnTo>
                <a:lnTo>
                  <a:pt x="143532" y="239975"/>
                </a:lnTo>
                <a:lnTo>
                  <a:pt x="130795" y="236821"/>
                </a:lnTo>
                <a:lnTo>
                  <a:pt x="120085" y="232722"/>
                </a:lnTo>
                <a:lnTo>
                  <a:pt x="112344" y="228625"/>
                </a:lnTo>
                <a:close/>
              </a:path>
              <a:path w="335280" h="335279">
                <a:moveTo>
                  <a:pt x="212220" y="93967"/>
                </a:moveTo>
                <a:lnTo>
                  <a:pt x="160235" y="93967"/>
                </a:lnTo>
                <a:lnTo>
                  <a:pt x="177344" y="96471"/>
                </a:lnTo>
                <a:lnTo>
                  <a:pt x="188312" y="102927"/>
                </a:lnTo>
                <a:lnTo>
                  <a:pt x="194150" y="111744"/>
                </a:lnTo>
                <a:lnTo>
                  <a:pt x="195872" y="121335"/>
                </a:lnTo>
                <a:lnTo>
                  <a:pt x="191766" y="134968"/>
                </a:lnTo>
                <a:lnTo>
                  <a:pt x="181113" y="144245"/>
                </a:lnTo>
                <a:lnTo>
                  <a:pt x="166409" y="149537"/>
                </a:lnTo>
                <a:lnTo>
                  <a:pt x="150152" y="151218"/>
                </a:lnTo>
                <a:lnTo>
                  <a:pt x="134302" y="151218"/>
                </a:lnTo>
                <a:lnTo>
                  <a:pt x="134302" y="169938"/>
                </a:lnTo>
                <a:lnTo>
                  <a:pt x="149428" y="169938"/>
                </a:lnTo>
                <a:lnTo>
                  <a:pt x="167586" y="171525"/>
                </a:lnTo>
                <a:lnTo>
                  <a:pt x="185073" y="177230"/>
                </a:lnTo>
                <a:lnTo>
                  <a:pt x="198241" y="188471"/>
                </a:lnTo>
                <a:lnTo>
                  <a:pt x="203441" y="206667"/>
                </a:lnTo>
                <a:lnTo>
                  <a:pt x="201656" y="216472"/>
                </a:lnTo>
                <a:lnTo>
                  <a:pt x="194841" y="227866"/>
                </a:lnTo>
                <a:lnTo>
                  <a:pt x="180804" y="237303"/>
                </a:lnTo>
                <a:lnTo>
                  <a:pt x="157353" y="241236"/>
                </a:lnTo>
                <a:lnTo>
                  <a:pt x="213162" y="241236"/>
                </a:lnTo>
                <a:lnTo>
                  <a:pt x="224379" y="226252"/>
                </a:lnTo>
                <a:lnTo>
                  <a:pt x="228638" y="206667"/>
                </a:lnTo>
                <a:lnTo>
                  <a:pt x="225425" y="190400"/>
                </a:lnTo>
                <a:lnTo>
                  <a:pt x="216439" y="176696"/>
                </a:lnTo>
                <a:lnTo>
                  <a:pt x="202663" y="166367"/>
                </a:lnTo>
                <a:lnTo>
                  <a:pt x="185077" y="160223"/>
                </a:lnTo>
                <a:lnTo>
                  <a:pt x="185077" y="159499"/>
                </a:lnTo>
                <a:lnTo>
                  <a:pt x="200364" y="152411"/>
                </a:lnTo>
                <a:lnTo>
                  <a:pt x="211534" y="142755"/>
                </a:lnTo>
                <a:lnTo>
                  <a:pt x="218384" y="130940"/>
                </a:lnTo>
                <a:lnTo>
                  <a:pt x="220713" y="117373"/>
                </a:lnTo>
                <a:lnTo>
                  <a:pt x="217710" y="101908"/>
                </a:lnTo>
                <a:lnTo>
                  <a:pt x="212220" y="93967"/>
                </a:lnTo>
                <a:close/>
              </a:path>
              <a:path w="335280" h="335279">
                <a:moveTo>
                  <a:pt x="164541" y="73812"/>
                </a:moveTo>
                <a:lnTo>
                  <a:pt x="149313" y="75111"/>
                </a:lnTo>
                <a:lnTo>
                  <a:pt x="135027" y="78535"/>
                </a:lnTo>
                <a:lnTo>
                  <a:pt x="122630" y="83376"/>
                </a:lnTo>
                <a:lnTo>
                  <a:pt x="113068" y="88925"/>
                </a:lnTo>
                <a:lnTo>
                  <a:pt x="119532" y="106578"/>
                </a:lnTo>
                <a:lnTo>
                  <a:pt x="127462" y="101870"/>
                </a:lnTo>
                <a:lnTo>
                  <a:pt x="137317" y="97839"/>
                </a:lnTo>
                <a:lnTo>
                  <a:pt x="148455" y="95025"/>
                </a:lnTo>
                <a:lnTo>
                  <a:pt x="160235" y="93967"/>
                </a:lnTo>
                <a:lnTo>
                  <a:pt x="212220" y="93967"/>
                </a:lnTo>
                <a:lnTo>
                  <a:pt x="208024" y="87896"/>
                </a:lnTo>
                <a:lnTo>
                  <a:pt x="190639" y="77732"/>
                </a:lnTo>
                <a:lnTo>
                  <a:pt x="164541" y="73812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bject 33"/>
          <p:cNvSpPr/>
          <p:nvPr/>
        </p:nvSpPr>
        <p:spPr>
          <a:xfrm>
            <a:off x="6827760" y="5192640"/>
            <a:ext cx="335160" cy="336600"/>
          </a:xfrm>
          <a:custGeom>
            <a:avLst/>
            <a:gdLst/>
            <a:ahLst/>
            <a:rect l="l" t="t" r="r" b="b"/>
            <a:pathLst>
              <a:path w="335279" h="335279">
                <a:moveTo>
                  <a:pt x="167436" y="0"/>
                </a:moveTo>
                <a:lnTo>
                  <a:pt x="122904" y="5975"/>
                </a:lnTo>
                <a:lnTo>
                  <a:pt x="82901" y="22843"/>
                </a:lnTo>
                <a:lnTo>
                  <a:pt x="49018" y="49012"/>
                </a:lnTo>
                <a:lnTo>
                  <a:pt x="22846" y="82892"/>
                </a:lnTo>
                <a:lnTo>
                  <a:pt x="5976" y="122893"/>
                </a:lnTo>
                <a:lnTo>
                  <a:pt x="0" y="167424"/>
                </a:lnTo>
                <a:lnTo>
                  <a:pt x="5976" y="211956"/>
                </a:lnTo>
                <a:lnTo>
                  <a:pt x="22846" y="251959"/>
                </a:lnTo>
                <a:lnTo>
                  <a:pt x="49018" y="285842"/>
                </a:lnTo>
                <a:lnTo>
                  <a:pt x="82901" y="312014"/>
                </a:lnTo>
                <a:lnTo>
                  <a:pt x="122904" y="328884"/>
                </a:lnTo>
                <a:lnTo>
                  <a:pt x="167436" y="334860"/>
                </a:lnTo>
                <a:lnTo>
                  <a:pt x="211716" y="328934"/>
                </a:lnTo>
                <a:lnTo>
                  <a:pt x="224193" y="323697"/>
                </a:lnTo>
                <a:lnTo>
                  <a:pt x="167436" y="323697"/>
                </a:lnTo>
                <a:lnTo>
                  <a:pt x="117997" y="315741"/>
                </a:lnTo>
                <a:lnTo>
                  <a:pt x="75093" y="293579"/>
                </a:lnTo>
                <a:lnTo>
                  <a:pt x="41281" y="259767"/>
                </a:lnTo>
                <a:lnTo>
                  <a:pt x="19119" y="216863"/>
                </a:lnTo>
                <a:lnTo>
                  <a:pt x="11163" y="167424"/>
                </a:lnTo>
                <a:lnTo>
                  <a:pt x="19050" y="118269"/>
                </a:lnTo>
                <a:lnTo>
                  <a:pt x="41076" y="75403"/>
                </a:lnTo>
                <a:lnTo>
                  <a:pt x="74786" y="41489"/>
                </a:lnTo>
                <a:lnTo>
                  <a:pt x="117724" y="19188"/>
                </a:lnTo>
                <a:lnTo>
                  <a:pt x="167436" y="11163"/>
                </a:lnTo>
                <a:lnTo>
                  <a:pt x="224269" y="11163"/>
                </a:lnTo>
                <a:lnTo>
                  <a:pt x="211967" y="5975"/>
                </a:lnTo>
                <a:lnTo>
                  <a:pt x="167436" y="0"/>
                </a:lnTo>
                <a:close/>
              </a:path>
              <a:path w="335279" h="335279">
                <a:moveTo>
                  <a:pt x="224269" y="11163"/>
                </a:moveTo>
                <a:lnTo>
                  <a:pt x="167436" y="11163"/>
                </a:lnTo>
                <a:lnTo>
                  <a:pt x="216869" y="19118"/>
                </a:lnTo>
                <a:lnTo>
                  <a:pt x="259770" y="41280"/>
                </a:lnTo>
                <a:lnTo>
                  <a:pt x="293580" y="75090"/>
                </a:lnTo>
                <a:lnTo>
                  <a:pt x="315741" y="117991"/>
                </a:lnTo>
                <a:lnTo>
                  <a:pt x="323697" y="167424"/>
                </a:lnTo>
                <a:lnTo>
                  <a:pt x="315741" y="216863"/>
                </a:lnTo>
                <a:lnTo>
                  <a:pt x="293580" y="259767"/>
                </a:lnTo>
                <a:lnTo>
                  <a:pt x="259770" y="293579"/>
                </a:lnTo>
                <a:lnTo>
                  <a:pt x="216869" y="315741"/>
                </a:lnTo>
                <a:lnTo>
                  <a:pt x="167436" y="323697"/>
                </a:lnTo>
                <a:lnTo>
                  <a:pt x="224193" y="323697"/>
                </a:lnTo>
                <a:lnTo>
                  <a:pt x="285576" y="286113"/>
                </a:lnTo>
                <a:lnTo>
                  <a:pt x="311856" y="252280"/>
                </a:lnTo>
                <a:lnTo>
                  <a:pt x="328834" y="212207"/>
                </a:lnTo>
                <a:lnTo>
                  <a:pt x="334860" y="167424"/>
                </a:lnTo>
                <a:lnTo>
                  <a:pt x="328884" y="122893"/>
                </a:lnTo>
                <a:lnTo>
                  <a:pt x="312017" y="82892"/>
                </a:lnTo>
                <a:lnTo>
                  <a:pt x="285848" y="49012"/>
                </a:lnTo>
                <a:lnTo>
                  <a:pt x="251968" y="22843"/>
                </a:lnTo>
                <a:lnTo>
                  <a:pt x="224269" y="11163"/>
                </a:lnTo>
                <a:close/>
              </a:path>
              <a:path w="335279" h="335279">
                <a:moveTo>
                  <a:pt x="205600" y="211353"/>
                </a:moveTo>
                <a:lnTo>
                  <a:pt x="182194" y="211353"/>
                </a:lnTo>
                <a:lnTo>
                  <a:pt x="182194" y="259956"/>
                </a:lnTo>
                <a:lnTo>
                  <a:pt x="205600" y="259956"/>
                </a:lnTo>
                <a:lnTo>
                  <a:pt x="205600" y="211353"/>
                </a:lnTo>
                <a:close/>
              </a:path>
              <a:path w="335279" h="335279">
                <a:moveTo>
                  <a:pt x="205600" y="74891"/>
                </a:moveTo>
                <a:lnTo>
                  <a:pt x="181470" y="74891"/>
                </a:lnTo>
                <a:lnTo>
                  <a:pt x="86423" y="195160"/>
                </a:lnTo>
                <a:lnTo>
                  <a:pt x="86423" y="211353"/>
                </a:lnTo>
                <a:lnTo>
                  <a:pt x="233311" y="211353"/>
                </a:lnTo>
                <a:lnTo>
                  <a:pt x="233311" y="192265"/>
                </a:lnTo>
                <a:lnTo>
                  <a:pt x="109105" y="192265"/>
                </a:lnTo>
                <a:lnTo>
                  <a:pt x="109105" y="191541"/>
                </a:lnTo>
                <a:lnTo>
                  <a:pt x="168871" y="119900"/>
                </a:lnTo>
                <a:lnTo>
                  <a:pt x="173189" y="113411"/>
                </a:lnTo>
                <a:lnTo>
                  <a:pt x="177876" y="105854"/>
                </a:lnTo>
                <a:lnTo>
                  <a:pt x="182194" y="98298"/>
                </a:lnTo>
                <a:lnTo>
                  <a:pt x="205600" y="98298"/>
                </a:lnTo>
                <a:lnTo>
                  <a:pt x="205600" y="74891"/>
                </a:lnTo>
                <a:close/>
              </a:path>
              <a:path w="335279" h="335279">
                <a:moveTo>
                  <a:pt x="205600" y="98298"/>
                </a:moveTo>
                <a:lnTo>
                  <a:pt x="182194" y="98298"/>
                </a:lnTo>
                <a:lnTo>
                  <a:pt x="182918" y="98653"/>
                </a:lnTo>
                <a:lnTo>
                  <a:pt x="182549" y="105143"/>
                </a:lnTo>
                <a:lnTo>
                  <a:pt x="182247" y="113411"/>
                </a:lnTo>
                <a:lnTo>
                  <a:pt x="182194" y="192265"/>
                </a:lnTo>
                <a:lnTo>
                  <a:pt x="205600" y="192265"/>
                </a:lnTo>
                <a:lnTo>
                  <a:pt x="205600" y="98298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ject 34" descr=""/>
          <p:cNvPicPr/>
          <p:nvPr/>
        </p:nvPicPr>
        <p:blipFill>
          <a:blip r:embed="rId1"/>
          <a:stretch/>
        </p:blipFill>
        <p:spPr>
          <a:xfrm>
            <a:off x="8094600" y="1846440"/>
            <a:ext cx="1025640" cy="114120"/>
          </a:xfrm>
          <a:prstGeom prst="rect">
            <a:avLst/>
          </a:prstGeom>
          <a:ln w="0">
            <a:noFill/>
          </a:ln>
        </p:spPr>
      </p:pic>
      <p:pic>
        <p:nvPicPr>
          <p:cNvPr id="74" name="object 35" descr=""/>
          <p:cNvPicPr/>
          <p:nvPr/>
        </p:nvPicPr>
        <p:blipFill>
          <a:blip r:embed="rId2"/>
          <a:stretch/>
        </p:blipFill>
        <p:spPr>
          <a:xfrm>
            <a:off x="9307440" y="1846440"/>
            <a:ext cx="1025640" cy="114120"/>
          </a:xfrm>
          <a:prstGeom prst="rect">
            <a:avLst/>
          </a:prstGeom>
          <a:ln w="0">
            <a:noFill/>
          </a:ln>
        </p:spPr>
      </p:pic>
      <p:grpSp>
        <p:nvGrpSpPr>
          <p:cNvPr id="75" name="object 36"/>
          <p:cNvGrpSpPr/>
          <p:nvPr/>
        </p:nvGrpSpPr>
        <p:grpSpPr>
          <a:xfrm>
            <a:off x="9333000" y="2131920"/>
            <a:ext cx="1081080" cy="387360"/>
            <a:chOff x="9333000" y="2131920"/>
            <a:chExt cx="1081080" cy="387360"/>
          </a:xfrm>
        </p:grpSpPr>
        <p:pic>
          <p:nvPicPr>
            <p:cNvPr id="76" name="object 37" descr=""/>
            <p:cNvPicPr/>
            <p:nvPr/>
          </p:nvPicPr>
          <p:blipFill>
            <a:blip r:embed="rId3"/>
            <a:stretch/>
          </p:blipFill>
          <p:spPr>
            <a:xfrm>
              <a:off x="9333000" y="2131920"/>
              <a:ext cx="77328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object 38" descr=""/>
            <p:cNvPicPr/>
            <p:nvPr/>
          </p:nvPicPr>
          <p:blipFill>
            <a:blip r:embed="rId4"/>
            <a:stretch/>
          </p:blipFill>
          <p:spPr>
            <a:xfrm>
              <a:off x="10148400" y="2256840"/>
              <a:ext cx="159480" cy="9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object 39" descr=""/>
            <p:cNvPicPr/>
            <p:nvPr/>
          </p:nvPicPr>
          <p:blipFill>
            <a:blip r:embed="rId5"/>
            <a:stretch/>
          </p:blipFill>
          <p:spPr>
            <a:xfrm>
              <a:off x="10327680" y="2279520"/>
              <a:ext cx="86400" cy="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object 40"/>
            <p:cNvSpPr/>
            <p:nvPr/>
          </p:nvSpPr>
          <p:spPr>
            <a:xfrm>
              <a:off x="10020240" y="2189160"/>
              <a:ext cx="115560" cy="273240"/>
            </a:xfrm>
            <a:custGeom>
              <a:avLst/>
              <a:gdLst/>
              <a:ahLst/>
              <a:rect l="l" t="t" r="r" b="b"/>
              <a:pathLst>
                <a:path w="115570" h="272414">
                  <a:moveTo>
                    <a:pt x="0" y="0"/>
                  </a:moveTo>
                  <a:lnTo>
                    <a:pt x="115570" y="0"/>
                  </a:lnTo>
                  <a:lnTo>
                    <a:pt x="115570" y="271792"/>
                  </a:lnTo>
                  <a:lnTo>
                    <a:pt x="0" y="271792"/>
                  </a:lnTo>
                </a:path>
              </a:pathLst>
            </a:custGeom>
            <a:noFill/>
            <a:ln w="3600">
              <a:solidFill>
                <a:srgbClr val="005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object 41" descr=""/>
          <p:cNvPicPr/>
          <p:nvPr/>
        </p:nvPicPr>
        <p:blipFill>
          <a:blip r:embed="rId6"/>
          <a:stretch/>
        </p:blipFill>
        <p:spPr>
          <a:xfrm>
            <a:off x="8294760" y="2009880"/>
            <a:ext cx="490320" cy="631800"/>
          </a:xfrm>
          <a:prstGeom prst="rect">
            <a:avLst/>
          </a:prstGeom>
          <a:ln w="0">
            <a:noFill/>
          </a:ln>
        </p:spPr>
      </p:pic>
      <p:grpSp>
        <p:nvGrpSpPr>
          <p:cNvPr id="81" name="object 42"/>
          <p:cNvGrpSpPr/>
          <p:nvPr/>
        </p:nvGrpSpPr>
        <p:grpSpPr>
          <a:xfrm>
            <a:off x="8350200" y="2554200"/>
            <a:ext cx="379440" cy="230400"/>
            <a:chOff x="8350200" y="2554200"/>
            <a:chExt cx="379440" cy="230400"/>
          </a:xfrm>
        </p:grpSpPr>
        <p:sp>
          <p:nvSpPr>
            <p:cNvPr id="82" name="object 43"/>
            <p:cNvSpPr/>
            <p:nvPr/>
          </p:nvSpPr>
          <p:spPr>
            <a:xfrm>
              <a:off x="8378640" y="2692080"/>
              <a:ext cx="102960" cy="92520"/>
            </a:xfrm>
            <a:custGeom>
              <a:avLst/>
              <a:gdLst/>
              <a:ahLst/>
              <a:rect l="l" t="t" r="r" b="b"/>
              <a:pathLst>
                <a:path w="101600" h="91439">
                  <a:moveTo>
                    <a:pt x="33134" y="2374"/>
                  </a:moveTo>
                  <a:lnTo>
                    <a:pt x="30962" y="0"/>
                  </a:lnTo>
                  <a:lnTo>
                    <a:pt x="23634" y="0"/>
                  </a:lnTo>
                  <a:lnTo>
                    <a:pt x="22872" y="2603"/>
                  </a:lnTo>
                  <a:lnTo>
                    <a:pt x="20167" y="10363"/>
                  </a:lnTo>
                  <a:lnTo>
                    <a:pt x="16408" y="15875"/>
                  </a:lnTo>
                  <a:lnTo>
                    <a:pt x="1828" y="18465"/>
                  </a:lnTo>
                  <a:lnTo>
                    <a:pt x="0" y="18897"/>
                  </a:lnTo>
                  <a:lnTo>
                    <a:pt x="0" y="26885"/>
                  </a:lnTo>
                  <a:lnTo>
                    <a:pt x="3124" y="27749"/>
                  </a:lnTo>
                  <a:lnTo>
                    <a:pt x="4521" y="27749"/>
                  </a:lnTo>
                  <a:lnTo>
                    <a:pt x="20167" y="27749"/>
                  </a:lnTo>
                  <a:lnTo>
                    <a:pt x="20167" y="89700"/>
                  </a:lnTo>
                  <a:lnTo>
                    <a:pt x="22974" y="91224"/>
                  </a:lnTo>
                  <a:lnTo>
                    <a:pt x="29464" y="91224"/>
                  </a:lnTo>
                  <a:lnTo>
                    <a:pt x="33134" y="90246"/>
                  </a:lnTo>
                  <a:lnTo>
                    <a:pt x="33134" y="2374"/>
                  </a:lnTo>
                  <a:close/>
                </a:path>
                <a:path w="101600" h="91439">
                  <a:moveTo>
                    <a:pt x="101180" y="2374"/>
                  </a:moveTo>
                  <a:lnTo>
                    <a:pt x="99009" y="0"/>
                  </a:lnTo>
                  <a:lnTo>
                    <a:pt x="91681" y="0"/>
                  </a:lnTo>
                  <a:lnTo>
                    <a:pt x="90919" y="2603"/>
                  </a:lnTo>
                  <a:lnTo>
                    <a:pt x="88214" y="10363"/>
                  </a:lnTo>
                  <a:lnTo>
                    <a:pt x="84455" y="15875"/>
                  </a:lnTo>
                  <a:lnTo>
                    <a:pt x="69875" y="18465"/>
                  </a:lnTo>
                  <a:lnTo>
                    <a:pt x="68046" y="18897"/>
                  </a:lnTo>
                  <a:lnTo>
                    <a:pt x="68046" y="26885"/>
                  </a:lnTo>
                  <a:lnTo>
                    <a:pt x="71170" y="27749"/>
                  </a:lnTo>
                  <a:lnTo>
                    <a:pt x="72567" y="27749"/>
                  </a:lnTo>
                  <a:lnTo>
                    <a:pt x="88214" y="27749"/>
                  </a:lnTo>
                  <a:lnTo>
                    <a:pt x="88214" y="89700"/>
                  </a:lnTo>
                  <a:lnTo>
                    <a:pt x="91020" y="91224"/>
                  </a:lnTo>
                  <a:lnTo>
                    <a:pt x="97510" y="91224"/>
                  </a:lnTo>
                  <a:lnTo>
                    <a:pt x="101180" y="90246"/>
                  </a:lnTo>
                  <a:lnTo>
                    <a:pt x="101180" y="2374"/>
                  </a:lnTo>
                  <a:close/>
                </a:path>
              </a:pathLst>
            </a:custGeom>
            <a:solidFill>
              <a:srgbClr val="005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object 44" descr=""/>
            <p:cNvPicPr/>
            <p:nvPr/>
          </p:nvPicPr>
          <p:blipFill>
            <a:blip r:embed="rId7"/>
            <a:stretch/>
          </p:blipFill>
          <p:spPr>
            <a:xfrm>
              <a:off x="8516520" y="2715480"/>
              <a:ext cx="87480" cy="6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ject 45" descr=""/>
            <p:cNvPicPr/>
            <p:nvPr/>
          </p:nvPicPr>
          <p:blipFill>
            <a:blip r:embed="rId8"/>
            <a:stretch/>
          </p:blipFill>
          <p:spPr>
            <a:xfrm>
              <a:off x="8623800" y="2715480"/>
              <a:ext cx="8748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object 46"/>
            <p:cNvSpPr/>
            <p:nvPr/>
          </p:nvSpPr>
          <p:spPr>
            <a:xfrm>
              <a:off x="8350200" y="2554200"/>
              <a:ext cx="379440" cy="116640"/>
            </a:xfrm>
            <a:custGeom>
              <a:avLst/>
              <a:gdLst/>
              <a:ahLst/>
              <a:rect l="l" t="t" r="r" b="b"/>
              <a:pathLst>
                <a:path w="374650" h="115569">
                  <a:moveTo>
                    <a:pt x="374408" y="0"/>
                  </a:moveTo>
                  <a:lnTo>
                    <a:pt x="374408" y="115570"/>
                  </a:lnTo>
                  <a:lnTo>
                    <a:pt x="0" y="115570"/>
                  </a:lnTo>
                  <a:lnTo>
                    <a:pt x="0" y="0"/>
                  </a:lnTo>
                </a:path>
              </a:pathLst>
            </a:custGeom>
            <a:noFill/>
            <a:ln w="3600">
              <a:solidFill>
                <a:srgbClr val="005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object 47" descr=""/>
          <p:cNvPicPr/>
          <p:nvPr/>
        </p:nvPicPr>
        <p:blipFill>
          <a:blip r:embed="rId9"/>
          <a:stretch/>
        </p:blipFill>
        <p:spPr>
          <a:xfrm>
            <a:off x="306360" y="1309680"/>
            <a:ext cx="147600" cy="149400"/>
          </a:xfrm>
          <a:prstGeom prst="rect">
            <a:avLst/>
          </a:prstGeom>
          <a:ln w="0">
            <a:noFill/>
          </a:ln>
        </p:spPr>
      </p:pic>
      <p:grpSp>
        <p:nvGrpSpPr>
          <p:cNvPr id="87" name="object 48"/>
          <p:cNvGrpSpPr/>
          <p:nvPr/>
        </p:nvGrpSpPr>
        <p:grpSpPr>
          <a:xfrm>
            <a:off x="565200" y="1284120"/>
            <a:ext cx="4538520" cy="200160"/>
            <a:chOff x="565200" y="1284120"/>
            <a:chExt cx="4538520" cy="200160"/>
          </a:xfrm>
        </p:grpSpPr>
        <p:pic>
          <p:nvPicPr>
            <p:cNvPr id="88" name="object 49" descr=""/>
            <p:cNvPicPr/>
            <p:nvPr/>
          </p:nvPicPr>
          <p:blipFill>
            <a:blip r:embed="rId10"/>
            <a:stretch/>
          </p:blipFill>
          <p:spPr>
            <a:xfrm>
              <a:off x="565200" y="1284120"/>
              <a:ext cx="342144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object 50"/>
            <p:cNvSpPr/>
            <p:nvPr/>
          </p:nvSpPr>
          <p:spPr>
            <a:xfrm>
              <a:off x="4013280" y="1296000"/>
              <a:ext cx="178920" cy="178560"/>
            </a:xfrm>
            <a:custGeom>
              <a:avLst/>
              <a:gdLst/>
              <a:ahLst/>
              <a:rect l="l" t="t" r="r" b="b"/>
              <a:pathLst>
                <a:path w="179070" h="177800">
                  <a:moveTo>
                    <a:pt x="157797" y="124739"/>
                  </a:moveTo>
                  <a:lnTo>
                    <a:pt x="134200" y="124739"/>
                  </a:lnTo>
                  <a:lnTo>
                    <a:pt x="134200" y="132892"/>
                  </a:lnTo>
                  <a:lnTo>
                    <a:pt x="157797" y="132892"/>
                  </a:lnTo>
                  <a:lnTo>
                    <a:pt x="157797" y="124739"/>
                  </a:lnTo>
                  <a:close/>
                </a:path>
                <a:path w="179070" h="177800">
                  <a:moveTo>
                    <a:pt x="157797" y="72390"/>
                  </a:moveTo>
                  <a:lnTo>
                    <a:pt x="44665" y="72390"/>
                  </a:lnTo>
                  <a:lnTo>
                    <a:pt x="44665" y="85090"/>
                  </a:lnTo>
                  <a:lnTo>
                    <a:pt x="44665" y="92710"/>
                  </a:lnTo>
                  <a:lnTo>
                    <a:pt x="44665" y="146050"/>
                  </a:lnTo>
                  <a:lnTo>
                    <a:pt x="157797" y="146050"/>
                  </a:lnTo>
                  <a:lnTo>
                    <a:pt x="157797" y="133350"/>
                  </a:lnTo>
                  <a:lnTo>
                    <a:pt x="67830" y="133350"/>
                  </a:lnTo>
                  <a:lnTo>
                    <a:pt x="67830" y="124460"/>
                  </a:lnTo>
                  <a:lnTo>
                    <a:pt x="157797" y="124460"/>
                  </a:lnTo>
                  <a:lnTo>
                    <a:pt x="157797" y="113030"/>
                  </a:lnTo>
                  <a:lnTo>
                    <a:pt x="67830" y="113030"/>
                  </a:lnTo>
                  <a:lnTo>
                    <a:pt x="67830" y="105410"/>
                  </a:lnTo>
                  <a:lnTo>
                    <a:pt x="134200" y="105410"/>
                  </a:lnTo>
                  <a:lnTo>
                    <a:pt x="134200" y="112636"/>
                  </a:lnTo>
                  <a:lnTo>
                    <a:pt x="157797" y="112636"/>
                  </a:lnTo>
                  <a:lnTo>
                    <a:pt x="157797" y="85509"/>
                  </a:lnTo>
                  <a:lnTo>
                    <a:pt x="134200" y="85509"/>
                  </a:lnTo>
                  <a:lnTo>
                    <a:pt x="134200" y="92710"/>
                  </a:lnTo>
                  <a:lnTo>
                    <a:pt x="67830" y="92710"/>
                  </a:lnTo>
                  <a:lnTo>
                    <a:pt x="67830" y="85090"/>
                  </a:lnTo>
                  <a:lnTo>
                    <a:pt x="157797" y="85090"/>
                  </a:lnTo>
                  <a:lnTo>
                    <a:pt x="157797" y="72390"/>
                  </a:lnTo>
                  <a:close/>
                </a:path>
                <a:path w="179070" h="177800">
                  <a:moveTo>
                    <a:pt x="165519" y="0"/>
                  </a:moveTo>
                  <a:lnTo>
                    <a:pt x="16078" y="0"/>
                  </a:lnTo>
                  <a:lnTo>
                    <a:pt x="16078" y="13970"/>
                  </a:lnTo>
                  <a:lnTo>
                    <a:pt x="16078" y="26670"/>
                  </a:lnTo>
                  <a:lnTo>
                    <a:pt x="16078" y="41910"/>
                  </a:lnTo>
                  <a:lnTo>
                    <a:pt x="165519" y="41910"/>
                  </a:lnTo>
                  <a:lnTo>
                    <a:pt x="165519" y="26670"/>
                  </a:lnTo>
                  <a:lnTo>
                    <a:pt x="39446" y="26670"/>
                  </a:lnTo>
                  <a:lnTo>
                    <a:pt x="39446" y="13970"/>
                  </a:lnTo>
                  <a:lnTo>
                    <a:pt x="59690" y="13970"/>
                  </a:lnTo>
                  <a:lnTo>
                    <a:pt x="59690" y="26644"/>
                  </a:lnTo>
                  <a:lnTo>
                    <a:pt x="80365" y="26644"/>
                  </a:lnTo>
                  <a:lnTo>
                    <a:pt x="80365" y="13970"/>
                  </a:lnTo>
                  <a:lnTo>
                    <a:pt x="100812" y="13970"/>
                  </a:lnTo>
                  <a:lnTo>
                    <a:pt x="100812" y="26644"/>
                  </a:lnTo>
                  <a:lnTo>
                    <a:pt x="121272" y="26644"/>
                  </a:lnTo>
                  <a:lnTo>
                    <a:pt x="121272" y="13970"/>
                  </a:lnTo>
                  <a:lnTo>
                    <a:pt x="142138" y="13970"/>
                  </a:lnTo>
                  <a:lnTo>
                    <a:pt x="142138" y="26644"/>
                  </a:lnTo>
                  <a:lnTo>
                    <a:pt x="165519" y="26644"/>
                  </a:lnTo>
                  <a:lnTo>
                    <a:pt x="165519" y="13970"/>
                  </a:lnTo>
                  <a:lnTo>
                    <a:pt x="165519" y="0"/>
                  </a:lnTo>
                  <a:close/>
                </a:path>
                <a:path w="179070" h="177800">
                  <a:moveTo>
                    <a:pt x="178447" y="49606"/>
                  </a:moveTo>
                  <a:lnTo>
                    <a:pt x="107492" y="49606"/>
                  </a:lnTo>
                  <a:lnTo>
                    <a:pt x="107492" y="42303"/>
                  </a:lnTo>
                  <a:lnTo>
                    <a:pt x="83489" y="42303"/>
                  </a:lnTo>
                  <a:lnTo>
                    <a:pt x="83489" y="49606"/>
                  </a:lnTo>
                  <a:lnTo>
                    <a:pt x="0" y="49606"/>
                  </a:lnTo>
                  <a:lnTo>
                    <a:pt x="0" y="65887"/>
                  </a:lnTo>
                  <a:lnTo>
                    <a:pt x="83489" y="65887"/>
                  </a:lnTo>
                  <a:lnTo>
                    <a:pt x="83489" y="72351"/>
                  </a:lnTo>
                  <a:lnTo>
                    <a:pt x="107492" y="72351"/>
                  </a:lnTo>
                  <a:lnTo>
                    <a:pt x="107492" y="65887"/>
                  </a:lnTo>
                  <a:lnTo>
                    <a:pt x="178447" y="65887"/>
                  </a:lnTo>
                  <a:lnTo>
                    <a:pt x="178447" y="49606"/>
                  </a:lnTo>
                  <a:close/>
                </a:path>
                <a:path w="179070" h="177800">
                  <a:moveTo>
                    <a:pt x="179070" y="152400"/>
                  </a:moveTo>
                  <a:lnTo>
                    <a:pt x="32562" y="152400"/>
                  </a:lnTo>
                  <a:lnTo>
                    <a:pt x="32562" y="85090"/>
                  </a:lnTo>
                  <a:lnTo>
                    <a:pt x="32575" y="83820"/>
                  </a:lnTo>
                  <a:lnTo>
                    <a:pt x="34061" y="83820"/>
                  </a:lnTo>
                  <a:lnTo>
                    <a:pt x="34061" y="82550"/>
                  </a:lnTo>
                  <a:lnTo>
                    <a:pt x="35864" y="82550"/>
                  </a:lnTo>
                  <a:lnTo>
                    <a:pt x="35864" y="81280"/>
                  </a:lnTo>
                  <a:lnTo>
                    <a:pt x="36118" y="81280"/>
                  </a:lnTo>
                  <a:lnTo>
                    <a:pt x="36118" y="78740"/>
                  </a:lnTo>
                  <a:lnTo>
                    <a:pt x="26187" y="78740"/>
                  </a:lnTo>
                  <a:lnTo>
                    <a:pt x="26187" y="77470"/>
                  </a:lnTo>
                  <a:lnTo>
                    <a:pt x="9398" y="77470"/>
                  </a:lnTo>
                  <a:lnTo>
                    <a:pt x="9398" y="177800"/>
                  </a:lnTo>
                  <a:lnTo>
                    <a:pt x="32562" y="177800"/>
                  </a:lnTo>
                  <a:lnTo>
                    <a:pt x="32562" y="170180"/>
                  </a:lnTo>
                  <a:lnTo>
                    <a:pt x="179070" y="170180"/>
                  </a:lnTo>
                  <a:lnTo>
                    <a:pt x="179070" y="152400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object 51" descr=""/>
            <p:cNvPicPr/>
            <p:nvPr/>
          </p:nvPicPr>
          <p:blipFill>
            <a:blip r:embed="rId11"/>
            <a:stretch/>
          </p:blipFill>
          <p:spPr>
            <a:xfrm>
              <a:off x="4212360" y="1292040"/>
              <a:ext cx="383040" cy="18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object 52" descr=""/>
            <p:cNvPicPr/>
            <p:nvPr/>
          </p:nvPicPr>
          <p:blipFill>
            <a:blip r:embed="rId12"/>
            <a:stretch/>
          </p:blipFill>
          <p:spPr>
            <a:xfrm>
              <a:off x="4627080" y="1301400"/>
              <a:ext cx="117360" cy="1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object 53" descr=""/>
            <p:cNvPicPr/>
            <p:nvPr/>
          </p:nvPicPr>
          <p:blipFill>
            <a:blip r:embed="rId13"/>
            <a:stretch/>
          </p:blipFill>
          <p:spPr>
            <a:xfrm>
              <a:off x="4776840" y="1309320"/>
              <a:ext cx="13248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object 54" descr=""/>
            <p:cNvPicPr/>
            <p:nvPr/>
          </p:nvPicPr>
          <p:blipFill>
            <a:blip r:embed="rId14"/>
            <a:stretch/>
          </p:blipFill>
          <p:spPr>
            <a:xfrm>
              <a:off x="4934880" y="1301040"/>
              <a:ext cx="168840" cy="16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object 55"/>
          <p:cNvGrpSpPr/>
          <p:nvPr/>
        </p:nvGrpSpPr>
        <p:grpSpPr>
          <a:xfrm>
            <a:off x="5159520" y="1284120"/>
            <a:ext cx="546120" cy="200160"/>
            <a:chOff x="5159520" y="1284120"/>
            <a:chExt cx="546120" cy="200160"/>
          </a:xfrm>
        </p:grpSpPr>
        <p:sp>
          <p:nvSpPr>
            <p:cNvPr id="95" name="object 56"/>
            <p:cNvSpPr/>
            <p:nvPr/>
          </p:nvSpPr>
          <p:spPr>
            <a:xfrm>
              <a:off x="5159520" y="1284120"/>
              <a:ext cx="54360" cy="200160"/>
            </a:xfrm>
            <a:custGeom>
              <a:avLst/>
              <a:gdLst/>
              <a:ahLst/>
              <a:rect l="l" t="t" r="r" b="b"/>
              <a:pathLst>
                <a:path w="54610" h="200025">
                  <a:moveTo>
                    <a:pt x="38392" y="0"/>
                  </a:moveTo>
                  <a:lnTo>
                    <a:pt x="27201" y="14354"/>
                  </a:lnTo>
                  <a:lnTo>
                    <a:pt x="14581" y="35477"/>
                  </a:lnTo>
                  <a:lnTo>
                    <a:pt x="4268" y="63800"/>
                  </a:lnTo>
                  <a:lnTo>
                    <a:pt x="0" y="99758"/>
                  </a:lnTo>
                  <a:lnTo>
                    <a:pt x="4268" y="135596"/>
                  </a:lnTo>
                  <a:lnTo>
                    <a:pt x="14581" y="163882"/>
                  </a:lnTo>
                  <a:lnTo>
                    <a:pt x="27201" y="185045"/>
                  </a:lnTo>
                  <a:lnTo>
                    <a:pt x="38392" y="199516"/>
                  </a:lnTo>
                  <a:lnTo>
                    <a:pt x="54267" y="185534"/>
                  </a:lnTo>
                  <a:lnTo>
                    <a:pt x="44689" y="173014"/>
                  </a:lnTo>
                  <a:lnTo>
                    <a:pt x="33994" y="154857"/>
                  </a:lnTo>
                  <a:lnTo>
                    <a:pt x="25295" y="130595"/>
                  </a:lnTo>
                  <a:lnTo>
                    <a:pt x="21704" y="99758"/>
                  </a:lnTo>
                  <a:lnTo>
                    <a:pt x="25295" y="69007"/>
                  </a:lnTo>
                  <a:lnTo>
                    <a:pt x="33994" y="44735"/>
                  </a:lnTo>
                  <a:lnTo>
                    <a:pt x="44689" y="26531"/>
                  </a:lnTo>
                  <a:lnTo>
                    <a:pt x="54267" y="13982"/>
                  </a:lnTo>
                  <a:lnTo>
                    <a:pt x="38392" y="0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object 57" descr=""/>
            <p:cNvPicPr/>
            <p:nvPr/>
          </p:nvPicPr>
          <p:blipFill>
            <a:blip r:embed="rId15"/>
            <a:stretch/>
          </p:blipFill>
          <p:spPr>
            <a:xfrm>
              <a:off x="5241240" y="1299960"/>
              <a:ext cx="181080" cy="1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object 58"/>
            <p:cNvSpPr/>
            <p:nvPr/>
          </p:nvSpPr>
          <p:spPr>
            <a:xfrm>
              <a:off x="5446080" y="1284120"/>
              <a:ext cx="259560" cy="200160"/>
            </a:xfrm>
            <a:custGeom>
              <a:avLst/>
              <a:gdLst/>
              <a:ahLst/>
              <a:rect l="l" t="t" r="r" b="b"/>
              <a:pathLst>
                <a:path w="259079" h="200025">
                  <a:moveTo>
                    <a:pt x="157784" y="136893"/>
                  </a:moveTo>
                  <a:lnTo>
                    <a:pt x="134200" y="136893"/>
                  </a:lnTo>
                  <a:lnTo>
                    <a:pt x="134200" y="145046"/>
                  </a:lnTo>
                  <a:lnTo>
                    <a:pt x="157784" y="145046"/>
                  </a:lnTo>
                  <a:lnTo>
                    <a:pt x="157784" y="136893"/>
                  </a:lnTo>
                  <a:close/>
                </a:path>
                <a:path w="259079" h="200025">
                  <a:moveTo>
                    <a:pt x="157784" y="84543"/>
                  </a:moveTo>
                  <a:lnTo>
                    <a:pt x="44665" y="84543"/>
                  </a:lnTo>
                  <a:lnTo>
                    <a:pt x="44665" y="97243"/>
                  </a:lnTo>
                  <a:lnTo>
                    <a:pt x="44665" y="104863"/>
                  </a:lnTo>
                  <a:lnTo>
                    <a:pt x="44665" y="158203"/>
                  </a:lnTo>
                  <a:lnTo>
                    <a:pt x="157784" y="158203"/>
                  </a:lnTo>
                  <a:lnTo>
                    <a:pt x="157784" y="145503"/>
                  </a:lnTo>
                  <a:lnTo>
                    <a:pt x="67830" y="145503"/>
                  </a:lnTo>
                  <a:lnTo>
                    <a:pt x="67830" y="136613"/>
                  </a:lnTo>
                  <a:lnTo>
                    <a:pt x="157784" y="136613"/>
                  </a:lnTo>
                  <a:lnTo>
                    <a:pt x="157784" y="125183"/>
                  </a:lnTo>
                  <a:lnTo>
                    <a:pt x="67830" y="125183"/>
                  </a:lnTo>
                  <a:lnTo>
                    <a:pt x="67830" y="117563"/>
                  </a:lnTo>
                  <a:lnTo>
                    <a:pt x="134200" y="117563"/>
                  </a:lnTo>
                  <a:lnTo>
                    <a:pt x="134200" y="124790"/>
                  </a:lnTo>
                  <a:lnTo>
                    <a:pt x="157784" y="124790"/>
                  </a:lnTo>
                  <a:lnTo>
                    <a:pt x="157784" y="97663"/>
                  </a:lnTo>
                  <a:lnTo>
                    <a:pt x="134200" y="97663"/>
                  </a:lnTo>
                  <a:lnTo>
                    <a:pt x="134200" y="104863"/>
                  </a:lnTo>
                  <a:lnTo>
                    <a:pt x="67830" y="104863"/>
                  </a:lnTo>
                  <a:lnTo>
                    <a:pt x="67830" y="97243"/>
                  </a:lnTo>
                  <a:lnTo>
                    <a:pt x="157784" y="97243"/>
                  </a:lnTo>
                  <a:lnTo>
                    <a:pt x="157784" y="84543"/>
                  </a:lnTo>
                  <a:close/>
                </a:path>
                <a:path w="259079" h="200025">
                  <a:moveTo>
                    <a:pt x="165506" y="12153"/>
                  </a:moveTo>
                  <a:lnTo>
                    <a:pt x="16078" y="12153"/>
                  </a:lnTo>
                  <a:lnTo>
                    <a:pt x="16078" y="26123"/>
                  </a:lnTo>
                  <a:lnTo>
                    <a:pt x="16078" y="38823"/>
                  </a:lnTo>
                  <a:lnTo>
                    <a:pt x="16078" y="54063"/>
                  </a:lnTo>
                  <a:lnTo>
                    <a:pt x="165506" y="54063"/>
                  </a:lnTo>
                  <a:lnTo>
                    <a:pt x="165506" y="38823"/>
                  </a:lnTo>
                  <a:lnTo>
                    <a:pt x="39433" y="38823"/>
                  </a:lnTo>
                  <a:lnTo>
                    <a:pt x="39433" y="26123"/>
                  </a:lnTo>
                  <a:lnTo>
                    <a:pt x="59702" y="26123"/>
                  </a:lnTo>
                  <a:lnTo>
                    <a:pt x="59702" y="38798"/>
                  </a:lnTo>
                  <a:lnTo>
                    <a:pt x="80365" y="38798"/>
                  </a:lnTo>
                  <a:lnTo>
                    <a:pt x="80365" y="26123"/>
                  </a:lnTo>
                  <a:lnTo>
                    <a:pt x="100812" y="26123"/>
                  </a:lnTo>
                  <a:lnTo>
                    <a:pt x="100812" y="38798"/>
                  </a:lnTo>
                  <a:lnTo>
                    <a:pt x="121259" y="38798"/>
                  </a:lnTo>
                  <a:lnTo>
                    <a:pt x="121259" y="26123"/>
                  </a:lnTo>
                  <a:lnTo>
                    <a:pt x="142138" y="26123"/>
                  </a:lnTo>
                  <a:lnTo>
                    <a:pt x="142138" y="38798"/>
                  </a:lnTo>
                  <a:lnTo>
                    <a:pt x="165506" y="38798"/>
                  </a:lnTo>
                  <a:lnTo>
                    <a:pt x="165506" y="26123"/>
                  </a:lnTo>
                  <a:lnTo>
                    <a:pt x="165506" y="12153"/>
                  </a:lnTo>
                  <a:close/>
                </a:path>
                <a:path w="259079" h="200025">
                  <a:moveTo>
                    <a:pt x="178447" y="61760"/>
                  </a:moveTo>
                  <a:lnTo>
                    <a:pt x="107480" y="61760"/>
                  </a:lnTo>
                  <a:lnTo>
                    <a:pt x="107480" y="54457"/>
                  </a:lnTo>
                  <a:lnTo>
                    <a:pt x="83489" y="54457"/>
                  </a:lnTo>
                  <a:lnTo>
                    <a:pt x="83489" y="61760"/>
                  </a:lnTo>
                  <a:lnTo>
                    <a:pt x="0" y="61760"/>
                  </a:lnTo>
                  <a:lnTo>
                    <a:pt x="0" y="78041"/>
                  </a:lnTo>
                  <a:lnTo>
                    <a:pt x="83489" y="78041"/>
                  </a:lnTo>
                  <a:lnTo>
                    <a:pt x="83489" y="84505"/>
                  </a:lnTo>
                  <a:lnTo>
                    <a:pt x="107480" y="84505"/>
                  </a:lnTo>
                  <a:lnTo>
                    <a:pt x="107480" y="78041"/>
                  </a:lnTo>
                  <a:lnTo>
                    <a:pt x="178447" y="78041"/>
                  </a:lnTo>
                  <a:lnTo>
                    <a:pt x="178447" y="61760"/>
                  </a:lnTo>
                  <a:close/>
                </a:path>
                <a:path w="259079" h="200025">
                  <a:moveTo>
                    <a:pt x="179070" y="164553"/>
                  </a:moveTo>
                  <a:lnTo>
                    <a:pt x="32562" y="164553"/>
                  </a:lnTo>
                  <a:lnTo>
                    <a:pt x="32562" y="97243"/>
                  </a:lnTo>
                  <a:lnTo>
                    <a:pt x="32575" y="95973"/>
                  </a:lnTo>
                  <a:lnTo>
                    <a:pt x="34061" y="95973"/>
                  </a:lnTo>
                  <a:lnTo>
                    <a:pt x="34061" y="94703"/>
                  </a:lnTo>
                  <a:lnTo>
                    <a:pt x="35852" y="94703"/>
                  </a:lnTo>
                  <a:lnTo>
                    <a:pt x="35852" y="93433"/>
                  </a:lnTo>
                  <a:lnTo>
                    <a:pt x="36106" y="93433"/>
                  </a:lnTo>
                  <a:lnTo>
                    <a:pt x="36106" y="90893"/>
                  </a:lnTo>
                  <a:lnTo>
                    <a:pt x="26174" y="90893"/>
                  </a:lnTo>
                  <a:lnTo>
                    <a:pt x="26174" y="89623"/>
                  </a:lnTo>
                  <a:lnTo>
                    <a:pt x="9398" y="89623"/>
                  </a:lnTo>
                  <a:lnTo>
                    <a:pt x="9398" y="189953"/>
                  </a:lnTo>
                  <a:lnTo>
                    <a:pt x="32562" y="189953"/>
                  </a:lnTo>
                  <a:lnTo>
                    <a:pt x="32562" y="182333"/>
                  </a:lnTo>
                  <a:lnTo>
                    <a:pt x="179070" y="182333"/>
                  </a:lnTo>
                  <a:lnTo>
                    <a:pt x="179070" y="164553"/>
                  </a:lnTo>
                  <a:close/>
                </a:path>
                <a:path w="259079" h="200025">
                  <a:moveTo>
                    <a:pt x="258673" y="99758"/>
                  </a:moveTo>
                  <a:lnTo>
                    <a:pt x="254406" y="63919"/>
                  </a:lnTo>
                  <a:lnTo>
                    <a:pt x="244081" y="35623"/>
                  </a:lnTo>
                  <a:lnTo>
                    <a:pt x="231457" y="14465"/>
                  </a:lnTo>
                  <a:lnTo>
                    <a:pt x="220268" y="0"/>
                  </a:lnTo>
                  <a:lnTo>
                    <a:pt x="204419" y="13982"/>
                  </a:lnTo>
                  <a:lnTo>
                    <a:pt x="213995" y="26530"/>
                  </a:lnTo>
                  <a:lnTo>
                    <a:pt x="224675" y="44729"/>
                  </a:lnTo>
                  <a:lnTo>
                    <a:pt x="233375" y="68999"/>
                  </a:lnTo>
                  <a:lnTo>
                    <a:pt x="236969" y="99758"/>
                  </a:lnTo>
                  <a:lnTo>
                    <a:pt x="233375" y="130594"/>
                  </a:lnTo>
                  <a:lnTo>
                    <a:pt x="224675" y="154851"/>
                  </a:lnTo>
                  <a:lnTo>
                    <a:pt x="213995" y="173012"/>
                  </a:lnTo>
                  <a:lnTo>
                    <a:pt x="204419" y="185534"/>
                  </a:lnTo>
                  <a:lnTo>
                    <a:pt x="220268" y="199517"/>
                  </a:lnTo>
                  <a:lnTo>
                    <a:pt x="231457" y="185153"/>
                  </a:lnTo>
                  <a:lnTo>
                    <a:pt x="244081" y="164033"/>
                  </a:lnTo>
                  <a:lnTo>
                    <a:pt x="254406" y="135699"/>
                  </a:lnTo>
                  <a:lnTo>
                    <a:pt x="258673" y="99758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object 59"/>
          <p:cNvGrpSpPr/>
          <p:nvPr/>
        </p:nvGrpSpPr>
        <p:grpSpPr>
          <a:xfrm>
            <a:off x="5762520" y="1290600"/>
            <a:ext cx="720720" cy="189000"/>
            <a:chOff x="5762520" y="1290600"/>
            <a:chExt cx="720720" cy="189000"/>
          </a:xfrm>
        </p:grpSpPr>
        <p:pic>
          <p:nvPicPr>
            <p:cNvPr id="99" name="object 60" descr=""/>
            <p:cNvPicPr/>
            <p:nvPr/>
          </p:nvPicPr>
          <p:blipFill>
            <a:blip r:embed="rId16"/>
            <a:stretch/>
          </p:blipFill>
          <p:spPr>
            <a:xfrm>
              <a:off x="5762520" y="1290600"/>
              <a:ext cx="10476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object 61" descr=""/>
            <p:cNvPicPr/>
            <p:nvPr/>
          </p:nvPicPr>
          <p:blipFill>
            <a:blip r:embed="rId17"/>
            <a:stretch/>
          </p:blipFill>
          <p:spPr>
            <a:xfrm>
              <a:off x="5893200" y="1302480"/>
              <a:ext cx="151920" cy="1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object 62" descr=""/>
            <p:cNvPicPr/>
            <p:nvPr/>
          </p:nvPicPr>
          <p:blipFill>
            <a:blip r:embed="rId18"/>
            <a:stretch/>
          </p:blipFill>
          <p:spPr>
            <a:xfrm>
              <a:off x="6066720" y="1293120"/>
              <a:ext cx="129960" cy="1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object 63" descr=""/>
            <p:cNvPicPr/>
            <p:nvPr/>
          </p:nvPicPr>
          <p:blipFill>
            <a:blip r:embed="rId19"/>
            <a:stretch/>
          </p:blipFill>
          <p:spPr>
            <a:xfrm>
              <a:off x="6228720" y="1314000"/>
              <a:ext cx="167760" cy="1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object 64" descr=""/>
            <p:cNvPicPr/>
            <p:nvPr/>
          </p:nvPicPr>
          <p:blipFill>
            <a:blip r:embed="rId20"/>
            <a:stretch/>
          </p:blipFill>
          <p:spPr>
            <a:xfrm>
              <a:off x="6418800" y="1411560"/>
              <a:ext cx="64440" cy="64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object 65" descr=""/>
          <p:cNvPicPr/>
          <p:nvPr/>
        </p:nvPicPr>
        <p:blipFill>
          <a:blip r:embed="rId21"/>
          <a:stretch/>
        </p:blipFill>
        <p:spPr>
          <a:xfrm>
            <a:off x="306360" y="1704960"/>
            <a:ext cx="147600" cy="149400"/>
          </a:xfrm>
          <a:prstGeom prst="rect">
            <a:avLst/>
          </a:prstGeom>
          <a:ln w="0">
            <a:noFill/>
          </a:ln>
        </p:spPr>
      </p:pic>
      <p:grpSp>
        <p:nvGrpSpPr>
          <p:cNvPr id="105" name="object 66"/>
          <p:cNvGrpSpPr/>
          <p:nvPr/>
        </p:nvGrpSpPr>
        <p:grpSpPr>
          <a:xfrm>
            <a:off x="566640" y="1676520"/>
            <a:ext cx="5972400" cy="203040"/>
            <a:chOff x="566640" y="1676520"/>
            <a:chExt cx="5972400" cy="203040"/>
          </a:xfrm>
        </p:grpSpPr>
        <p:pic>
          <p:nvPicPr>
            <p:cNvPr id="106" name="object 67" descr=""/>
            <p:cNvPicPr/>
            <p:nvPr/>
          </p:nvPicPr>
          <p:blipFill>
            <a:blip r:embed="rId22"/>
            <a:stretch/>
          </p:blipFill>
          <p:spPr>
            <a:xfrm>
              <a:off x="566640" y="1693440"/>
              <a:ext cx="186120" cy="1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object 68" descr=""/>
            <p:cNvPicPr/>
            <p:nvPr/>
          </p:nvPicPr>
          <p:blipFill>
            <a:blip r:embed="rId23"/>
            <a:stretch/>
          </p:blipFill>
          <p:spPr>
            <a:xfrm>
              <a:off x="772560" y="1693080"/>
              <a:ext cx="178200" cy="1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object 69"/>
            <p:cNvSpPr/>
            <p:nvPr/>
          </p:nvSpPr>
          <p:spPr>
            <a:xfrm>
              <a:off x="974520" y="1720080"/>
              <a:ext cx="162360" cy="130680"/>
            </a:xfrm>
            <a:custGeom>
              <a:avLst/>
              <a:gdLst/>
              <a:ahLst/>
              <a:rect l="l" t="t" r="r" b="b"/>
              <a:pathLst>
                <a:path w="162559" h="130810">
                  <a:moveTo>
                    <a:pt x="145046" y="0"/>
                  </a:moveTo>
                  <a:lnTo>
                    <a:pt x="138163" y="4597"/>
                  </a:lnTo>
                  <a:lnTo>
                    <a:pt x="0" y="4597"/>
                  </a:lnTo>
                  <a:lnTo>
                    <a:pt x="0" y="28181"/>
                  </a:lnTo>
                  <a:lnTo>
                    <a:pt x="117513" y="28181"/>
                  </a:lnTo>
                  <a:lnTo>
                    <a:pt x="97104" y="49699"/>
                  </a:lnTo>
                  <a:lnTo>
                    <a:pt x="75133" y="72008"/>
                  </a:lnTo>
                  <a:lnTo>
                    <a:pt x="63266" y="60836"/>
                  </a:lnTo>
                  <a:lnTo>
                    <a:pt x="52171" y="51549"/>
                  </a:lnTo>
                  <a:lnTo>
                    <a:pt x="35902" y="67830"/>
                  </a:lnTo>
                  <a:lnTo>
                    <a:pt x="48874" y="79199"/>
                  </a:lnTo>
                  <a:lnTo>
                    <a:pt x="62512" y="93344"/>
                  </a:lnTo>
                  <a:lnTo>
                    <a:pt x="75993" y="110386"/>
                  </a:lnTo>
                  <a:lnTo>
                    <a:pt x="88493" y="130441"/>
                  </a:lnTo>
                  <a:lnTo>
                    <a:pt x="109575" y="113537"/>
                  </a:lnTo>
                  <a:lnTo>
                    <a:pt x="105663" y="107627"/>
                  </a:lnTo>
                  <a:lnTo>
                    <a:pt x="101750" y="102265"/>
                  </a:lnTo>
                  <a:lnTo>
                    <a:pt x="92049" y="90373"/>
                  </a:lnTo>
                  <a:lnTo>
                    <a:pt x="111718" y="69706"/>
                  </a:lnTo>
                  <a:lnTo>
                    <a:pt x="130159" y="50720"/>
                  </a:lnTo>
                  <a:lnTo>
                    <a:pt x="152781" y="27965"/>
                  </a:lnTo>
                  <a:lnTo>
                    <a:pt x="155079" y="25882"/>
                  </a:lnTo>
                  <a:lnTo>
                    <a:pt x="162382" y="20243"/>
                  </a:lnTo>
                  <a:lnTo>
                    <a:pt x="145046" y="0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object 70" descr=""/>
            <p:cNvPicPr/>
            <p:nvPr/>
          </p:nvPicPr>
          <p:blipFill>
            <a:blip r:embed="rId24"/>
            <a:stretch/>
          </p:blipFill>
          <p:spPr>
            <a:xfrm>
              <a:off x="1153800" y="1676520"/>
              <a:ext cx="5385240" cy="203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object 71" descr=""/>
          <p:cNvPicPr/>
          <p:nvPr/>
        </p:nvPicPr>
        <p:blipFill>
          <a:blip r:embed="rId25"/>
          <a:stretch/>
        </p:blipFill>
        <p:spPr>
          <a:xfrm>
            <a:off x="306360" y="2101680"/>
            <a:ext cx="147600" cy="147960"/>
          </a:xfrm>
          <a:prstGeom prst="rect">
            <a:avLst/>
          </a:prstGeom>
          <a:ln w="0">
            <a:noFill/>
          </a:ln>
        </p:spPr>
      </p:pic>
      <p:pic>
        <p:nvPicPr>
          <p:cNvPr id="111" name="object 72" descr=""/>
          <p:cNvPicPr/>
          <p:nvPr/>
        </p:nvPicPr>
        <p:blipFill>
          <a:blip r:embed="rId26"/>
          <a:stretch/>
        </p:blipFill>
        <p:spPr>
          <a:xfrm>
            <a:off x="560520" y="2076480"/>
            <a:ext cx="4448160" cy="193680"/>
          </a:xfrm>
          <a:prstGeom prst="rect">
            <a:avLst/>
          </a:prstGeom>
          <a:ln w="0">
            <a:noFill/>
          </a:ln>
        </p:spPr>
      </p:pic>
      <p:grpSp>
        <p:nvGrpSpPr>
          <p:cNvPr id="112" name="object 73"/>
          <p:cNvGrpSpPr/>
          <p:nvPr/>
        </p:nvGrpSpPr>
        <p:grpSpPr>
          <a:xfrm>
            <a:off x="5094360" y="2076480"/>
            <a:ext cx="2582640" cy="200160"/>
            <a:chOff x="5094360" y="2076480"/>
            <a:chExt cx="2582640" cy="200160"/>
          </a:xfrm>
        </p:grpSpPr>
        <p:pic>
          <p:nvPicPr>
            <p:cNvPr id="113" name="object 74" descr=""/>
            <p:cNvPicPr/>
            <p:nvPr/>
          </p:nvPicPr>
          <p:blipFill>
            <a:blip r:embed="rId27"/>
            <a:stretch/>
          </p:blipFill>
          <p:spPr>
            <a:xfrm>
              <a:off x="5094360" y="2076480"/>
              <a:ext cx="1814040" cy="19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object 75"/>
            <p:cNvSpPr/>
            <p:nvPr/>
          </p:nvSpPr>
          <p:spPr>
            <a:xfrm>
              <a:off x="6925320" y="2162880"/>
              <a:ext cx="148320" cy="26640"/>
            </a:xfrm>
            <a:custGeom>
              <a:avLst/>
              <a:gdLst/>
              <a:ahLst/>
              <a:rect l="l" t="t" r="r" b="b"/>
              <a:pathLst>
                <a:path w="148590" h="26669">
                  <a:moveTo>
                    <a:pt x="148386" y="0"/>
                  </a:moveTo>
                  <a:lnTo>
                    <a:pt x="0" y="0"/>
                  </a:lnTo>
                  <a:lnTo>
                    <a:pt x="0" y="26504"/>
                  </a:lnTo>
                  <a:lnTo>
                    <a:pt x="148386" y="26504"/>
                  </a:lnTo>
                  <a:lnTo>
                    <a:pt x="148386" y="0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object 76" descr=""/>
            <p:cNvPicPr/>
            <p:nvPr/>
          </p:nvPicPr>
          <p:blipFill>
            <a:blip r:embed="rId28"/>
            <a:stretch/>
          </p:blipFill>
          <p:spPr>
            <a:xfrm>
              <a:off x="7093440" y="2089440"/>
              <a:ext cx="14616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object 77" descr=""/>
            <p:cNvPicPr/>
            <p:nvPr/>
          </p:nvPicPr>
          <p:blipFill>
            <a:blip r:embed="rId29"/>
            <a:stretch/>
          </p:blipFill>
          <p:spPr>
            <a:xfrm>
              <a:off x="7265880" y="2084400"/>
              <a:ext cx="33372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object 78"/>
            <p:cNvSpPr/>
            <p:nvPr/>
          </p:nvSpPr>
          <p:spPr>
            <a:xfrm>
              <a:off x="7622640" y="2076480"/>
              <a:ext cx="54360" cy="200160"/>
            </a:xfrm>
            <a:custGeom>
              <a:avLst/>
              <a:gdLst/>
              <a:ahLst/>
              <a:rect l="l" t="t" r="r" b="b"/>
              <a:pathLst>
                <a:path w="54609" h="200025">
                  <a:moveTo>
                    <a:pt x="15849" y="0"/>
                  </a:moveTo>
                  <a:lnTo>
                    <a:pt x="0" y="13982"/>
                  </a:lnTo>
                  <a:lnTo>
                    <a:pt x="9575" y="26531"/>
                  </a:lnTo>
                  <a:lnTo>
                    <a:pt x="20266" y="44735"/>
                  </a:lnTo>
                  <a:lnTo>
                    <a:pt x="28960" y="69007"/>
                  </a:lnTo>
                  <a:lnTo>
                    <a:pt x="32550" y="99758"/>
                  </a:lnTo>
                  <a:lnTo>
                    <a:pt x="28960" y="130595"/>
                  </a:lnTo>
                  <a:lnTo>
                    <a:pt x="20266" y="154857"/>
                  </a:lnTo>
                  <a:lnTo>
                    <a:pt x="9575" y="173014"/>
                  </a:lnTo>
                  <a:lnTo>
                    <a:pt x="0" y="185534"/>
                  </a:lnTo>
                  <a:lnTo>
                    <a:pt x="15849" y="199516"/>
                  </a:lnTo>
                  <a:lnTo>
                    <a:pt x="27047" y="185160"/>
                  </a:lnTo>
                  <a:lnTo>
                    <a:pt x="39671" y="164034"/>
                  </a:lnTo>
                  <a:lnTo>
                    <a:pt x="49986" y="135710"/>
                  </a:lnTo>
                  <a:lnTo>
                    <a:pt x="54254" y="99758"/>
                  </a:lnTo>
                  <a:lnTo>
                    <a:pt x="49986" y="63920"/>
                  </a:lnTo>
                  <a:lnTo>
                    <a:pt x="39671" y="35634"/>
                  </a:lnTo>
                  <a:lnTo>
                    <a:pt x="27047" y="14471"/>
                  </a:lnTo>
                  <a:lnTo>
                    <a:pt x="15849" y="0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object 79" descr=""/>
          <p:cNvPicPr/>
          <p:nvPr/>
        </p:nvPicPr>
        <p:blipFill>
          <a:blip r:embed="rId30"/>
          <a:stretch/>
        </p:blipFill>
        <p:spPr>
          <a:xfrm>
            <a:off x="7732800" y="2203560"/>
            <a:ext cx="65160" cy="63360"/>
          </a:xfrm>
          <a:prstGeom prst="rect">
            <a:avLst/>
          </a:prstGeom>
          <a:ln w="0">
            <a:noFill/>
          </a:ln>
        </p:spPr>
      </p:pic>
      <p:pic>
        <p:nvPicPr>
          <p:cNvPr id="119" name="object 80" descr=""/>
          <p:cNvPicPr/>
          <p:nvPr/>
        </p:nvPicPr>
        <p:blipFill>
          <a:blip r:embed="rId31"/>
          <a:stretch/>
        </p:blipFill>
        <p:spPr>
          <a:xfrm>
            <a:off x="306360" y="2496960"/>
            <a:ext cx="147600" cy="149400"/>
          </a:xfrm>
          <a:prstGeom prst="rect">
            <a:avLst/>
          </a:prstGeom>
          <a:ln w="0">
            <a:noFill/>
          </a:ln>
        </p:spPr>
      </p:pic>
      <p:pic>
        <p:nvPicPr>
          <p:cNvPr id="120" name="object 81" descr=""/>
          <p:cNvPicPr/>
          <p:nvPr/>
        </p:nvPicPr>
        <p:blipFill>
          <a:blip r:embed="rId32"/>
          <a:stretch/>
        </p:blipFill>
        <p:spPr>
          <a:xfrm>
            <a:off x="568440" y="2478240"/>
            <a:ext cx="7397640" cy="19368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82" descr=""/>
          <p:cNvPicPr/>
          <p:nvPr/>
        </p:nvPicPr>
        <p:blipFill>
          <a:blip r:embed="rId33"/>
          <a:stretch/>
        </p:blipFill>
        <p:spPr>
          <a:xfrm>
            <a:off x="306360" y="2894040"/>
            <a:ext cx="147600" cy="147600"/>
          </a:xfrm>
          <a:prstGeom prst="rect">
            <a:avLst/>
          </a:prstGeom>
          <a:ln w="0">
            <a:noFill/>
          </a:ln>
        </p:spPr>
      </p:pic>
      <p:grpSp>
        <p:nvGrpSpPr>
          <p:cNvPr id="122" name="object 83"/>
          <p:cNvGrpSpPr/>
          <p:nvPr/>
        </p:nvGrpSpPr>
        <p:grpSpPr>
          <a:xfrm>
            <a:off x="565200" y="2881440"/>
            <a:ext cx="1098360" cy="176040"/>
            <a:chOff x="565200" y="2881440"/>
            <a:chExt cx="1098360" cy="176040"/>
          </a:xfrm>
        </p:grpSpPr>
        <p:pic>
          <p:nvPicPr>
            <p:cNvPr id="123" name="object 84" descr=""/>
            <p:cNvPicPr/>
            <p:nvPr/>
          </p:nvPicPr>
          <p:blipFill>
            <a:blip r:embed="rId34"/>
            <a:stretch/>
          </p:blipFill>
          <p:spPr>
            <a:xfrm>
              <a:off x="565200" y="2883600"/>
              <a:ext cx="178560" cy="17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object 85" descr=""/>
            <p:cNvPicPr/>
            <p:nvPr/>
          </p:nvPicPr>
          <p:blipFill>
            <a:blip r:embed="rId35"/>
            <a:stretch/>
          </p:blipFill>
          <p:spPr>
            <a:xfrm>
              <a:off x="771120" y="2882160"/>
              <a:ext cx="185400" cy="17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object 86" descr=""/>
            <p:cNvPicPr/>
            <p:nvPr/>
          </p:nvPicPr>
          <p:blipFill>
            <a:blip r:embed="rId36"/>
            <a:stretch/>
          </p:blipFill>
          <p:spPr>
            <a:xfrm>
              <a:off x="977400" y="2891520"/>
              <a:ext cx="169560" cy="15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object 87"/>
            <p:cNvSpPr/>
            <p:nvPr/>
          </p:nvSpPr>
          <p:spPr>
            <a:xfrm>
              <a:off x="1169280" y="2908080"/>
              <a:ext cx="327960" cy="130680"/>
            </a:xfrm>
            <a:custGeom>
              <a:avLst/>
              <a:gdLst/>
              <a:ahLst/>
              <a:rect l="l" t="t" r="r" b="b"/>
              <a:pathLst>
                <a:path w="327659" h="130810">
                  <a:moveTo>
                    <a:pt x="162369" y="20243"/>
                  </a:moveTo>
                  <a:lnTo>
                    <a:pt x="145046" y="0"/>
                  </a:lnTo>
                  <a:lnTo>
                    <a:pt x="138163" y="4597"/>
                  </a:lnTo>
                  <a:lnTo>
                    <a:pt x="0" y="4597"/>
                  </a:lnTo>
                  <a:lnTo>
                    <a:pt x="0" y="28181"/>
                  </a:lnTo>
                  <a:lnTo>
                    <a:pt x="117500" y="28181"/>
                  </a:lnTo>
                  <a:lnTo>
                    <a:pt x="97091" y="49707"/>
                  </a:lnTo>
                  <a:lnTo>
                    <a:pt x="75133" y="72009"/>
                  </a:lnTo>
                  <a:lnTo>
                    <a:pt x="63271" y="60845"/>
                  </a:lnTo>
                  <a:lnTo>
                    <a:pt x="52171" y="51549"/>
                  </a:lnTo>
                  <a:lnTo>
                    <a:pt x="35890" y="67830"/>
                  </a:lnTo>
                  <a:lnTo>
                    <a:pt x="48869" y="79209"/>
                  </a:lnTo>
                  <a:lnTo>
                    <a:pt x="62509" y="93345"/>
                  </a:lnTo>
                  <a:lnTo>
                    <a:pt x="75984" y="110388"/>
                  </a:lnTo>
                  <a:lnTo>
                    <a:pt x="88480" y="130441"/>
                  </a:lnTo>
                  <a:lnTo>
                    <a:pt x="109562" y="113538"/>
                  </a:lnTo>
                  <a:lnTo>
                    <a:pt x="105651" y="107632"/>
                  </a:lnTo>
                  <a:lnTo>
                    <a:pt x="101739" y="102273"/>
                  </a:lnTo>
                  <a:lnTo>
                    <a:pt x="92036" y="90373"/>
                  </a:lnTo>
                  <a:lnTo>
                    <a:pt x="111709" y="69710"/>
                  </a:lnTo>
                  <a:lnTo>
                    <a:pt x="130149" y="50723"/>
                  </a:lnTo>
                  <a:lnTo>
                    <a:pt x="152768" y="27965"/>
                  </a:lnTo>
                  <a:lnTo>
                    <a:pt x="155067" y="25882"/>
                  </a:lnTo>
                  <a:lnTo>
                    <a:pt x="162369" y="20243"/>
                  </a:lnTo>
                  <a:close/>
                </a:path>
                <a:path w="327659" h="130810">
                  <a:moveTo>
                    <a:pt x="327545" y="46545"/>
                  </a:moveTo>
                  <a:lnTo>
                    <a:pt x="179146" y="46545"/>
                  </a:lnTo>
                  <a:lnTo>
                    <a:pt x="179146" y="73050"/>
                  </a:lnTo>
                  <a:lnTo>
                    <a:pt x="327545" y="73050"/>
                  </a:lnTo>
                  <a:lnTo>
                    <a:pt x="327545" y="46545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object 88" descr=""/>
            <p:cNvPicPr/>
            <p:nvPr/>
          </p:nvPicPr>
          <p:blipFill>
            <a:blip r:embed="rId37"/>
            <a:stretch/>
          </p:blipFill>
          <p:spPr>
            <a:xfrm>
              <a:off x="1517400" y="2881440"/>
              <a:ext cx="146160" cy="17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object 89"/>
          <p:cNvGrpSpPr/>
          <p:nvPr/>
        </p:nvGrpSpPr>
        <p:grpSpPr>
          <a:xfrm>
            <a:off x="1719360" y="2867040"/>
            <a:ext cx="1022400" cy="201600"/>
            <a:chOff x="1719360" y="2867040"/>
            <a:chExt cx="1022400" cy="201600"/>
          </a:xfrm>
        </p:grpSpPr>
        <p:sp>
          <p:nvSpPr>
            <p:cNvPr id="129" name="object 90"/>
            <p:cNvSpPr/>
            <p:nvPr/>
          </p:nvSpPr>
          <p:spPr>
            <a:xfrm>
              <a:off x="1719360" y="2868480"/>
              <a:ext cx="54360" cy="200160"/>
            </a:xfrm>
            <a:custGeom>
              <a:avLst/>
              <a:gdLst/>
              <a:ahLst/>
              <a:rect l="l" t="t" r="r" b="b"/>
              <a:pathLst>
                <a:path w="54610" h="200025">
                  <a:moveTo>
                    <a:pt x="38404" y="0"/>
                  </a:moveTo>
                  <a:lnTo>
                    <a:pt x="27206" y="14354"/>
                  </a:lnTo>
                  <a:lnTo>
                    <a:pt x="14582" y="35477"/>
                  </a:lnTo>
                  <a:lnTo>
                    <a:pt x="4268" y="63800"/>
                  </a:lnTo>
                  <a:lnTo>
                    <a:pt x="0" y="99758"/>
                  </a:lnTo>
                  <a:lnTo>
                    <a:pt x="4268" y="135596"/>
                  </a:lnTo>
                  <a:lnTo>
                    <a:pt x="14582" y="163882"/>
                  </a:lnTo>
                  <a:lnTo>
                    <a:pt x="27206" y="185045"/>
                  </a:lnTo>
                  <a:lnTo>
                    <a:pt x="38404" y="199516"/>
                  </a:lnTo>
                  <a:lnTo>
                    <a:pt x="54267" y="185534"/>
                  </a:lnTo>
                  <a:lnTo>
                    <a:pt x="44689" y="173014"/>
                  </a:lnTo>
                  <a:lnTo>
                    <a:pt x="33994" y="154857"/>
                  </a:lnTo>
                  <a:lnTo>
                    <a:pt x="25295" y="130595"/>
                  </a:lnTo>
                  <a:lnTo>
                    <a:pt x="21704" y="99758"/>
                  </a:lnTo>
                  <a:lnTo>
                    <a:pt x="25295" y="69007"/>
                  </a:lnTo>
                  <a:lnTo>
                    <a:pt x="33994" y="44735"/>
                  </a:lnTo>
                  <a:lnTo>
                    <a:pt x="44689" y="26531"/>
                  </a:lnTo>
                  <a:lnTo>
                    <a:pt x="54267" y="13982"/>
                  </a:lnTo>
                  <a:lnTo>
                    <a:pt x="38404" y="0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object 91" descr=""/>
            <p:cNvPicPr/>
            <p:nvPr/>
          </p:nvPicPr>
          <p:blipFill>
            <a:blip r:embed="rId38"/>
            <a:stretch/>
          </p:blipFill>
          <p:spPr>
            <a:xfrm>
              <a:off x="1793160" y="2867040"/>
              <a:ext cx="290880" cy="1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object 92"/>
            <p:cNvSpPr/>
            <p:nvPr/>
          </p:nvSpPr>
          <p:spPr>
            <a:xfrm>
              <a:off x="2104200" y="2954880"/>
              <a:ext cx="148320" cy="26640"/>
            </a:xfrm>
            <a:custGeom>
              <a:avLst/>
              <a:gdLst/>
              <a:ahLst/>
              <a:rect l="l" t="t" r="r" b="b"/>
              <a:pathLst>
                <a:path w="148589" h="26669">
                  <a:moveTo>
                    <a:pt x="148399" y="0"/>
                  </a:moveTo>
                  <a:lnTo>
                    <a:pt x="0" y="0"/>
                  </a:lnTo>
                  <a:lnTo>
                    <a:pt x="0" y="26504"/>
                  </a:lnTo>
                  <a:lnTo>
                    <a:pt x="148399" y="26504"/>
                  </a:lnTo>
                  <a:lnTo>
                    <a:pt x="148399" y="0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object 93" descr=""/>
            <p:cNvPicPr/>
            <p:nvPr/>
          </p:nvPicPr>
          <p:blipFill>
            <a:blip r:embed="rId39"/>
            <a:stretch/>
          </p:blipFill>
          <p:spPr>
            <a:xfrm>
              <a:off x="2278440" y="2868480"/>
              <a:ext cx="463320" cy="19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object 94"/>
          <p:cNvGrpSpPr/>
          <p:nvPr/>
        </p:nvGrpSpPr>
        <p:grpSpPr>
          <a:xfrm>
            <a:off x="2808360" y="2886120"/>
            <a:ext cx="247680" cy="173160"/>
            <a:chOff x="2808360" y="2886120"/>
            <a:chExt cx="247680" cy="173160"/>
          </a:xfrm>
        </p:grpSpPr>
        <p:pic>
          <p:nvPicPr>
            <p:cNvPr id="134" name="object 95" descr=""/>
            <p:cNvPicPr/>
            <p:nvPr/>
          </p:nvPicPr>
          <p:blipFill>
            <a:blip r:embed="rId40"/>
            <a:stretch/>
          </p:blipFill>
          <p:spPr>
            <a:xfrm>
              <a:off x="2808360" y="2886120"/>
              <a:ext cx="163440" cy="1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object 96"/>
            <p:cNvSpPr/>
            <p:nvPr/>
          </p:nvSpPr>
          <p:spPr>
            <a:xfrm>
              <a:off x="2993760" y="2996640"/>
              <a:ext cx="62280" cy="62640"/>
            </a:xfrm>
            <a:custGeom>
              <a:avLst/>
              <a:gdLst/>
              <a:ahLst/>
              <a:rect l="l" t="t" r="r" b="b"/>
              <a:pathLst>
                <a:path w="62230" h="62864">
                  <a:moveTo>
                    <a:pt x="15646" y="0"/>
                  </a:moveTo>
                  <a:lnTo>
                    <a:pt x="0" y="16281"/>
                  </a:lnTo>
                  <a:lnTo>
                    <a:pt x="11628" y="26511"/>
                  </a:lnTo>
                  <a:lnTo>
                    <a:pt x="22164" y="-27971"/>
                  </a:lnTo>
                  <a:lnTo>
                    <a:pt x="31686" y="-15978"/>
                  </a:lnTo>
                  <a:lnTo>
                    <a:pt x="-25265" y="-2925"/>
                  </a:lnTo>
                  <a:lnTo>
                    <a:pt x="-3561" y="-20248"/>
                  </a:lnTo>
                  <a:lnTo>
                    <a:pt x="-13795" y="30407"/>
                  </a:lnTo>
                  <a:lnTo>
                    <a:pt x="-25006" y="18262"/>
                  </a:lnTo>
                  <a:lnTo>
                    <a:pt x="28459" y="8308"/>
                  </a:lnTo>
                  <a:lnTo>
                    <a:pt x="15646" y="0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object 97"/>
          <p:cNvGrpSpPr/>
          <p:nvPr/>
        </p:nvGrpSpPr>
        <p:grpSpPr>
          <a:xfrm>
            <a:off x="3105000" y="2871720"/>
            <a:ext cx="5861160" cy="192240"/>
            <a:chOff x="3105000" y="2871720"/>
            <a:chExt cx="5861160" cy="192240"/>
          </a:xfrm>
        </p:grpSpPr>
        <p:sp>
          <p:nvSpPr>
            <p:cNvPr id="137" name="object 98"/>
            <p:cNvSpPr/>
            <p:nvPr/>
          </p:nvSpPr>
          <p:spPr>
            <a:xfrm>
              <a:off x="3105000" y="2871720"/>
              <a:ext cx="335160" cy="185400"/>
            </a:xfrm>
            <a:custGeom>
              <a:avLst/>
              <a:gdLst/>
              <a:ahLst/>
              <a:rect l="l" t="t" r="r" b="b"/>
              <a:pathLst>
                <a:path w="335279" h="183514">
                  <a:moveTo>
                    <a:pt x="130225" y="16484"/>
                  </a:moveTo>
                  <a:lnTo>
                    <a:pt x="28168" y="16484"/>
                  </a:lnTo>
                  <a:lnTo>
                    <a:pt x="28168" y="39230"/>
                  </a:lnTo>
                  <a:lnTo>
                    <a:pt x="130225" y="39230"/>
                  </a:lnTo>
                  <a:lnTo>
                    <a:pt x="130225" y="16484"/>
                  </a:lnTo>
                  <a:close/>
                </a:path>
                <a:path w="335279" h="183514">
                  <a:moveTo>
                    <a:pt x="156730" y="69291"/>
                  </a:moveTo>
                  <a:lnTo>
                    <a:pt x="0" y="69291"/>
                  </a:lnTo>
                  <a:lnTo>
                    <a:pt x="0" y="90995"/>
                  </a:lnTo>
                  <a:lnTo>
                    <a:pt x="69710" y="90995"/>
                  </a:lnTo>
                  <a:lnTo>
                    <a:pt x="65849" y="119697"/>
                  </a:lnTo>
                  <a:lnTo>
                    <a:pt x="55410" y="140246"/>
                  </a:lnTo>
                  <a:lnTo>
                    <a:pt x="38252" y="154863"/>
                  </a:lnTo>
                  <a:lnTo>
                    <a:pt x="14185" y="165709"/>
                  </a:lnTo>
                  <a:lnTo>
                    <a:pt x="33807" y="183248"/>
                  </a:lnTo>
                  <a:lnTo>
                    <a:pt x="60083" y="168135"/>
                  </a:lnTo>
                  <a:lnTo>
                    <a:pt x="78676" y="148869"/>
                  </a:lnTo>
                  <a:lnTo>
                    <a:pt x="89928" y="123723"/>
                  </a:lnTo>
                  <a:lnTo>
                    <a:pt x="94119" y="90995"/>
                  </a:lnTo>
                  <a:lnTo>
                    <a:pt x="156730" y="90995"/>
                  </a:lnTo>
                  <a:lnTo>
                    <a:pt x="156730" y="69291"/>
                  </a:lnTo>
                  <a:close/>
                </a:path>
                <a:path w="335279" h="183514">
                  <a:moveTo>
                    <a:pt x="172796" y="40284"/>
                  </a:moveTo>
                  <a:lnTo>
                    <a:pt x="167589" y="35839"/>
                  </a:lnTo>
                  <a:lnTo>
                    <a:pt x="162560" y="31991"/>
                  </a:lnTo>
                  <a:lnTo>
                    <a:pt x="157162" y="28371"/>
                  </a:lnTo>
                  <a:lnTo>
                    <a:pt x="150888" y="24638"/>
                  </a:lnTo>
                  <a:lnTo>
                    <a:pt x="142951" y="36309"/>
                  </a:lnTo>
                  <a:lnTo>
                    <a:pt x="147358" y="39027"/>
                  </a:lnTo>
                  <a:lnTo>
                    <a:pt x="152438" y="42341"/>
                  </a:lnTo>
                  <a:lnTo>
                    <a:pt x="158254" y="46558"/>
                  </a:lnTo>
                  <a:lnTo>
                    <a:pt x="164871" y="51968"/>
                  </a:lnTo>
                  <a:lnTo>
                    <a:pt x="172796" y="40284"/>
                  </a:lnTo>
                  <a:close/>
                </a:path>
                <a:path w="335279" h="183514">
                  <a:moveTo>
                    <a:pt x="178650" y="14198"/>
                  </a:moveTo>
                  <a:lnTo>
                    <a:pt x="175882" y="11747"/>
                  </a:lnTo>
                  <a:lnTo>
                    <a:pt x="172021" y="8826"/>
                  </a:lnTo>
                  <a:lnTo>
                    <a:pt x="166204" y="5041"/>
                  </a:lnTo>
                  <a:lnTo>
                    <a:pt x="157568" y="0"/>
                  </a:lnTo>
                  <a:lnTo>
                    <a:pt x="149847" y="11277"/>
                  </a:lnTo>
                  <a:lnTo>
                    <a:pt x="158369" y="16192"/>
                  </a:lnTo>
                  <a:lnTo>
                    <a:pt x="164147" y="19939"/>
                  </a:lnTo>
                  <a:lnTo>
                    <a:pt x="168046" y="22898"/>
                  </a:lnTo>
                  <a:lnTo>
                    <a:pt x="170929" y="25463"/>
                  </a:lnTo>
                  <a:lnTo>
                    <a:pt x="178650" y="14198"/>
                  </a:lnTo>
                  <a:close/>
                </a:path>
                <a:path w="335279" h="183514">
                  <a:moveTo>
                    <a:pt x="335267" y="82232"/>
                  </a:moveTo>
                  <a:lnTo>
                    <a:pt x="186880" y="82232"/>
                  </a:lnTo>
                  <a:lnTo>
                    <a:pt x="186880" y="108737"/>
                  </a:lnTo>
                  <a:lnTo>
                    <a:pt x="335267" y="108737"/>
                  </a:lnTo>
                  <a:lnTo>
                    <a:pt x="335267" y="82232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object 99" descr=""/>
            <p:cNvPicPr/>
            <p:nvPr/>
          </p:nvPicPr>
          <p:blipFill>
            <a:blip r:embed="rId41"/>
            <a:stretch/>
          </p:blipFill>
          <p:spPr>
            <a:xfrm>
              <a:off x="3463560" y="2879640"/>
              <a:ext cx="142920" cy="17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object 100" descr=""/>
            <p:cNvPicPr/>
            <p:nvPr/>
          </p:nvPicPr>
          <p:blipFill>
            <a:blip r:embed="rId42"/>
            <a:stretch/>
          </p:blipFill>
          <p:spPr>
            <a:xfrm>
              <a:off x="3629160" y="2879280"/>
              <a:ext cx="158040" cy="1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object 101" descr=""/>
            <p:cNvPicPr/>
            <p:nvPr/>
          </p:nvPicPr>
          <p:blipFill>
            <a:blip r:embed="rId43"/>
            <a:stretch/>
          </p:blipFill>
          <p:spPr>
            <a:xfrm>
              <a:off x="3812040" y="2874240"/>
              <a:ext cx="5154120" cy="18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object 102" descr=""/>
          <p:cNvPicPr/>
          <p:nvPr/>
        </p:nvPicPr>
        <p:blipFill>
          <a:blip r:embed="rId44"/>
          <a:stretch/>
        </p:blipFill>
        <p:spPr>
          <a:xfrm>
            <a:off x="8083440" y="1305000"/>
            <a:ext cx="2254320" cy="150840"/>
          </a:xfrm>
          <a:prstGeom prst="rect">
            <a:avLst/>
          </a:prstGeom>
          <a:ln w="0">
            <a:noFill/>
          </a:ln>
        </p:spPr>
      </p:pic>
      <p:pic>
        <p:nvPicPr>
          <p:cNvPr id="142" name="object 103" descr=""/>
          <p:cNvPicPr/>
          <p:nvPr/>
        </p:nvPicPr>
        <p:blipFill>
          <a:blip r:embed="rId45"/>
          <a:stretch/>
        </p:blipFill>
        <p:spPr>
          <a:xfrm>
            <a:off x="8080200" y="1542960"/>
            <a:ext cx="2397240" cy="150840"/>
          </a:xfrm>
          <a:prstGeom prst="rect">
            <a:avLst/>
          </a:prstGeom>
          <a:ln w="0">
            <a:noFill/>
          </a:ln>
        </p:spPr>
      </p:pic>
      <p:pic>
        <p:nvPicPr>
          <p:cNvPr id="143" name="object 104" descr=""/>
          <p:cNvPicPr/>
          <p:nvPr/>
        </p:nvPicPr>
        <p:blipFill>
          <a:blip r:embed="rId46"/>
          <a:stretch/>
        </p:blipFill>
        <p:spPr>
          <a:xfrm>
            <a:off x="709560" y="3787920"/>
            <a:ext cx="415800" cy="201600"/>
          </a:xfrm>
          <a:prstGeom prst="rect">
            <a:avLst/>
          </a:prstGeom>
          <a:ln w="0">
            <a:noFill/>
          </a:ln>
        </p:spPr>
      </p:pic>
      <p:grpSp>
        <p:nvGrpSpPr>
          <p:cNvPr id="144" name="object 105"/>
          <p:cNvGrpSpPr/>
          <p:nvPr/>
        </p:nvGrpSpPr>
        <p:grpSpPr>
          <a:xfrm>
            <a:off x="1365120" y="3790800"/>
            <a:ext cx="254160" cy="198720"/>
            <a:chOff x="1365120" y="3790800"/>
            <a:chExt cx="254160" cy="198720"/>
          </a:xfrm>
        </p:grpSpPr>
        <p:pic>
          <p:nvPicPr>
            <p:cNvPr id="145" name="object 106" descr=""/>
            <p:cNvPicPr/>
            <p:nvPr/>
          </p:nvPicPr>
          <p:blipFill>
            <a:blip r:embed="rId47"/>
            <a:stretch/>
          </p:blipFill>
          <p:spPr>
            <a:xfrm>
              <a:off x="1365120" y="3790800"/>
              <a:ext cx="195120" cy="1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object 107"/>
            <p:cNvSpPr/>
            <p:nvPr/>
          </p:nvSpPr>
          <p:spPr>
            <a:xfrm>
              <a:off x="1586520" y="3828600"/>
              <a:ext cx="32760" cy="124560"/>
            </a:xfrm>
            <a:custGeom>
              <a:avLst/>
              <a:gdLst/>
              <a:ahLst/>
              <a:rect l="l" t="t" r="r" b="b"/>
              <a:pathLst>
                <a:path w="33019" h="124460">
                  <a:moveTo>
                    <a:pt x="32842" y="90093"/>
                  </a:moveTo>
                  <a:lnTo>
                    <a:pt x="0" y="90093"/>
                  </a:lnTo>
                  <a:lnTo>
                    <a:pt x="0" y="124028"/>
                  </a:lnTo>
                  <a:lnTo>
                    <a:pt x="32842" y="124028"/>
                  </a:lnTo>
                  <a:lnTo>
                    <a:pt x="32842" y="90093"/>
                  </a:lnTo>
                  <a:close/>
                </a:path>
                <a:path w="33019" h="124460">
                  <a:moveTo>
                    <a:pt x="32842" y="0"/>
                  </a:moveTo>
                  <a:lnTo>
                    <a:pt x="0" y="0"/>
                  </a:lnTo>
                  <a:lnTo>
                    <a:pt x="0" y="33934"/>
                  </a:lnTo>
                  <a:lnTo>
                    <a:pt x="32842" y="33934"/>
                  </a:lnTo>
                  <a:lnTo>
                    <a:pt x="328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object 108" descr=""/>
          <p:cNvPicPr/>
          <p:nvPr/>
        </p:nvPicPr>
        <p:blipFill>
          <a:blip r:embed="rId48"/>
          <a:stretch/>
        </p:blipFill>
        <p:spPr>
          <a:xfrm>
            <a:off x="1674720" y="3801960"/>
            <a:ext cx="68400" cy="169920"/>
          </a:xfrm>
          <a:prstGeom prst="rect">
            <a:avLst/>
          </a:prstGeom>
          <a:ln w="0">
            <a:noFill/>
          </a:ln>
        </p:spPr>
      </p:pic>
      <p:grpSp>
        <p:nvGrpSpPr>
          <p:cNvPr id="148" name="object 109"/>
          <p:cNvGrpSpPr/>
          <p:nvPr/>
        </p:nvGrpSpPr>
        <p:grpSpPr>
          <a:xfrm>
            <a:off x="1809720" y="3801960"/>
            <a:ext cx="549360" cy="171720"/>
            <a:chOff x="1809720" y="3801960"/>
            <a:chExt cx="549360" cy="171720"/>
          </a:xfrm>
        </p:grpSpPr>
        <p:pic>
          <p:nvPicPr>
            <p:cNvPr id="149" name="object 110" descr=""/>
            <p:cNvPicPr/>
            <p:nvPr/>
          </p:nvPicPr>
          <p:blipFill>
            <a:blip r:embed="rId49"/>
            <a:stretch/>
          </p:blipFill>
          <p:spPr>
            <a:xfrm>
              <a:off x="1809720" y="3801960"/>
              <a:ext cx="145080" cy="1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object 111" descr=""/>
            <p:cNvPicPr/>
            <p:nvPr/>
          </p:nvPicPr>
          <p:blipFill>
            <a:blip r:embed="rId50"/>
            <a:stretch/>
          </p:blipFill>
          <p:spPr>
            <a:xfrm>
              <a:off x="1977840" y="3843720"/>
              <a:ext cx="177120" cy="12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object 112" descr=""/>
            <p:cNvPicPr/>
            <p:nvPr/>
          </p:nvPicPr>
          <p:blipFill>
            <a:blip r:embed="rId51"/>
            <a:stretch/>
          </p:blipFill>
          <p:spPr>
            <a:xfrm>
              <a:off x="2181960" y="3843720"/>
              <a:ext cx="177120" cy="12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object 113" descr=""/>
          <p:cNvPicPr/>
          <p:nvPr/>
        </p:nvPicPr>
        <p:blipFill>
          <a:blip r:embed="rId52"/>
          <a:stretch/>
        </p:blipFill>
        <p:spPr>
          <a:xfrm>
            <a:off x="2454120" y="3817800"/>
            <a:ext cx="139680" cy="139680"/>
          </a:xfrm>
          <a:prstGeom prst="rect">
            <a:avLst/>
          </a:prstGeom>
          <a:ln w="0">
            <a:noFill/>
          </a:ln>
        </p:spPr>
      </p:pic>
      <p:grpSp>
        <p:nvGrpSpPr>
          <p:cNvPr id="153" name="object 114"/>
          <p:cNvGrpSpPr/>
          <p:nvPr/>
        </p:nvGrpSpPr>
        <p:grpSpPr>
          <a:xfrm>
            <a:off x="2685960" y="3789360"/>
            <a:ext cx="449280" cy="201600"/>
            <a:chOff x="2685960" y="3789360"/>
            <a:chExt cx="449280" cy="201600"/>
          </a:xfrm>
        </p:grpSpPr>
        <p:pic>
          <p:nvPicPr>
            <p:cNvPr id="154" name="object 115" descr=""/>
            <p:cNvPicPr/>
            <p:nvPr/>
          </p:nvPicPr>
          <p:blipFill>
            <a:blip r:embed="rId53"/>
            <a:stretch/>
          </p:blipFill>
          <p:spPr>
            <a:xfrm>
              <a:off x="2685960" y="3789360"/>
              <a:ext cx="19728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object 116" descr=""/>
            <p:cNvPicPr/>
            <p:nvPr/>
          </p:nvPicPr>
          <p:blipFill>
            <a:blip r:embed="rId54"/>
            <a:stretch/>
          </p:blipFill>
          <p:spPr>
            <a:xfrm>
              <a:off x="2903400" y="3791520"/>
              <a:ext cx="170640" cy="19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object 117"/>
            <p:cNvSpPr/>
            <p:nvPr/>
          </p:nvSpPr>
          <p:spPr>
            <a:xfrm>
              <a:off x="3102480" y="3828240"/>
              <a:ext cx="32760" cy="125280"/>
            </a:xfrm>
            <a:custGeom>
              <a:avLst/>
              <a:gdLst/>
              <a:ahLst/>
              <a:rect l="l" t="t" r="r" b="b"/>
              <a:pathLst>
                <a:path w="33019" h="124460">
                  <a:moveTo>
                    <a:pt x="32842" y="90093"/>
                  </a:moveTo>
                  <a:lnTo>
                    <a:pt x="0" y="90093"/>
                  </a:lnTo>
                  <a:lnTo>
                    <a:pt x="0" y="124028"/>
                  </a:lnTo>
                  <a:lnTo>
                    <a:pt x="32842" y="124028"/>
                  </a:lnTo>
                  <a:lnTo>
                    <a:pt x="32842" y="90093"/>
                  </a:lnTo>
                  <a:close/>
                </a:path>
                <a:path w="33019" h="124460">
                  <a:moveTo>
                    <a:pt x="32842" y="0"/>
                  </a:moveTo>
                  <a:lnTo>
                    <a:pt x="0" y="0"/>
                  </a:lnTo>
                  <a:lnTo>
                    <a:pt x="0" y="33934"/>
                  </a:lnTo>
                  <a:lnTo>
                    <a:pt x="32842" y="33934"/>
                  </a:lnTo>
                  <a:lnTo>
                    <a:pt x="328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object 118" descr=""/>
          <p:cNvPicPr/>
          <p:nvPr/>
        </p:nvPicPr>
        <p:blipFill>
          <a:blip r:embed="rId55"/>
          <a:stretch/>
        </p:blipFill>
        <p:spPr>
          <a:xfrm>
            <a:off x="3191040" y="3801960"/>
            <a:ext cx="68040" cy="169920"/>
          </a:xfrm>
          <a:prstGeom prst="rect">
            <a:avLst/>
          </a:prstGeom>
          <a:ln w="0">
            <a:noFill/>
          </a:ln>
        </p:spPr>
      </p:pic>
      <p:pic>
        <p:nvPicPr>
          <p:cNvPr id="158" name="object 119" descr=""/>
          <p:cNvPicPr/>
          <p:nvPr/>
        </p:nvPicPr>
        <p:blipFill>
          <a:blip r:embed="rId56"/>
          <a:stretch/>
        </p:blipFill>
        <p:spPr>
          <a:xfrm>
            <a:off x="3327480" y="3787920"/>
            <a:ext cx="1616040" cy="206280"/>
          </a:xfrm>
          <a:prstGeom prst="rect">
            <a:avLst/>
          </a:prstGeom>
          <a:ln w="0">
            <a:noFill/>
          </a:ln>
        </p:spPr>
      </p:pic>
      <p:pic>
        <p:nvPicPr>
          <p:cNvPr id="159" name="object 120" descr=""/>
          <p:cNvPicPr/>
          <p:nvPr/>
        </p:nvPicPr>
        <p:blipFill>
          <a:blip r:embed="rId57"/>
          <a:stretch/>
        </p:blipFill>
        <p:spPr>
          <a:xfrm>
            <a:off x="5748480" y="3789360"/>
            <a:ext cx="417240" cy="200160"/>
          </a:xfrm>
          <a:prstGeom prst="rect">
            <a:avLst/>
          </a:prstGeom>
          <a:ln w="0">
            <a:noFill/>
          </a:ln>
        </p:spPr>
      </p:pic>
      <p:grpSp>
        <p:nvGrpSpPr>
          <p:cNvPr id="160" name="object 121"/>
          <p:cNvGrpSpPr/>
          <p:nvPr/>
        </p:nvGrpSpPr>
        <p:grpSpPr>
          <a:xfrm>
            <a:off x="6405480" y="3790800"/>
            <a:ext cx="995400" cy="198720"/>
            <a:chOff x="6405480" y="3790800"/>
            <a:chExt cx="995400" cy="198720"/>
          </a:xfrm>
        </p:grpSpPr>
        <p:pic>
          <p:nvPicPr>
            <p:cNvPr id="161" name="object 122" descr=""/>
            <p:cNvPicPr/>
            <p:nvPr/>
          </p:nvPicPr>
          <p:blipFill>
            <a:blip r:embed="rId58"/>
            <a:stretch/>
          </p:blipFill>
          <p:spPr>
            <a:xfrm>
              <a:off x="6405480" y="3790800"/>
              <a:ext cx="195480" cy="1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object 123"/>
            <p:cNvSpPr/>
            <p:nvPr/>
          </p:nvSpPr>
          <p:spPr>
            <a:xfrm>
              <a:off x="6627240" y="3828600"/>
              <a:ext cx="32760" cy="124560"/>
            </a:xfrm>
            <a:custGeom>
              <a:avLst/>
              <a:gdLst/>
              <a:ahLst/>
              <a:rect l="l" t="t" r="r" b="b"/>
              <a:pathLst>
                <a:path w="33020" h="124460">
                  <a:moveTo>
                    <a:pt x="32842" y="90081"/>
                  </a:moveTo>
                  <a:lnTo>
                    <a:pt x="0" y="90081"/>
                  </a:lnTo>
                  <a:lnTo>
                    <a:pt x="0" y="124002"/>
                  </a:lnTo>
                  <a:lnTo>
                    <a:pt x="32842" y="124002"/>
                  </a:lnTo>
                  <a:lnTo>
                    <a:pt x="32842" y="90081"/>
                  </a:lnTo>
                  <a:close/>
                </a:path>
                <a:path w="33020" h="124460">
                  <a:moveTo>
                    <a:pt x="32842" y="0"/>
                  </a:moveTo>
                  <a:lnTo>
                    <a:pt x="0" y="0"/>
                  </a:lnTo>
                  <a:lnTo>
                    <a:pt x="0" y="33909"/>
                  </a:lnTo>
                  <a:lnTo>
                    <a:pt x="32842" y="33909"/>
                  </a:lnTo>
                  <a:lnTo>
                    <a:pt x="328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object 124" descr=""/>
            <p:cNvPicPr/>
            <p:nvPr/>
          </p:nvPicPr>
          <p:blipFill>
            <a:blip r:embed="rId59"/>
            <a:stretch/>
          </p:blipFill>
          <p:spPr>
            <a:xfrm>
              <a:off x="6687720" y="3797640"/>
              <a:ext cx="143640" cy="17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object 125" descr=""/>
            <p:cNvPicPr/>
            <p:nvPr/>
          </p:nvPicPr>
          <p:blipFill>
            <a:blip r:embed="rId60"/>
            <a:stretch/>
          </p:blipFill>
          <p:spPr>
            <a:xfrm>
              <a:off x="6851520" y="3797640"/>
              <a:ext cx="143640" cy="17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object 126" descr=""/>
            <p:cNvPicPr/>
            <p:nvPr/>
          </p:nvPicPr>
          <p:blipFill>
            <a:blip r:embed="rId61"/>
            <a:stretch/>
          </p:blipFill>
          <p:spPr>
            <a:xfrm>
              <a:off x="7019640" y="3844080"/>
              <a:ext cx="177120" cy="12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object 127" descr=""/>
            <p:cNvPicPr/>
            <p:nvPr/>
          </p:nvPicPr>
          <p:blipFill>
            <a:blip r:embed="rId62"/>
            <a:stretch/>
          </p:blipFill>
          <p:spPr>
            <a:xfrm>
              <a:off x="7223760" y="3844080"/>
              <a:ext cx="177120" cy="12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object 128" descr=""/>
          <p:cNvPicPr/>
          <p:nvPr/>
        </p:nvPicPr>
        <p:blipFill>
          <a:blip r:embed="rId63"/>
          <a:stretch/>
        </p:blipFill>
        <p:spPr>
          <a:xfrm>
            <a:off x="7496280" y="3817800"/>
            <a:ext cx="139680" cy="139680"/>
          </a:xfrm>
          <a:prstGeom prst="rect">
            <a:avLst/>
          </a:prstGeom>
          <a:ln w="0">
            <a:noFill/>
          </a:ln>
        </p:spPr>
      </p:pic>
      <p:grpSp>
        <p:nvGrpSpPr>
          <p:cNvPr id="168" name="object 129"/>
          <p:cNvGrpSpPr/>
          <p:nvPr/>
        </p:nvGrpSpPr>
        <p:grpSpPr>
          <a:xfrm>
            <a:off x="7726320" y="3789360"/>
            <a:ext cx="450720" cy="201600"/>
            <a:chOff x="7726320" y="3789360"/>
            <a:chExt cx="450720" cy="201600"/>
          </a:xfrm>
        </p:grpSpPr>
        <p:pic>
          <p:nvPicPr>
            <p:cNvPr id="169" name="object 130" descr=""/>
            <p:cNvPicPr/>
            <p:nvPr/>
          </p:nvPicPr>
          <p:blipFill>
            <a:blip r:embed="rId64"/>
            <a:stretch/>
          </p:blipFill>
          <p:spPr>
            <a:xfrm>
              <a:off x="7726320" y="3789360"/>
              <a:ext cx="19800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object 131" descr=""/>
            <p:cNvPicPr/>
            <p:nvPr/>
          </p:nvPicPr>
          <p:blipFill>
            <a:blip r:embed="rId65"/>
            <a:stretch/>
          </p:blipFill>
          <p:spPr>
            <a:xfrm>
              <a:off x="7944480" y="3791520"/>
              <a:ext cx="171000" cy="19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object 132"/>
            <p:cNvSpPr/>
            <p:nvPr/>
          </p:nvSpPr>
          <p:spPr>
            <a:xfrm>
              <a:off x="8143920" y="3828240"/>
              <a:ext cx="33120" cy="125280"/>
            </a:xfrm>
            <a:custGeom>
              <a:avLst/>
              <a:gdLst/>
              <a:ahLst/>
              <a:rect l="l" t="t" r="r" b="b"/>
              <a:pathLst>
                <a:path w="33020" h="124460">
                  <a:moveTo>
                    <a:pt x="32842" y="90081"/>
                  </a:moveTo>
                  <a:lnTo>
                    <a:pt x="0" y="90081"/>
                  </a:lnTo>
                  <a:lnTo>
                    <a:pt x="0" y="124002"/>
                  </a:lnTo>
                  <a:lnTo>
                    <a:pt x="32842" y="124002"/>
                  </a:lnTo>
                  <a:lnTo>
                    <a:pt x="32842" y="90081"/>
                  </a:lnTo>
                  <a:close/>
                </a:path>
                <a:path w="33020" h="124460">
                  <a:moveTo>
                    <a:pt x="32842" y="0"/>
                  </a:moveTo>
                  <a:lnTo>
                    <a:pt x="0" y="0"/>
                  </a:lnTo>
                  <a:lnTo>
                    <a:pt x="0" y="33909"/>
                  </a:lnTo>
                  <a:lnTo>
                    <a:pt x="32842" y="33909"/>
                  </a:lnTo>
                  <a:lnTo>
                    <a:pt x="328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object 133" descr=""/>
          <p:cNvPicPr/>
          <p:nvPr/>
        </p:nvPicPr>
        <p:blipFill>
          <a:blip r:embed="rId66"/>
          <a:stretch/>
        </p:blipFill>
        <p:spPr>
          <a:xfrm>
            <a:off x="8231040" y="3801960"/>
            <a:ext cx="69840" cy="169920"/>
          </a:xfrm>
          <a:prstGeom prst="rect">
            <a:avLst/>
          </a:prstGeom>
          <a:ln w="0">
            <a:noFill/>
          </a:ln>
        </p:spPr>
      </p:pic>
      <p:pic>
        <p:nvPicPr>
          <p:cNvPr id="173" name="object 134" descr=""/>
          <p:cNvPicPr/>
          <p:nvPr/>
        </p:nvPicPr>
        <p:blipFill>
          <a:blip r:embed="rId67"/>
          <a:stretch/>
        </p:blipFill>
        <p:spPr>
          <a:xfrm>
            <a:off x="8396280" y="3801960"/>
            <a:ext cx="68400" cy="169920"/>
          </a:xfrm>
          <a:prstGeom prst="rect">
            <a:avLst/>
          </a:prstGeom>
          <a:ln w="0">
            <a:noFill/>
          </a:ln>
        </p:spPr>
      </p:pic>
      <p:grpSp>
        <p:nvGrpSpPr>
          <p:cNvPr id="174" name="object 135"/>
          <p:cNvGrpSpPr/>
          <p:nvPr/>
        </p:nvGrpSpPr>
        <p:grpSpPr>
          <a:xfrm>
            <a:off x="8535960" y="3843360"/>
            <a:ext cx="380880" cy="128520"/>
            <a:chOff x="8535960" y="3843360"/>
            <a:chExt cx="380880" cy="128520"/>
          </a:xfrm>
        </p:grpSpPr>
        <p:pic>
          <p:nvPicPr>
            <p:cNvPr id="175" name="object 136" descr=""/>
            <p:cNvPicPr/>
            <p:nvPr/>
          </p:nvPicPr>
          <p:blipFill>
            <a:blip r:embed="rId68"/>
            <a:stretch/>
          </p:blipFill>
          <p:spPr>
            <a:xfrm>
              <a:off x="8535960" y="3843360"/>
              <a:ext cx="177120" cy="1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object 137" descr=""/>
            <p:cNvPicPr/>
            <p:nvPr/>
          </p:nvPicPr>
          <p:blipFill>
            <a:blip r:embed="rId69"/>
            <a:stretch/>
          </p:blipFill>
          <p:spPr>
            <a:xfrm>
              <a:off x="8739720" y="3843360"/>
              <a:ext cx="177120" cy="12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object 138"/>
          <p:cNvGrpSpPr/>
          <p:nvPr/>
        </p:nvGrpSpPr>
        <p:grpSpPr>
          <a:xfrm>
            <a:off x="8980560" y="3787920"/>
            <a:ext cx="1003320" cy="206280"/>
            <a:chOff x="8980560" y="3787920"/>
            <a:chExt cx="1003320" cy="206280"/>
          </a:xfrm>
        </p:grpSpPr>
        <p:pic>
          <p:nvPicPr>
            <p:cNvPr id="178" name="object 139" descr=""/>
            <p:cNvPicPr/>
            <p:nvPr/>
          </p:nvPicPr>
          <p:blipFill>
            <a:blip r:embed="rId70"/>
            <a:stretch/>
          </p:blipFill>
          <p:spPr>
            <a:xfrm>
              <a:off x="8980560" y="3787920"/>
              <a:ext cx="28188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object 140" descr=""/>
            <p:cNvPicPr/>
            <p:nvPr/>
          </p:nvPicPr>
          <p:blipFill>
            <a:blip r:embed="rId71"/>
            <a:stretch/>
          </p:blipFill>
          <p:spPr>
            <a:xfrm>
              <a:off x="9284040" y="3789360"/>
              <a:ext cx="180720" cy="1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object 141" descr=""/>
            <p:cNvPicPr/>
            <p:nvPr/>
          </p:nvPicPr>
          <p:blipFill>
            <a:blip r:embed="rId72"/>
            <a:stretch/>
          </p:blipFill>
          <p:spPr>
            <a:xfrm>
              <a:off x="9484560" y="3787920"/>
              <a:ext cx="499320" cy="20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object 142"/>
          <p:cNvSpPr/>
          <p:nvPr/>
        </p:nvSpPr>
        <p:spPr>
          <a:xfrm>
            <a:off x="4325760" y="3354480"/>
            <a:ext cx="292320" cy="304560"/>
          </a:xfrm>
          <a:custGeom>
            <a:avLst/>
            <a:gdLst/>
            <a:ahLst/>
            <a:rect l="l" t="t" r="r" b="b"/>
            <a:pathLst>
              <a:path w="291464" h="304164">
                <a:moveTo>
                  <a:pt x="142239" y="216763"/>
                </a:moveTo>
                <a:lnTo>
                  <a:pt x="100774" y="216763"/>
                </a:lnTo>
                <a:lnTo>
                  <a:pt x="100774" y="303923"/>
                </a:lnTo>
                <a:lnTo>
                  <a:pt x="142239" y="303923"/>
                </a:lnTo>
                <a:lnTo>
                  <a:pt x="142239" y="290309"/>
                </a:lnTo>
                <a:lnTo>
                  <a:pt x="290969" y="290309"/>
                </a:lnTo>
                <a:lnTo>
                  <a:pt x="290969" y="253377"/>
                </a:lnTo>
                <a:lnTo>
                  <a:pt x="142239" y="253377"/>
                </a:lnTo>
                <a:lnTo>
                  <a:pt x="142239" y="216763"/>
                </a:lnTo>
                <a:close/>
              </a:path>
              <a:path w="291464" h="304164">
                <a:moveTo>
                  <a:pt x="290969" y="290309"/>
                </a:moveTo>
                <a:lnTo>
                  <a:pt x="249491" y="290309"/>
                </a:lnTo>
                <a:lnTo>
                  <a:pt x="249491" y="303923"/>
                </a:lnTo>
                <a:lnTo>
                  <a:pt x="290969" y="303923"/>
                </a:lnTo>
                <a:lnTo>
                  <a:pt x="290969" y="290309"/>
                </a:lnTo>
                <a:close/>
              </a:path>
              <a:path w="291464" h="304164">
                <a:moveTo>
                  <a:pt x="290969" y="202831"/>
                </a:moveTo>
                <a:lnTo>
                  <a:pt x="249491" y="202831"/>
                </a:lnTo>
                <a:lnTo>
                  <a:pt x="249491" y="253377"/>
                </a:lnTo>
                <a:lnTo>
                  <a:pt x="290969" y="253377"/>
                </a:lnTo>
                <a:lnTo>
                  <a:pt x="290969" y="202831"/>
                </a:lnTo>
                <a:close/>
              </a:path>
              <a:path w="291464" h="304164">
                <a:moveTo>
                  <a:pt x="146814" y="114376"/>
                </a:moveTo>
                <a:lnTo>
                  <a:pt x="88125" y="114376"/>
                </a:lnTo>
                <a:lnTo>
                  <a:pt x="95443" y="120532"/>
                </a:lnTo>
                <a:lnTo>
                  <a:pt x="105344" y="129397"/>
                </a:lnTo>
                <a:lnTo>
                  <a:pt x="116519" y="140390"/>
                </a:lnTo>
                <a:lnTo>
                  <a:pt x="127660" y="152933"/>
                </a:lnTo>
                <a:lnTo>
                  <a:pt x="99289" y="173775"/>
                </a:lnTo>
                <a:lnTo>
                  <a:pt x="66873" y="191854"/>
                </a:lnTo>
                <a:lnTo>
                  <a:pt x="32936" y="206106"/>
                </a:lnTo>
                <a:lnTo>
                  <a:pt x="0" y="215468"/>
                </a:lnTo>
                <a:lnTo>
                  <a:pt x="4118" y="218990"/>
                </a:lnTo>
                <a:lnTo>
                  <a:pt x="12066" y="226642"/>
                </a:lnTo>
                <a:lnTo>
                  <a:pt x="20865" y="236969"/>
                </a:lnTo>
                <a:lnTo>
                  <a:pt x="27533" y="248513"/>
                </a:lnTo>
                <a:lnTo>
                  <a:pt x="49730" y="241731"/>
                </a:lnTo>
                <a:lnTo>
                  <a:pt x="70226" y="233124"/>
                </a:lnTo>
                <a:lnTo>
                  <a:pt x="87685" y="224274"/>
                </a:lnTo>
                <a:lnTo>
                  <a:pt x="100774" y="216763"/>
                </a:lnTo>
                <a:lnTo>
                  <a:pt x="142239" y="216763"/>
                </a:lnTo>
                <a:lnTo>
                  <a:pt x="142239" y="202831"/>
                </a:lnTo>
                <a:lnTo>
                  <a:pt x="290969" y="202831"/>
                </a:lnTo>
                <a:lnTo>
                  <a:pt x="290969" y="166865"/>
                </a:lnTo>
                <a:lnTo>
                  <a:pt x="169138" y="166865"/>
                </a:lnTo>
                <a:lnTo>
                  <a:pt x="199848" y="134280"/>
                </a:lnTo>
                <a:lnTo>
                  <a:pt x="206769" y="125069"/>
                </a:lnTo>
                <a:lnTo>
                  <a:pt x="156819" y="125069"/>
                </a:lnTo>
                <a:lnTo>
                  <a:pt x="150743" y="118424"/>
                </a:lnTo>
                <a:lnTo>
                  <a:pt x="146814" y="114376"/>
                </a:lnTo>
                <a:close/>
              </a:path>
              <a:path w="291464" h="304164">
                <a:moveTo>
                  <a:pt x="123126" y="0"/>
                </a:moveTo>
                <a:lnTo>
                  <a:pt x="104570" y="34576"/>
                </a:lnTo>
                <a:lnTo>
                  <a:pt x="77479" y="70307"/>
                </a:lnTo>
                <a:lnTo>
                  <a:pt x="45345" y="102152"/>
                </a:lnTo>
                <a:lnTo>
                  <a:pt x="11658" y="125069"/>
                </a:lnTo>
                <a:lnTo>
                  <a:pt x="22250" y="132465"/>
                </a:lnTo>
                <a:lnTo>
                  <a:pt x="30535" y="139525"/>
                </a:lnTo>
                <a:lnTo>
                  <a:pt x="36999" y="146161"/>
                </a:lnTo>
                <a:lnTo>
                  <a:pt x="42125" y="152285"/>
                </a:lnTo>
                <a:lnTo>
                  <a:pt x="60155" y="139206"/>
                </a:lnTo>
                <a:lnTo>
                  <a:pt x="73874" y="127858"/>
                </a:lnTo>
                <a:lnTo>
                  <a:pt x="83218" y="119247"/>
                </a:lnTo>
                <a:lnTo>
                  <a:pt x="88125" y="114376"/>
                </a:lnTo>
                <a:lnTo>
                  <a:pt x="146814" y="114376"/>
                </a:lnTo>
                <a:lnTo>
                  <a:pt x="141230" y="108621"/>
                </a:lnTo>
                <a:lnTo>
                  <a:pt x="128983" y="96996"/>
                </a:lnTo>
                <a:lnTo>
                  <a:pt x="114706" y="84886"/>
                </a:lnTo>
                <a:lnTo>
                  <a:pt x="117614" y="81648"/>
                </a:lnTo>
                <a:lnTo>
                  <a:pt x="120853" y="77762"/>
                </a:lnTo>
                <a:lnTo>
                  <a:pt x="125717" y="71272"/>
                </a:lnTo>
                <a:lnTo>
                  <a:pt x="243665" y="71272"/>
                </a:lnTo>
                <a:lnTo>
                  <a:pt x="254025" y="53136"/>
                </a:lnTo>
                <a:lnTo>
                  <a:pt x="233933" y="36283"/>
                </a:lnTo>
                <a:lnTo>
                  <a:pt x="149364" y="36283"/>
                </a:lnTo>
                <a:lnTo>
                  <a:pt x="150672" y="34023"/>
                </a:lnTo>
                <a:lnTo>
                  <a:pt x="155524" y="25920"/>
                </a:lnTo>
                <a:lnTo>
                  <a:pt x="157797" y="21704"/>
                </a:lnTo>
                <a:lnTo>
                  <a:pt x="163626" y="19113"/>
                </a:lnTo>
                <a:lnTo>
                  <a:pt x="166547" y="17170"/>
                </a:lnTo>
                <a:lnTo>
                  <a:pt x="166547" y="12306"/>
                </a:lnTo>
                <a:lnTo>
                  <a:pt x="164274" y="11010"/>
                </a:lnTo>
                <a:lnTo>
                  <a:pt x="123126" y="0"/>
                </a:lnTo>
                <a:close/>
              </a:path>
              <a:path w="291464" h="304164">
                <a:moveTo>
                  <a:pt x="243665" y="71272"/>
                </a:moveTo>
                <a:lnTo>
                  <a:pt x="196024" y="71272"/>
                </a:lnTo>
                <a:lnTo>
                  <a:pt x="187164" y="86466"/>
                </a:lnTo>
                <a:lnTo>
                  <a:pt x="177150" y="100718"/>
                </a:lnTo>
                <a:lnTo>
                  <a:pt x="166772" y="113697"/>
                </a:lnTo>
                <a:lnTo>
                  <a:pt x="156819" y="125069"/>
                </a:lnTo>
                <a:lnTo>
                  <a:pt x="206769" y="125069"/>
                </a:lnTo>
                <a:lnTo>
                  <a:pt x="224578" y="101366"/>
                </a:lnTo>
                <a:lnTo>
                  <a:pt x="242810" y="72769"/>
                </a:lnTo>
                <a:lnTo>
                  <a:pt x="243665" y="712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bject 143"/>
          <p:cNvSpPr/>
          <p:nvPr/>
        </p:nvSpPr>
        <p:spPr>
          <a:xfrm>
            <a:off x="4680000" y="3360600"/>
            <a:ext cx="296640" cy="298440"/>
          </a:xfrm>
          <a:custGeom>
            <a:avLst/>
            <a:gdLst/>
            <a:ahLst/>
            <a:rect l="l" t="t" r="r" b="b"/>
            <a:pathLst>
              <a:path w="296545" h="297814">
                <a:moveTo>
                  <a:pt x="214172" y="255320"/>
                </a:moveTo>
                <a:lnTo>
                  <a:pt x="221584" y="271791"/>
                </a:lnTo>
                <a:lnTo>
                  <a:pt x="225593" y="283586"/>
                </a:lnTo>
                <a:lnTo>
                  <a:pt x="227292" y="291859"/>
                </a:lnTo>
                <a:lnTo>
                  <a:pt x="227774" y="297764"/>
                </a:lnTo>
                <a:lnTo>
                  <a:pt x="262326" y="295678"/>
                </a:lnTo>
                <a:lnTo>
                  <a:pt x="280835" y="287639"/>
                </a:lnTo>
                <a:lnTo>
                  <a:pt x="288285" y="275347"/>
                </a:lnTo>
                <a:lnTo>
                  <a:pt x="289661" y="260502"/>
                </a:lnTo>
                <a:lnTo>
                  <a:pt x="289661" y="258559"/>
                </a:lnTo>
                <a:lnTo>
                  <a:pt x="228752" y="258559"/>
                </a:lnTo>
                <a:lnTo>
                  <a:pt x="218376" y="256286"/>
                </a:lnTo>
                <a:lnTo>
                  <a:pt x="214172" y="255320"/>
                </a:lnTo>
                <a:close/>
              </a:path>
              <a:path w="296545" h="297814">
                <a:moveTo>
                  <a:pt x="249478" y="0"/>
                </a:moveTo>
                <a:lnTo>
                  <a:pt x="249478" y="258559"/>
                </a:lnTo>
                <a:lnTo>
                  <a:pt x="289661" y="258559"/>
                </a:lnTo>
                <a:lnTo>
                  <a:pt x="289661" y="11658"/>
                </a:lnTo>
                <a:lnTo>
                  <a:pt x="292900" y="10680"/>
                </a:lnTo>
                <a:lnTo>
                  <a:pt x="296138" y="9067"/>
                </a:lnTo>
                <a:lnTo>
                  <a:pt x="296138" y="2260"/>
                </a:lnTo>
                <a:lnTo>
                  <a:pt x="291287" y="1943"/>
                </a:lnTo>
                <a:lnTo>
                  <a:pt x="289661" y="1943"/>
                </a:lnTo>
                <a:lnTo>
                  <a:pt x="249478" y="0"/>
                </a:lnTo>
                <a:close/>
              </a:path>
              <a:path w="296545" h="297814">
                <a:moveTo>
                  <a:pt x="188569" y="42443"/>
                </a:moveTo>
                <a:lnTo>
                  <a:pt x="188569" y="217728"/>
                </a:lnTo>
                <a:lnTo>
                  <a:pt x="224218" y="217728"/>
                </a:lnTo>
                <a:lnTo>
                  <a:pt x="224218" y="53454"/>
                </a:lnTo>
                <a:lnTo>
                  <a:pt x="227774" y="52158"/>
                </a:lnTo>
                <a:lnTo>
                  <a:pt x="230695" y="50863"/>
                </a:lnTo>
                <a:lnTo>
                  <a:pt x="230695" y="44386"/>
                </a:lnTo>
                <a:lnTo>
                  <a:pt x="227456" y="43421"/>
                </a:lnTo>
                <a:lnTo>
                  <a:pt x="224218" y="43421"/>
                </a:lnTo>
                <a:lnTo>
                  <a:pt x="188569" y="42443"/>
                </a:lnTo>
                <a:close/>
              </a:path>
              <a:path w="296545" h="297814">
                <a:moveTo>
                  <a:pt x="110159" y="229069"/>
                </a:moveTo>
                <a:lnTo>
                  <a:pt x="73228" y="229069"/>
                </a:lnTo>
                <a:lnTo>
                  <a:pt x="73228" y="297446"/>
                </a:lnTo>
                <a:lnTo>
                  <a:pt x="110159" y="297446"/>
                </a:lnTo>
                <a:lnTo>
                  <a:pt x="110159" y="229069"/>
                </a:lnTo>
                <a:close/>
              </a:path>
              <a:path w="296545" h="297814">
                <a:moveTo>
                  <a:pt x="110159" y="115341"/>
                </a:moveTo>
                <a:lnTo>
                  <a:pt x="73228" y="115341"/>
                </a:lnTo>
                <a:lnTo>
                  <a:pt x="73221" y="171727"/>
                </a:lnTo>
                <a:lnTo>
                  <a:pt x="60368" y="192555"/>
                </a:lnTo>
                <a:lnTo>
                  <a:pt x="43291" y="215461"/>
                </a:lnTo>
                <a:lnTo>
                  <a:pt x="22875" y="237882"/>
                </a:lnTo>
                <a:lnTo>
                  <a:pt x="0" y="257263"/>
                </a:lnTo>
                <a:lnTo>
                  <a:pt x="5751" y="260135"/>
                </a:lnTo>
                <a:lnTo>
                  <a:pt x="13444" y="264710"/>
                </a:lnTo>
                <a:lnTo>
                  <a:pt x="22597" y="271474"/>
                </a:lnTo>
                <a:lnTo>
                  <a:pt x="32727" y="280911"/>
                </a:lnTo>
                <a:lnTo>
                  <a:pt x="42972" y="270167"/>
                </a:lnTo>
                <a:lnTo>
                  <a:pt x="52973" y="258391"/>
                </a:lnTo>
                <a:lnTo>
                  <a:pt x="62976" y="244913"/>
                </a:lnTo>
                <a:lnTo>
                  <a:pt x="73228" y="229069"/>
                </a:lnTo>
                <a:lnTo>
                  <a:pt x="110159" y="229069"/>
                </a:lnTo>
                <a:lnTo>
                  <a:pt x="110159" y="211569"/>
                </a:lnTo>
                <a:lnTo>
                  <a:pt x="158665" y="211569"/>
                </a:lnTo>
                <a:lnTo>
                  <a:pt x="144949" y="201974"/>
                </a:lnTo>
                <a:lnTo>
                  <a:pt x="127993" y="187128"/>
                </a:lnTo>
                <a:lnTo>
                  <a:pt x="110159" y="167513"/>
                </a:lnTo>
                <a:lnTo>
                  <a:pt x="110159" y="115341"/>
                </a:lnTo>
                <a:close/>
              </a:path>
              <a:path w="296545" h="297814">
                <a:moveTo>
                  <a:pt x="158665" y="211569"/>
                </a:moveTo>
                <a:lnTo>
                  <a:pt x="110159" y="211569"/>
                </a:lnTo>
                <a:lnTo>
                  <a:pt x="119361" y="222469"/>
                </a:lnTo>
                <a:lnTo>
                  <a:pt x="128870" y="232635"/>
                </a:lnTo>
                <a:lnTo>
                  <a:pt x="139231" y="242558"/>
                </a:lnTo>
                <a:lnTo>
                  <a:pt x="150990" y="252730"/>
                </a:lnTo>
                <a:lnTo>
                  <a:pt x="157161" y="242262"/>
                </a:lnTo>
                <a:lnTo>
                  <a:pt x="163422" y="233891"/>
                </a:lnTo>
                <a:lnTo>
                  <a:pt x="169622" y="227160"/>
                </a:lnTo>
                <a:lnTo>
                  <a:pt x="175615" y="221615"/>
                </a:lnTo>
                <a:lnTo>
                  <a:pt x="160875" y="213115"/>
                </a:lnTo>
                <a:lnTo>
                  <a:pt x="158665" y="211569"/>
                </a:lnTo>
                <a:close/>
              </a:path>
              <a:path w="296545" h="297814">
                <a:moveTo>
                  <a:pt x="172377" y="82943"/>
                </a:moveTo>
                <a:lnTo>
                  <a:pt x="13931" y="82943"/>
                </a:lnTo>
                <a:lnTo>
                  <a:pt x="13931" y="184683"/>
                </a:lnTo>
                <a:lnTo>
                  <a:pt x="49898" y="184683"/>
                </a:lnTo>
                <a:lnTo>
                  <a:pt x="49898" y="115341"/>
                </a:lnTo>
                <a:lnTo>
                  <a:pt x="172377" y="115341"/>
                </a:lnTo>
                <a:lnTo>
                  <a:pt x="172377" y="82943"/>
                </a:lnTo>
                <a:close/>
              </a:path>
              <a:path w="296545" h="297814">
                <a:moveTo>
                  <a:pt x="113398" y="145796"/>
                </a:moveTo>
                <a:lnTo>
                  <a:pt x="118639" y="154808"/>
                </a:lnTo>
                <a:lnTo>
                  <a:pt x="122513" y="162934"/>
                </a:lnTo>
                <a:lnTo>
                  <a:pt x="125478" y="171727"/>
                </a:lnTo>
                <a:lnTo>
                  <a:pt x="127990" y="182740"/>
                </a:lnTo>
                <a:lnTo>
                  <a:pt x="153651" y="180307"/>
                </a:lnTo>
                <a:lnTo>
                  <a:pt x="166828" y="173747"/>
                </a:lnTo>
                <a:lnTo>
                  <a:pt x="171683" y="164879"/>
                </a:lnTo>
                <a:lnTo>
                  <a:pt x="172377" y="155524"/>
                </a:lnTo>
                <a:lnTo>
                  <a:pt x="172377" y="147421"/>
                </a:lnTo>
                <a:lnTo>
                  <a:pt x="121170" y="147421"/>
                </a:lnTo>
                <a:lnTo>
                  <a:pt x="116636" y="146443"/>
                </a:lnTo>
                <a:lnTo>
                  <a:pt x="113398" y="145796"/>
                </a:lnTo>
                <a:close/>
              </a:path>
              <a:path w="296545" h="297814">
                <a:moveTo>
                  <a:pt x="172377" y="115341"/>
                </a:moveTo>
                <a:lnTo>
                  <a:pt x="136410" y="115341"/>
                </a:lnTo>
                <a:lnTo>
                  <a:pt x="136410" y="145796"/>
                </a:lnTo>
                <a:lnTo>
                  <a:pt x="134137" y="147421"/>
                </a:lnTo>
                <a:lnTo>
                  <a:pt x="172377" y="147421"/>
                </a:lnTo>
                <a:lnTo>
                  <a:pt x="172377" y="115341"/>
                </a:lnTo>
                <a:close/>
              </a:path>
              <a:path w="296545" h="297814">
                <a:moveTo>
                  <a:pt x="110159" y="60909"/>
                </a:moveTo>
                <a:lnTo>
                  <a:pt x="73228" y="60909"/>
                </a:lnTo>
                <a:lnTo>
                  <a:pt x="73228" y="82943"/>
                </a:lnTo>
                <a:lnTo>
                  <a:pt x="110159" y="82943"/>
                </a:lnTo>
                <a:lnTo>
                  <a:pt x="110159" y="60909"/>
                </a:lnTo>
                <a:close/>
              </a:path>
              <a:path w="296545" h="297814">
                <a:moveTo>
                  <a:pt x="177558" y="28511"/>
                </a:moveTo>
                <a:lnTo>
                  <a:pt x="4203" y="28511"/>
                </a:lnTo>
                <a:lnTo>
                  <a:pt x="4203" y="60909"/>
                </a:lnTo>
                <a:lnTo>
                  <a:pt x="177558" y="60909"/>
                </a:lnTo>
                <a:lnTo>
                  <a:pt x="177558" y="28511"/>
                </a:lnTo>
                <a:close/>
              </a:path>
              <a:path w="296545" h="297814">
                <a:moveTo>
                  <a:pt x="73228" y="635"/>
                </a:moveTo>
                <a:lnTo>
                  <a:pt x="73228" y="28511"/>
                </a:lnTo>
                <a:lnTo>
                  <a:pt x="110159" y="28511"/>
                </a:lnTo>
                <a:lnTo>
                  <a:pt x="110159" y="13284"/>
                </a:lnTo>
                <a:lnTo>
                  <a:pt x="115023" y="10363"/>
                </a:lnTo>
                <a:lnTo>
                  <a:pt x="117614" y="9067"/>
                </a:lnTo>
                <a:lnTo>
                  <a:pt x="117614" y="2908"/>
                </a:lnTo>
                <a:lnTo>
                  <a:pt x="114693" y="1943"/>
                </a:lnTo>
                <a:lnTo>
                  <a:pt x="111124" y="1943"/>
                </a:lnTo>
                <a:lnTo>
                  <a:pt x="73228" y="6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bject 144"/>
          <p:cNvSpPr/>
          <p:nvPr/>
        </p:nvSpPr>
        <p:spPr>
          <a:xfrm>
            <a:off x="5025960" y="3373560"/>
            <a:ext cx="289080" cy="287280"/>
          </a:xfrm>
          <a:custGeom>
            <a:avLst/>
            <a:gdLst/>
            <a:ahLst/>
            <a:rect l="l" t="t" r="r" b="b"/>
            <a:pathLst>
              <a:path w="287654" h="287020">
                <a:moveTo>
                  <a:pt x="287070" y="0"/>
                </a:moveTo>
                <a:lnTo>
                  <a:pt x="34988" y="0"/>
                </a:lnTo>
                <a:lnTo>
                  <a:pt x="34988" y="128308"/>
                </a:lnTo>
                <a:lnTo>
                  <a:pt x="33484" y="166572"/>
                </a:lnTo>
                <a:lnTo>
                  <a:pt x="28062" y="204776"/>
                </a:lnTo>
                <a:lnTo>
                  <a:pt x="17355" y="240306"/>
                </a:lnTo>
                <a:lnTo>
                  <a:pt x="0" y="270548"/>
                </a:lnTo>
                <a:lnTo>
                  <a:pt x="6782" y="271712"/>
                </a:lnTo>
                <a:lnTo>
                  <a:pt x="17818" y="274516"/>
                </a:lnTo>
                <a:lnTo>
                  <a:pt x="30796" y="279388"/>
                </a:lnTo>
                <a:lnTo>
                  <a:pt x="43408" y="286753"/>
                </a:lnTo>
                <a:lnTo>
                  <a:pt x="58220" y="257384"/>
                </a:lnTo>
                <a:lnTo>
                  <a:pt x="67349" y="228714"/>
                </a:lnTo>
                <a:lnTo>
                  <a:pt x="72528" y="201681"/>
                </a:lnTo>
                <a:lnTo>
                  <a:pt x="75488" y="177228"/>
                </a:lnTo>
                <a:lnTo>
                  <a:pt x="287070" y="177228"/>
                </a:lnTo>
                <a:lnTo>
                  <a:pt x="287070" y="140614"/>
                </a:lnTo>
                <a:lnTo>
                  <a:pt x="77762" y="140614"/>
                </a:lnTo>
                <a:lnTo>
                  <a:pt x="78079" y="135115"/>
                </a:lnTo>
                <a:lnTo>
                  <a:pt x="78394" y="128308"/>
                </a:lnTo>
                <a:lnTo>
                  <a:pt x="78409" y="105308"/>
                </a:lnTo>
                <a:lnTo>
                  <a:pt x="181762" y="105308"/>
                </a:lnTo>
                <a:lnTo>
                  <a:pt x="287070" y="105295"/>
                </a:lnTo>
                <a:lnTo>
                  <a:pt x="287070" y="70307"/>
                </a:lnTo>
                <a:lnTo>
                  <a:pt x="78397" y="70307"/>
                </a:lnTo>
                <a:lnTo>
                  <a:pt x="78397" y="34988"/>
                </a:lnTo>
                <a:lnTo>
                  <a:pt x="287070" y="34988"/>
                </a:lnTo>
                <a:lnTo>
                  <a:pt x="287070" y="0"/>
                </a:lnTo>
                <a:close/>
              </a:path>
              <a:path w="287654" h="287020">
                <a:moveTo>
                  <a:pt x="204774" y="242366"/>
                </a:moveTo>
                <a:lnTo>
                  <a:pt x="209561" y="251636"/>
                </a:lnTo>
                <a:lnTo>
                  <a:pt x="213925" y="262089"/>
                </a:lnTo>
                <a:lnTo>
                  <a:pt x="217440" y="273209"/>
                </a:lnTo>
                <a:lnTo>
                  <a:pt x="219684" y="284479"/>
                </a:lnTo>
                <a:lnTo>
                  <a:pt x="246340" y="284514"/>
                </a:lnTo>
                <a:lnTo>
                  <a:pt x="267712" y="279657"/>
                </a:lnTo>
                <a:lnTo>
                  <a:pt x="281917" y="266842"/>
                </a:lnTo>
                <a:lnTo>
                  <a:pt x="286648" y="244957"/>
                </a:lnTo>
                <a:lnTo>
                  <a:pt x="230365" y="244957"/>
                </a:lnTo>
                <a:lnTo>
                  <a:pt x="222589" y="244688"/>
                </a:lnTo>
                <a:lnTo>
                  <a:pt x="215507" y="244024"/>
                </a:lnTo>
                <a:lnTo>
                  <a:pt x="209457" y="243178"/>
                </a:lnTo>
                <a:lnTo>
                  <a:pt x="204774" y="242366"/>
                </a:lnTo>
                <a:close/>
              </a:path>
              <a:path w="287654" h="287020">
                <a:moveTo>
                  <a:pt x="181762" y="177228"/>
                </a:moveTo>
                <a:lnTo>
                  <a:pt x="141592" y="177228"/>
                </a:lnTo>
                <a:lnTo>
                  <a:pt x="141592" y="270878"/>
                </a:lnTo>
                <a:lnTo>
                  <a:pt x="181762" y="270878"/>
                </a:lnTo>
                <a:lnTo>
                  <a:pt x="181762" y="177228"/>
                </a:lnTo>
                <a:close/>
              </a:path>
              <a:path w="287654" h="287020">
                <a:moveTo>
                  <a:pt x="287070" y="177228"/>
                </a:moveTo>
                <a:lnTo>
                  <a:pt x="246240" y="177228"/>
                </a:lnTo>
                <a:lnTo>
                  <a:pt x="246155" y="240306"/>
                </a:lnTo>
                <a:lnTo>
                  <a:pt x="244297" y="244957"/>
                </a:lnTo>
                <a:lnTo>
                  <a:pt x="286648" y="244957"/>
                </a:lnTo>
                <a:lnTo>
                  <a:pt x="287032" y="243178"/>
                </a:lnTo>
                <a:lnTo>
                  <a:pt x="287070" y="177228"/>
                </a:lnTo>
                <a:close/>
              </a:path>
              <a:path w="287654" h="287020">
                <a:moveTo>
                  <a:pt x="181762" y="105308"/>
                </a:moveTo>
                <a:lnTo>
                  <a:pt x="141592" y="105308"/>
                </a:lnTo>
                <a:lnTo>
                  <a:pt x="141592" y="140614"/>
                </a:lnTo>
                <a:lnTo>
                  <a:pt x="181762" y="140614"/>
                </a:lnTo>
                <a:lnTo>
                  <a:pt x="181762" y="105308"/>
                </a:lnTo>
                <a:close/>
              </a:path>
              <a:path w="287654" h="287020">
                <a:moveTo>
                  <a:pt x="287070" y="105295"/>
                </a:moveTo>
                <a:lnTo>
                  <a:pt x="246240" y="105295"/>
                </a:lnTo>
                <a:lnTo>
                  <a:pt x="246240" y="140614"/>
                </a:lnTo>
                <a:lnTo>
                  <a:pt x="287070" y="140614"/>
                </a:lnTo>
                <a:lnTo>
                  <a:pt x="287070" y="105295"/>
                </a:lnTo>
                <a:close/>
              </a:path>
              <a:path w="287654" h="287020">
                <a:moveTo>
                  <a:pt x="181762" y="34988"/>
                </a:moveTo>
                <a:lnTo>
                  <a:pt x="141592" y="34988"/>
                </a:lnTo>
                <a:lnTo>
                  <a:pt x="141592" y="70307"/>
                </a:lnTo>
                <a:lnTo>
                  <a:pt x="181762" y="70307"/>
                </a:lnTo>
                <a:lnTo>
                  <a:pt x="181762" y="34988"/>
                </a:lnTo>
                <a:close/>
              </a:path>
              <a:path w="287654" h="287020">
                <a:moveTo>
                  <a:pt x="287070" y="34988"/>
                </a:moveTo>
                <a:lnTo>
                  <a:pt x="246240" y="34988"/>
                </a:lnTo>
                <a:lnTo>
                  <a:pt x="246240" y="70307"/>
                </a:lnTo>
                <a:lnTo>
                  <a:pt x="287070" y="70307"/>
                </a:lnTo>
                <a:lnTo>
                  <a:pt x="287070" y="349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bject 145"/>
          <p:cNvSpPr/>
          <p:nvPr/>
        </p:nvSpPr>
        <p:spPr>
          <a:xfrm>
            <a:off x="5391000" y="3378240"/>
            <a:ext cx="266760" cy="282600"/>
          </a:xfrm>
          <a:custGeom>
            <a:avLst/>
            <a:gdLst/>
            <a:ahLst/>
            <a:rect l="l" t="t" r="r" b="b"/>
            <a:pathLst>
              <a:path w="267335" h="281304">
                <a:moveTo>
                  <a:pt x="227457" y="0"/>
                </a:moveTo>
                <a:lnTo>
                  <a:pt x="40170" y="0"/>
                </a:lnTo>
                <a:lnTo>
                  <a:pt x="40170" y="39522"/>
                </a:lnTo>
                <a:lnTo>
                  <a:pt x="227457" y="39522"/>
                </a:lnTo>
                <a:lnTo>
                  <a:pt x="227457" y="0"/>
                </a:lnTo>
                <a:close/>
              </a:path>
              <a:path w="267335" h="281304">
                <a:moveTo>
                  <a:pt x="239750" y="73215"/>
                </a:moveTo>
                <a:lnTo>
                  <a:pt x="235039" y="74355"/>
                </a:lnTo>
                <a:lnTo>
                  <a:pt x="229265" y="75279"/>
                </a:lnTo>
                <a:lnTo>
                  <a:pt x="221850" y="75897"/>
                </a:lnTo>
                <a:lnTo>
                  <a:pt x="212217" y="76123"/>
                </a:lnTo>
                <a:lnTo>
                  <a:pt x="0" y="76123"/>
                </a:lnTo>
                <a:lnTo>
                  <a:pt x="0" y="116306"/>
                </a:lnTo>
                <a:lnTo>
                  <a:pt x="203466" y="116306"/>
                </a:lnTo>
                <a:lnTo>
                  <a:pt x="173818" y="170638"/>
                </a:lnTo>
                <a:lnTo>
                  <a:pt x="137091" y="207319"/>
                </a:lnTo>
                <a:lnTo>
                  <a:pt x="97262" y="230815"/>
                </a:lnTo>
                <a:lnTo>
                  <a:pt x="58305" y="245592"/>
                </a:lnTo>
                <a:lnTo>
                  <a:pt x="66481" y="253618"/>
                </a:lnTo>
                <a:lnTo>
                  <a:pt x="74350" y="262191"/>
                </a:lnTo>
                <a:lnTo>
                  <a:pt x="81731" y="271374"/>
                </a:lnTo>
                <a:lnTo>
                  <a:pt x="88442" y="281228"/>
                </a:lnTo>
                <a:lnTo>
                  <a:pt x="132673" y="260983"/>
                </a:lnTo>
                <a:lnTo>
                  <a:pt x="170341" y="235908"/>
                </a:lnTo>
                <a:lnTo>
                  <a:pt x="203271" y="202633"/>
                </a:lnTo>
                <a:lnTo>
                  <a:pt x="233286" y="157784"/>
                </a:lnTo>
                <a:lnTo>
                  <a:pt x="260118" y="105656"/>
                </a:lnTo>
                <a:lnTo>
                  <a:pt x="266979" y="92328"/>
                </a:lnTo>
                <a:lnTo>
                  <a:pt x="239750" y="732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bject 146"/>
          <p:cNvSpPr/>
          <p:nvPr/>
        </p:nvSpPr>
        <p:spPr>
          <a:xfrm>
            <a:off x="5707080" y="3360600"/>
            <a:ext cx="658800" cy="273240"/>
          </a:xfrm>
          <a:custGeom>
            <a:avLst/>
            <a:gdLst/>
            <a:ahLst/>
            <a:rect l="l" t="t" r="r" b="b"/>
            <a:pathLst>
              <a:path w="659129" h="273685">
                <a:moveTo>
                  <a:pt x="271843" y="64808"/>
                </a:moveTo>
                <a:lnTo>
                  <a:pt x="264020" y="55105"/>
                </a:lnTo>
                <a:lnTo>
                  <a:pt x="256095" y="46494"/>
                </a:lnTo>
                <a:lnTo>
                  <a:pt x="247383" y="38379"/>
                </a:lnTo>
                <a:lnTo>
                  <a:pt x="237172" y="30137"/>
                </a:lnTo>
                <a:lnTo>
                  <a:pt x="218059" y="50863"/>
                </a:lnTo>
                <a:lnTo>
                  <a:pt x="225666" y="57429"/>
                </a:lnTo>
                <a:lnTo>
                  <a:pt x="233222" y="64808"/>
                </a:lnTo>
                <a:lnTo>
                  <a:pt x="241985" y="74282"/>
                </a:lnTo>
                <a:lnTo>
                  <a:pt x="252399" y="86182"/>
                </a:lnTo>
                <a:lnTo>
                  <a:pt x="263486" y="73863"/>
                </a:lnTo>
                <a:lnTo>
                  <a:pt x="268084" y="68783"/>
                </a:lnTo>
                <a:lnTo>
                  <a:pt x="271843" y="64808"/>
                </a:lnTo>
                <a:close/>
              </a:path>
              <a:path w="659129" h="273685">
                <a:moveTo>
                  <a:pt x="303593" y="33045"/>
                </a:moveTo>
                <a:lnTo>
                  <a:pt x="296189" y="24790"/>
                </a:lnTo>
                <a:lnTo>
                  <a:pt x="287362" y="15798"/>
                </a:lnTo>
                <a:lnTo>
                  <a:pt x="278218" y="7175"/>
                </a:lnTo>
                <a:lnTo>
                  <a:pt x="269900" y="0"/>
                </a:lnTo>
                <a:lnTo>
                  <a:pt x="250786" y="19443"/>
                </a:lnTo>
                <a:lnTo>
                  <a:pt x="259791" y="27406"/>
                </a:lnTo>
                <a:lnTo>
                  <a:pt x="268363" y="36042"/>
                </a:lnTo>
                <a:lnTo>
                  <a:pt x="276580" y="45046"/>
                </a:lnTo>
                <a:lnTo>
                  <a:pt x="284480" y="54114"/>
                </a:lnTo>
                <a:lnTo>
                  <a:pt x="286740" y="51269"/>
                </a:lnTo>
                <a:lnTo>
                  <a:pt x="291376" y="45770"/>
                </a:lnTo>
                <a:lnTo>
                  <a:pt x="297332" y="39166"/>
                </a:lnTo>
                <a:lnTo>
                  <a:pt x="303593" y="33045"/>
                </a:lnTo>
                <a:close/>
              </a:path>
              <a:path w="659129" h="273685">
                <a:moveTo>
                  <a:pt x="307809" y="215138"/>
                </a:moveTo>
                <a:lnTo>
                  <a:pt x="254800" y="167182"/>
                </a:lnTo>
                <a:lnTo>
                  <a:pt x="227304" y="137960"/>
                </a:lnTo>
                <a:lnTo>
                  <a:pt x="196672" y="101739"/>
                </a:lnTo>
                <a:lnTo>
                  <a:pt x="190449" y="94284"/>
                </a:lnTo>
                <a:lnTo>
                  <a:pt x="173393" y="73863"/>
                </a:lnTo>
                <a:lnTo>
                  <a:pt x="156743" y="57073"/>
                </a:lnTo>
                <a:lnTo>
                  <a:pt x="143370" y="48844"/>
                </a:lnTo>
                <a:lnTo>
                  <a:pt x="129933" y="46659"/>
                </a:lnTo>
                <a:lnTo>
                  <a:pt x="116078" y="48933"/>
                </a:lnTo>
                <a:lnTo>
                  <a:pt x="101739" y="57353"/>
                </a:lnTo>
                <a:lnTo>
                  <a:pt x="83997" y="74282"/>
                </a:lnTo>
                <a:lnTo>
                  <a:pt x="59944" y="102057"/>
                </a:lnTo>
                <a:lnTo>
                  <a:pt x="50304" y="113436"/>
                </a:lnTo>
                <a:lnTo>
                  <a:pt x="35801" y="129679"/>
                </a:lnTo>
                <a:lnTo>
                  <a:pt x="18389" y="147256"/>
                </a:lnTo>
                <a:lnTo>
                  <a:pt x="0" y="162648"/>
                </a:lnTo>
                <a:lnTo>
                  <a:pt x="32397" y="196672"/>
                </a:lnTo>
                <a:lnTo>
                  <a:pt x="34340" y="198615"/>
                </a:lnTo>
                <a:lnTo>
                  <a:pt x="35306" y="199910"/>
                </a:lnTo>
                <a:lnTo>
                  <a:pt x="41148" y="199910"/>
                </a:lnTo>
                <a:lnTo>
                  <a:pt x="41148" y="192455"/>
                </a:lnTo>
                <a:lnTo>
                  <a:pt x="53263" y="175818"/>
                </a:lnTo>
                <a:lnTo>
                  <a:pt x="85623" y="135140"/>
                </a:lnTo>
                <a:lnTo>
                  <a:pt x="116598" y="99593"/>
                </a:lnTo>
                <a:lnTo>
                  <a:pt x="128308" y="94284"/>
                </a:lnTo>
                <a:lnTo>
                  <a:pt x="134061" y="95123"/>
                </a:lnTo>
                <a:lnTo>
                  <a:pt x="140017" y="99263"/>
                </a:lnTo>
                <a:lnTo>
                  <a:pt x="148945" y="109181"/>
                </a:lnTo>
                <a:lnTo>
                  <a:pt x="163626" y="127330"/>
                </a:lnTo>
                <a:lnTo>
                  <a:pt x="200469" y="171615"/>
                </a:lnTo>
                <a:lnTo>
                  <a:pt x="230860" y="205994"/>
                </a:lnTo>
                <a:lnTo>
                  <a:pt x="256387" y="232956"/>
                </a:lnTo>
                <a:lnTo>
                  <a:pt x="278638" y="254990"/>
                </a:lnTo>
                <a:lnTo>
                  <a:pt x="284619" y="245808"/>
                </a:lnTo>
                <a:lnTo>
                  <a:pt x="292379" y="234708"/>
                </a:lnTo>
                <a:lnTo>
                  <a:pt x="300570" y="223786"/>
                </a:lnTo>
                <a:lnTo>
                  <a:pt x="307809" y="215138"/>
                </a:lnTo>
                <a:close/>
              </a:path>
              <a:path w="659129" h="273685">
                <a:moveTo>
                  <a:pt x="471424" y="27216"/>
                </a:moveTo>
                <a:lnTo>
                  <a:pt x="467220" y="27216"/>
                </a:lnTo>
                <a:lnTo>
                  <a:pt x="463981" y="26885"/>
                </a:lnTo>
                <a:lnTo>
                  <a:pt x="418617" y="24625"/>
                </a:lnTo>
                <a:lnTo>
                  <a:pt x="418617" y="119557"/>
                </a:lnTo>
                <a:lnTo>
                  <a:pt x="416280" y="151739"/>
                </a:lnTo>
                <a:lnTo>
                  <a:pt x="406539" y="181889"/>
                </a:lnTo>
                <a:lnTo>
                  <a:pt x="385254" y="211010"/>
                </a:lnTo>
                <a:lnTo>
                  <a:pt x="348297" y="240093"/>
                </a:lnTo>
                <a:lnTo>
                  <a:pt x="363816" y="250774"/>
                </a:lnTo>
                <a:lnTo>
                  <a:pt x="374015" y="258927"/>
                </a:lnTo>
                <a:lnTo>
                  <a:pt x="380517" y="265201"/>
                </a:lnTo>
                <a:lnTo>
                  <a:pt x="384911" y="270230"/>
                </a:lnTo>
                <a:lnTo>
                  <a:pt x="416102" y="243319"/>
                </a:lnTo>
                <a:lnTo>
                  <a:pt x="441782" y="211416"/>
                </a:lnTo>
                <a:lnTo>
                  <a:pt x="459181" y="170535"/>
                </a:lnTo>
                <a:lnTo>
                  <a:pt x="465594" y="116649"/>
                </a:lnTo>
                <a:lnTo>
                  <a:pt x="465594" y="37261"/>
                </a:lnTo>
                <a:lnTo>
                  <a:pt x="468185" y="36296"/>
                </a:lnTo>
                <a:lnTo>
                  <a:pt x="471424" y="34671"/>
                </a:lnTo>
                <a:lnTo>
                  <a:pt x="471424" y="27216"/>
                </a:lnTo>
                <a:close/>
              </a:path>
              <a:path w="659129" h="273685">
                <a:moveTo>
                  <a:pt x="658710" y="153263"/>
                </a:moveTo>
                <a:lnTo>
                  <a:pt x="651891" y="144018"/>
                </a:lnTo>
                <a:lnTo>
                  <a:pt x="646506" y="135229"/>
                </a:lnTo>
                <a:lnTo>
                  <a:pt x="641794" y="125412"/>
                </a:lnTo>
                <a:lnTo>
                  <a:pt x="636993" y="113080"/>
                </a:lnTo>
                <a:lnTo>
                  <a:pt x="618782" y="136906"/>
                </a:lnTo>
                <a:lnTo>
                  <a:pt x="596976" y="160832"/>
                </a:lnTo>
                <a:lnTo>
                  <a:pt x="572020" y="183476"/>
                </a:lnTo>
                <a:lnTo>
                  <a:pt x="544334" y="203479"/>
                </a:lnTo>
                <a:lnTo>
                  <a:pt x="544334" y="33705"/>
                </a:lnTo>
                <a:lnTo>
                  <a:pt x="547243" y="32080"/>
                </a:lnTo>
                <a:lnTo>
                  <a:pt x="550481" y="30784"/>
                </a:lnTo>
                <a:lnTo>
                  <a:pt x="550481" y="24295"/>
                </a:lnTo>
                <a:lnTo>
                  <a:pt x="547890" y="24295"/>
                </a:lnTo>
                <a:lnTo>
                  <a:pt x="544334" y="23977"/>
                </a:lnTo>
                <a:lnTo>
                  <a:pt x="499287" y="21704"/>
                </a:lnTo>
                <a:lnTo>
                  <a:pt x="499173" y="234556"/>
                </a:lnTo>
                <a:lnTo>
                  <a:pt x="498881" y="240906"/>
                </a:lnTo>
                <a:lnTo>
                  <a:pt x="498475" y="247243"/>
                </a:lnTo>
                <a:lnTo>
                  <a:pt x="498005" y="253707"/>
                </a:lnTo>
                <a:lnTo>
                  <a:pt x="527799" y="273138"/>
                </a:lnTo>
                <a:lnTo>
                  <a:pt x="533552" y="268351"/>
                </a:lnTo>
                <a:lnTo>
                  <a:pt x="539991" y="263334"/>
                </a:lnTo>
                <a:lnTo>
                  <a:pt x="549910" y="256006"/>
                </a:lnTo>
                <a:lnTo>
                  <a:pt x="566039" y="244309"/>
                </a:lnTo>
                <a:lnTo>
                  <a:pt x="590359" y="225018"/>
                </a:lnTo>
                <a:lnTo>
                  <a:pt x="613714" y="203479"/>
                </a:lnTo>
                <a:lnTo>
                  <a:pt x="615772" y="201574"/>
                </a:lnTo>
                <a:lnTo>
                  <a:pt x="639483" y="176733"/>
                </a:lnTo>
                <a:lnTo>
                  <a:pt x="658710" y="1532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object 147" descr=""/>
          <p:cNvPicPr/>
          <p:nvPr/>
        </p:nvPicPr>
        <p:blipFill>
          <a:blip r:embed="rId73"/>
          <a:stretch/>
        </p:blipFill>
        <p:spPr>
          <a:xfrm>
            <a:off x="7469280" y="6840360"/>
            <a:ext cx="793800" cy="395640"/>
          </a:xfrm>
          <a:prstGeom prst="rect">
            <a:avLst/>
          </a:prstGeom>
          <a:ln w="0">
            <a:noFill/>
          </a:ln>
        </p:spPr>
      </p:pic>
      <p:pic>
        <p:nvPicPr>
          <p:cNvPr id="187" name="object 148" descr=""/>
          <p:cNvPicPr/>
          <p:nvPr/>
        </p:nvPicPr>
        <p:blipFill>
          <a:blip r:embed="rId74"/>
          <a:stretch/>
        </p:blipFill>
        <p:spPr>
          <a:xfrm>
            <a:off x="2573280" y="6713640"/>
            <a:ext cx="504720" cy="647640"/>
          </a:xfrm>
          <a:prstGeom prst="rect">
            <a:avLst/>
          </a:prstGeom>
          <a:ln w="0">
            <a:noFill/>
          </a:ln>
        </p:spPr>
      </p:pic>
      <p:pic>
        <p:nvPicPr>
          <p:cNvPr id="188" name="object 149" descr=""/>
          <p:cNvPicPr/>
          <p:nvPr/>
        </p:nvPicPr>
        <p:blipFill>
          <a:blip r:embed="rId75"/>
          <a:stretch/>
        </p:blipFill>
        <p:spPr>
          <a:xfrm>
            <a:off x="7469280" y="5991120"/>
            <a:ext cx="793800" cy="395280"/>
          </a:xfrm>
          <a:prstGeom prst="rect">
            <a:avLst/>
          </a:prstGeom>
          <a:ln w="0">
            <a:noFill/>
          </a:ln>
        </p:spPr>
      </p:pic>
      <p:pic>
        <p:nvPicPr>
          <p:cNvPr id="189" name="object 150" descr=""/>
          <p:cNvPicPr/>
          <p:nvPr/>
        </p:nvPicPr>
        <p:blipFill>
          <a:blip r:embed="rId76"/>
          <a:stretch/>
        </p:blipFill>
        <p:spPr>
          <a:xfrm>
            <a:off x="2573280" y="5864400"/>
            <a:ext cx="504720" cy="647640"/>
          </a:xfrm>
          <a:prstGeom prst="rect">
            <a:avLst/>
          </a:prstGeom>
          <a:ln w="0">
            <a:noFill/>
          </a:ln>
        </p:spPr>
      </p:pic>
      <p:pic>
        <p:nvPicPr>
          <p:cNvPr id="190" name="object 151" descr=""/>
          <p:cNvPicPr/>
          <p:nvPr/>
        </p:nvPicPr>
        <p:blipFill>
          <a:blip r:embed="rId77"/>
          <a:stretch/>
        </p:blipFill>
        <p:spPr>
          <a:xfrm>
            <a:off x="7469280" y="5141880"/>
            <a:ext cx="793800" cy="395280"/>
          </a:xfrm>
          <a:prstGeom prst="rect">
            <a:avLst/>
          </a:prstGeom>
          <a:ln w="0">
            <a:noFill/>
          </a:ln>
        </p:spPr>
      </p:pic>
      <p:pic>
        <p:nvPicPr>
          <p:cNvPr id="191" name="object 152" descr=""/>
          <p:cNvPicPr/>
          <p:nvPr/>
        </p:nvPicPr>
        <p:blipFill>
          <a:blip r:embed="rId78"/>
          <a:stretch/>
        </p:blipFill>
        <p:spPr>
          <a:xfrm>
            <a:off x="2573280" y="5037120"/>
            <a:ext cx="504720" cy="647640"/>
          </a:xfrm>
          <a:prstGeom prst="rect">
            <a:avLst/>
          </a:prstGeom>
          <a:ln w="0">
            <a:noFill/>
          </a:ln>
        </p:spPr>
      </p:pic>
      <p:pic>
        <p:nvPicPr>
          <p:cNvPr id="192" name="object 153" descr=""/>
          <p:cNvPicPr/>
          <p:nvPr/>
        </p:nvPicPr>
        <p:blipFill>
          <a:blip r:embed="rId79"/>
          <a:stretch/>
        </p:blipFill>
        <p:spPr>
          <a:xfrm>
            <a:off x="7469280" y="4338720"/>
            <a:ext cx="793800" cy="395280"/>
          </a:xfrm>
          <a:prstGeom prst="rect">
            <a:avLst/>
          </a:prstGeom>
          <a:ln w="0">
            <a:noFill/>
          </a:ln>
        </p:spPr>
      </p:pic>
      <p:pic>
        <p:nvPicPr>
          <p:cNvPr id="193" name="object 154" descr=""/>
          <p:cNvPicPr/>
          <p:nvPr/>
        </p:nvPicPr>
        <p:blipFill>
          <a:blip r:embed="rId80"/>
          <a:stretch/>
        </p:blipFill>
        <p:spPr>
          <a:xfrm>
            <a:off x="2573280" y="4208400"/>
            <a:ext cx="5047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30T10:00:12Z</dcterms:created>
  <dc:creator>A19-205</dc:creator>
  <dc:description/>
  <dc:language>en-US</dc:language>
  <cp:lastModifiedBy>A19-205</cp:lastModifiedBy>
  <dcterms:modified xsi:type="dcterms:W3CDTF">2022-03-30T10:11:46Z</dcterms:modified>
  <cp:revision>1</cp:revision>
  <dc:subject/>
  <dc:title>fsc_dummy_businesscar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2-03-28T00:00:00Z</vt:filetime>
  </property>
  <property fmtid="{D5CDD505-2E9C-101B-9397-08002B2CF9AE}" pid="3" name="Creator">
    <vt:lpwstr>Adobe Illustrator 25.0 (Windows)</vt:lpwstr>
  </property>
  <property fmtid="{D5CDD505-2E9C-101B-9397-08002B2CF9AE}" pid="4" name="LastSaved">
    <vt:filetime>2022-03-30T00:00:00Z</vt:filetime>
  </property>
</Properties>
</file>